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427-2B70-455A-BE44-3C1D9062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A18-7B90-4873-BF75-ECF867AD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7BF-6588-45DB-A7F0-91785085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933-C405-4306-AEA2-0C613261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B728-1311-4C9D-AF85-06719B1C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8C1-EF35-4E21-A588-F6888FE0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48A3-041A-4922-82E9-774FA30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B505-8B24-41D7-8140-06B2C5BA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47B2-9280-42B2-8DE6-03A1DB0D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C2B6-3D57-4D0B-AAC0-2DDCF804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8BA6-5980-41EA-9AC2-8122209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64A-AA78-471D-A67D-1599945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7A68-6FE7-4AE3-B45D-4525778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A33B-A30C-4918-8145-04060805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646D-2D21-431D-A80F-05D1C17C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41EB-4D2E-4A1C-A7F8-3A7ADC95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7908-27A6-461D-8C66-E28DAE46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CD5-180F-4411-B20E-572125FA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3BD-F959-44BA-BFF2-AF4B146E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80C-11E5-4846-8735-77035B4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8BF-390E-42D9-95C5-86FFB62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879-3458-47AA-A56A-D29843F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92B-4C9C-482D-8B7E-78C9601A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07C-F4EB-484B-AB16-C6B9A98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C48-0EA6-4EE8-A1B2-7F323FA520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A36-0EAB-4B78-8201-9D1F15890F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7618" t="2971" r="7116" b="2709"/>
          <a:stretch/>
        </p:blipFill>
        <p:spPr>
          <a:xfrm>
            <a:off x="2771640" y="333360"/>
            <a:ext cx="5545440" cy="465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40320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563" t="4803" r="0" b="10315"/>
          <a:stretch/>
        </p:blipFill>
        <p:spPr>
          <a:xfrm>
            <a:off x="1979640" y="0"/>
            <a:ext cx="566100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76360" y="3860640"/>
            <a:ext cx="6985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ДЗЫВЫЛДАР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05520" y="329400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132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56160" y="404640"/>
            <a:ext cx="45878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ЛÆГАУ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3168720" cy="3166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6153" t="6403" r="14808" b="0"/>
          <a:stretch/>
        </p:blipFill>
        <p:spPr>
          <a:xfrm>
            <a:off x="755640" y="3340080"/>
            <a:ext cx="2305080" cy="22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13479" t="0" r="7829" b="0"/>
          <a:stretch/>
        </p:blipFill>
        <p:spPr>
          <a:xfrm>
            <a:off x="755640" y="549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22218" t="0" r="18544" b="9347"/>
          <a:stretch/>
        </p:blipFill>
        <p:spPr>
          <a:xfrm>
            <a:off x="6877080" y="620640"/>
            <a:ext cx="20145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492360" y="4876920"/>
            <a:ext cx="176688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968720" y="5516640"/>
            <a:ext cx="41752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ФЫДУАГ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743280" cy="4005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3059280" cy="285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блестящие картинки - цветы.gif"/>
          <p:cNvPicPr/>
          <p:nvPr/>
        </p:nvPicPr>
        <p:blipFill>
          <a:blip r:embed="rId3"/>
          <a:stretch/>
        </p:blipFill>
        <p:spPr>
          <a:xfrm rot="4386600">
            <a:off x="2487960" y="3279960"/>
            <a:ext cx="1928880" cy="381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блестящие картинки - цветы.gif"/>
          <p:cNvPicPr/>
          <p:nvPr/>
        </p:nvPicPr>
        <p:blipFill>
          <a:blip r:embed="rId4"/>
          <a:stretch/>
        </p:blipFill>
        <p:spPr>
          <a:xfrm rot="3422400">
            <a:off x="2198880" y="2633040"/>
            <a:ext cx="192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92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66880" y="1192320"/>
            <a:ext cx="3810240" cy="451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80000" y="5157720"/>
            <a:ext cx="4762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ЪОСТА- СЫВÆЛЛÆТТÆ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20836200">
            <a:off x="324000" y="476280"/>
            <a:ext cx="368136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36400">
            <a:off x="4932360" y="475920"/>
            <a:ext cx="3740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5608" t="2324" r="16005" b="35412"/>
          <a:stretch/>
        </p:blipFill>
        <p:spPr>
          <a:xfrm>
            <a:off x="1908000" y="333360"/>
            <a:ext cx="525636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332000" y="4797360"/>
            <a:ext cx="662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ДЗÆБИДЫРДЗУАН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0" b="29357"/>
          <a:stretch/>
        </p:blipFill>
        <p:spPr>
          <a:xfrm rot="20720400">
            <a:off x="1187280" y="2128320"/>
            <a:ext cx="2451240" cy="379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833400">
            <a:off x="5271840" y="1937880"/>
            <a:ext cx="26812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8408" r="9076" b="38032"/>
          <a:stretch/>
        </p:blipFill>
        <p:spPr>
          <a:xfrm>
            <a:off x="0" y="0"/>
            <a:ext cx="4643280" cy="386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12409" t="8646" r="12409" b="29924"/>
          <a:stretch/>
        </p:blipFill>
        <p:spPr>
          <a:xfrm>
            <a:off x="5148360" y="0"/>
            <a:ext cx="3743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6400"/>
          <a:stretch/>
        </p:blipFill>
        <p:spPr>
          <a:xfrm rot="21334200">
            <a:off x="900000" y="1844640"/>
            <a:ext cx="2944800" cy="4495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0" r="21362" b="16429"/>
          <a:stretch/>
        </p:blipFill>
        <p:spPr>
          <a:xfrm rot="494400">
            <a:off x="5219640" y="1989000"/>
            <a:ext cx="3409920" cy="449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8456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578480" cy="4108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92360" y="530064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А-ЛОЛ-ЛАЙ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41720" y="549360"/>
            <a:ext cx="4202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0790600">
            <a:off x="468360" y="33300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386600">
            <a:off x="5506560" y="333000"/>
            <a:ext cx="3314880" cy="3952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411280" y="4508640"/>
            <a:ext cx="4608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СКЪОЛАЙЫ ЛÆППУ»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6:15:02Z</dcterms:created>
  <dc:creator>User</dc:creator>
  <dc:description/>
  <dc:language>en-US</dc:language>
  <cp:lastModifiedBy>User</cp:lastModifiedBy>
  <dcterms:modified xsi:type="dcterms:W3CDTF">2012-04-24T19:33:03Z</dcterms:modified>
  <cp:revision>2</cp:revision>
  <dc:subject/>
  <dc:title>Слайд 1</dc:title>
</cp:coreProperties>
</file>