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B90-93B6-4BD0-968A-CE960422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4B7-61B5-490C-9DFE-083DEED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A04-E7F9-4DDB-BEAD-61B9EE7A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7AB-31F1-4FD3-A0AE-110FC698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4F9-2DAD-4CB9-ADA8-70ADC7D8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059-995B-4761-A49F-7746A55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094-191A-453F-8E66-288BF8E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E1C-666A-447E-B1A6-217B0233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F37-C881-4D5B-AFA8-7DFDB8A2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708-0FAA-46C1-87F6-904789A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671-54E1-4489-BFBF-D94E6123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789-945E-45C3-BAE4-629EB07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3949-E9EA-48AB-AB34-A09B610C0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дж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258920" y="1268280"/>
            <a:ext cx="6985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ОЗА-королева цветов!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319640" y="6021360"/>
            <a:ext cx="482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готовила- учитель трудового обучения: Здориченко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4c0"/>
            </a:gs>
            <a:gs pos="50000">
              <a:srgbClr val="ff00ff"/>
            </a:gs>
            <a:gs pos="100000">
              <a:srgbClr val="fa94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0c6f"/>
                </a:solidFill>
                <a:latin typeface="Arial"/>
              </a:rPr>
              <a:t>Роз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Зелён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Голуб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зов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ёлт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рн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Оранжевы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мсиис"/>
          <p:cNvPicPr/>
          <p:nvPr/>
        </p:nvPicPr>
        <p:blipFill>
          <a:blip r:embed="rId1"/>
          <a:stretch/>
        </p:blipFill>
        <p:spPr>
          <a:xfrm>
            <a:off x="2843280" y="1989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пр"/>
          <p:cNvPicPr/>
          <p:nvPr/>
        </p:nvPicPr>
        <p:blipFill>
          <a:blip r:embed="rId2"/>
          <a:stretch/>
        </p:blipFill>
        <p:spPr>
          <a:xfrm>
            <a:off x="3851280" y="2421000"/>
            <a:ext cx="936720" cy="84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images"/>
          <p:cNvPicPr/>
          <p:nvPr/>
        </p:nvPicPr>
        <p:blipFill>
          <a:blip r:embed="rId3"/>
          <a:stretch/>
        </p:blipFill>
        <p:spPr>
          <a:xfrm>
            <a:off x="2843280" y="3141720"/>
            <a:ext cx="1008000" cy="71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0"/>
          <p:cNvPicPr/>
          <p:nvPr/>
        </p:nvPicPr>
        <p:blipFill>
          <a:blip r:embed="rId4"/>
          <a:stretch/>
        </p:blipFill>
        <p:spPr>
          <a:xfrm>
            <a:off x="3851280" y="3645000"/>
            <a:ext cx="100800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ти  ит"/>
          <p:cNvPicPr/>
          <p:nvPr/>
        </p:nvPicPr>
        <p:blipFill>
          <a:blip r:embed="rId5"/>
          <a:stretch/>
        </p:blipFill>
        <p:spPr>
          <a:xfrm>
            <a:off x="2771640" y="422100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short"/>
          <p:cNvPicPr/>
          <p:nvPr/>
        </p:nvPicPr>
        <p:blipFill>
          <a:blip r:embed="rId6"/>
          <a:stretch/>
        </p:blipFill>
        <p:spPr>
          <a:xfrm>
            <a:off x="3851280" y="1413000"/>
            <a:ext cx="1009800" cy="64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сми"/>
          <p:cNvPicPr/>
          <p:nvPr/>
        </p:nvPicPr>
        <p:blipFill>
          <a:blip r:embed="rId7"/>
          <a:stretch/>
        </p:blipFill>
        <p:spPr>
          <a:xfrm>
            <a:off x="3780000" y="4724280"/>
            <a:ext cx="936360" cy="6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юдл"/>
          <p:cNvPicPr/>
          <p:nvPr/>
        </p:nvPicPr>
        <p:blipFill>
          <a:blip r:embed="rId8"/>
          <a:stretch/>
        </p:blipFill>
        <p:spPr>
          <a:xfrm>
            <a:off x="3276720" y="5373720"/>
            <a:ext cx="100800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и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2195640" y="1916280"/>
            <a:ext cx="45352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от и ВСЁ!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шошгш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35280" y="2133720"/>
            <a:ext cx="60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классическом изображении роза имеет 32 лепестка, отсюда название роза в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 древних римлян роза символизировала тайну. Бытовало выражение, ставшее пословицей — «Sub rosa dictum» («Под розой сказано»), то есть должно сохраняться в секр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оза, распускающаяся на кресте — эмблема розенкрейц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Символика розы зависит от её цвета (алая роза — страсть, жёлтая роза — разлука или измена в любви, белая роза — нежность, и т. п.).Роза — символ войны Алой и Белой розы (1455—1485). Алая роза — символ династии Ланкастеров, а белая — династии Йор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268360" y="836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Роза в истории и символ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916360" y="33336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9640" y="907920"/>
            <a:ext cx="32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1.В парфю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2.В косме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3. В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4. В кулин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5. Во флористическом диза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efault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492360" y="333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В парфюм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24000" y="1341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оза используется в парфюмерии как самостоятельно (розовое масло), так и для создания парфюмерных композиций. Розовое масло (по большей части синтетическое) входит в состав 46 % мужской и 98 % женской парфюмерии. Французские парфюмеры наиболее высоко ценят розы, растущие вблизи города Граса, а также на плантациях Болгарии в Долине Роз около города Казанл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782520" y="4046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В косме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116000" y="1484280"/>
            <a:ext cx="69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Экстракт розы широко применяется в косметических средствах. Он эффективно увлажняет кожу, способствует её регенерации, обладает тонизирующим действием, успокаивает и омолаживает кожу, восстанавливает естественный цвет и упругость кожи, делая её мягкой и неж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мм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636720" y="54936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В медиц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148428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Целебные свойства розы были известны с античных времен. Однако в настоящее время западная медицина мало использует розу, в то время как на Востоке отношение к ней не изменилось. В средние века розой лечили огромное количество заболеваний: нарушения менструального цикла, головную боль, желудочные расстройства, застойные явления в печени, лихорадку (чуму), глазные инфекции и кожные заболе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75px-Rosa_Red_Chateau01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348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cc"/>
                </a:solidFill>
                <a:uFillTx/>
                <a:latin typeface="Arial"/>
              </a:rPr>
              <a:t>В кулин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835280" y="981000"/>
            <a:ext cx="5184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cc"/>
                </a:solidFill>
                <a:latin typeface="Arial"/>
              </a:rPr>
              <a:t>Розы нередко используются в кулинарии в качестве ароматизатора. Также популярно варенье из розовых лепе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тир р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124000" y="692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Во флористическом диза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11280" y="184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cc"/>
                </a:solidFill>
                <a:latin typeface="Arial"/>
              </a:rPr>
              <a:t>Розы являются одними из самых популярных цветов для создания бук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сс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611280" y="1844640"/>
            <a:ext cx="626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При раскопках египетской гробницы II века н. э. в Хавара найден венок из сушёных роз, которые были определены как Rosa ×richar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.Существует стихотворная загадка о розе, составленная свыше 1000 лет назад.Чайная роза получила своё название не за цвет, а за аромат, напоминающий запах свежезаваренного чая.От природы в розах отсутствует ген, производящий синий пи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50160" y="76356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ff"/>
                </a:solidFill>
                <a:uFillTx/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6:03:51Z</dcterms:created>
  <dc:creator>Красновы</dc:creator>
  <dc:description/>
  <dc:language>en-US</dc:language>
  <cp:lastModifiedBy>мама</cp:lastModifiedBy>
  <dcterms:modified xsi:type="dcterms:W3CDTF">2019-12-05T20:08:34Z</dcterms:modified>
  <cp:revision>4</cp:revision>
  <dc:subject/>
  <dc:title>Слайд 1</dc:title>
</cp:coreProperties>
</file>