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6" name=""/>
          <p:cNvSpPr/>
          <p:nvPr/>
        </p:nvSpPr>
        <p:spPr>
          <a:xfrm>
            <a:off x="3884760" y="0"/>
            <a:ext cx="2966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200" spc="-1" strike="noStrike">
                <a:solidFill>
                  <a:srgbClr val="f9f9f9"/>
                </a:solidFill>
                <a:latin typeface="Arial Black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D24BD-C758-4907-A89D-43DACBA0FAF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2630DE88-06A7-4AB2-99B1-68EC5C5E0C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5205A858-EB55-4F48-A7DD-EBAC40F0A3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F6340D31-A523-471E-A700-EE7C9AB9E3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FCF62435-8B18-4621-B39D-10CA090465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39B42B1E-169B-4D58-B0D3-4EC6D39F34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88358590-2815-48E6-99C9-EFC4081A46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6F8119F1-D64B-4A54-9CBD-9C1581C8F7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7C6B4017-7875-419F-AF4C-02D9249D83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814D308A-B9CB-4E8F-B454-953B48D878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FC12F39F-B903-4056-9A4F-F67C7B7321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B234E762-E7EB-41CF-A363-B108DB2EC9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C4D0A79D-79D3-418C-9D8E-6D4B9B0293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61A11490-A200-46F1-861E-34E1CB8555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41EA11B2-8936-4687-BB11-A5B937B3C6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598A7AE4-61C8-41E0-825D-925A858498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8528155A-3F88-4662-BC98-0A98AE4FDB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C1EE88E5-1C1F-4AA5-9D22-E480704C9E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9A22BC57-9676-415B-9EDD-4973708CAB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552693A5-A6FC-4803-B2C0-3FAB8283F4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A8DE0BCC-8999-431E-AFC9-F35D09E153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3ED0-36CA-4F09-9D28-276FC6D672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EAC08-391E-4952-B479-A1349588F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4E237-E202-4C0A-B31B-3E9B41CC16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2652-10C1-4AE1-B499-91F1EFFCC8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3B6EE-40AB-4B68-9D38-F82E791DD0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5594F-3BBE-452D-8B21-33A34D6664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921D9-6113-4EAF-8A20-878203433D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DC564-DA89-4268-B2F9-97A394ACE1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EB259-EC0E-4E42-89E8-5D170A91B2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3120" cy="56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D7942-0F3A-4E5A-A312-F1B2EE6160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AE59F-0AB9-4837-A51E-EA9896E84D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DE8FF-E327-4858-B5F6-E88B04A953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39FE5-53A3-477A-B138-8E7B392A9C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D0E45-DA41-4071-B89D-F3BF53A4AF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44588-27BF-4FD0-8EAF-3808D1E0B1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07DF6-D404-4230-8026-72DCD86FB7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748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748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776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D45E5-0707-4C32-B8F6-4136657F3E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1937-7062-44DF-A17C-9F49A59050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D7A0-BFD3-4544-A1AE-00D46F4E3D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E04C-548E-4D37-9402-806372101E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ED47-F761-4A11-AF67-59B70421A1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821A-CB1A-4635-9D9A-0450135E9D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6D92-1207-4F02-9B30-38BBAEC407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3120" cy="56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4E89-E549-47E7-9DB3-F44F44BFC9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1F28-E88F-403E-8B65-90996683D7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03C4-FA19-4546-BDDE-5843E72BC0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81B1-96CB-4E3F-B1B1-DEF010B3E3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8966-3F6F-4B45-8285-EC0D31B4EA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F494-6E2E-4271-A8BD-D856F2F8C0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748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748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1776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C490-E117-48FE-B058-2A455FAC7D5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3B4B0-FB32-471E-A5DE-4BC430BA41F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BEFBC-3EDB-4CB9-B937-BE68FD20461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494B2-91AD-4451-96C7-7446C417E3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2BB78-DA02-46A9-85B5-75BD2B3AE14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FEAE7-A109-4985-AF6E-A0AF94E5EA3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2EC98-3C85-4465-837E-B5132C80C6D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3120" cy="56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4E705-2D49-488A-A587-3CD9E419E6E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0B046-3863-4B60-A431-87D2A85904F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403BF-97A1-4C16-B9F3-3571DCAA432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E2716-87C2-4F46-846A-212B25034BC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837D6-C356-41CC-BBD3-C3C0FF6685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03D5D-2737-4475-8EA6-8DC7FABC8FE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748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748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1776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56467-8590-462A-B05B-210DC53E3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7CA0-C642-4A46-9563-1A022ABD2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3120" cy="56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A7C46-501C-4507-BF6D-484B230EA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E1FB4-2A80-489D-AD09-255BB566C8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F0A7-22B4-4BFD-9BC0-5E7C5B5A1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24108-A83E-4520-9B7A-A3DB147F2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791320" y="6203880"/>
            <a:ext cx="25858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8410320" y="6181200"/>
            <a:ext cx="603000" cy="4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D91A4-8C25-4547-91FE-BA095A31AA88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 Black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cap="sq" w="9360">
            <a:solidFill>
              <a:srgbClr val="f2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cap="sq" w="9360">
            <a:solidFill>
              <a:srgbClr val="f2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5eccf3"/>
          </a:solidFill>
          <a:ln cap="sq" w="38160">
            <a:solidFill>
              <a:srgbClr val="5eccf3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 Black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6203880"/>
            <a:ext cx="25858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8410320" y="6181200"/>
            <a:ext cx="6030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600" spc="-1" strike="noStrike">
                <a:solidFill>
                  <a:srgbClr val="212745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DFEED-147F-4089-B98F-25723B624043}" type="slidenum">
              <a:rPr b="0" lang="ru-RU" sz="1600" spc="-1" strike="noStrike">
                <a:solidFill>
                  <a:srgbClr val="212745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cap="sq"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 Black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6203880"/>
            <a:ext cx="25858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8410320" y="6181200"/>
            <a:ext cx="603000" cy="4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600" spc="-1" strike="noStrike">
                <a:solidFill>
                  <a:srgbClr val="212745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5A86C-10B3-418D-A279-3685F3FAC6FE}" type="slidenum">
              <a:rPr b="0" lang="ru-RU" sz="1600" spc="-1" strike="noStrike">
                <a:solidFill>
                  <a:srgbClr val="212745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cap="sq" w="12600">
            <a:solidFill>
              <a:srgbClr val="f2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8" name="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cap="sq" w="12600">
            <a:solidFill>
              <a:srgbClr val="f2f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31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 Black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 Blac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8410320" y="6181200"/>
            <a:ext cx="6030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600" spc="-1" strike="noStrike">
                <a:solidFill>
                  <a:srgbClr val="212745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5D06F-ADB1-447B-933D-C1A9619ABDF6}" type="slidenum">
              <a:rPr b="0" lang="ru-RU" sz="1600" spc="-1" strike="noStrike">
                <a:solidFill>
                  <a:srgbClr val="212745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"/>
          <p:cNvSpPr/>
          <p:nvPr/>
        </p:nvSpPr>
        <p:spPr>
          <a:xfrm>
            <a:off x="5791320" y="6203880"/>
            <a:ext cx="25858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yandex.ru/images/" TargetMode="External"/><Relationship Id="rId3" Type="http://schemas.openxmlformats.org/officeDocument/2006/relationships/hyperlink" Target="https://www.syl.ru/article/212893/new_klassifikatsiya-i-vidyi-bumagi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140360" y="3933720"/>
            <a:ext cx="46227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Автор: </a:t>
            </a: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Балабанов Алексей 3 «А» класс</a:t>
            </a: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Руководитель:</a:t>
            </a: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Мичкова Александра Александровна</a:t>
            </a: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Учитель начальных классов ВКК</a:t>
            </a: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2" name=""/>
          <p:cNvSpPr/>
          <p:nvPr/>
        </p:nvSpPr>
        <p:spPr>
          <a:xfrm>
            <a:off x="863640" y="206280"/>
            <a:ext cx="705636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Муниципальное бюджетное общеобразовательное учреждение 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Дзержинского района города Новосибирска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«СРЕДНЯЯ ОБЩЕОБРАЗОВАТЕЛЬНАЯ ШКОЛА №111»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_______________________________________________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630015 г.Новосибирск –15, ул.Промышленная 1/1 тел./факс 279-05-64, 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E-mail: sch_111_nsk@.ru              ИНН 5401141858 КПП 540101001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Мое первое открытие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Бумага в нашей жизн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4360" y="71280"/>
            <a:ext cx="6191280" cy="65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ndara"/>
              </a:rPr>
              <a:t>Какие виды бумаги существуют, кроме вышеупомянутых?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Существует бумага с защитой от подделок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с водяными знаками для печатания денег, акций или других важных документов, которые необходимо защитить. 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Бумага самокопирующаяся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для заполнения бланков, когда необходимо создать копию листа. Согласитесь, гораздо удобнее, чем переписывать один и тот же текст несколько раз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Бумага самоклеящаяся.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Стикеры на холодильник, наклейки с акциями, прочие бумаги, у которых с одной стороны есть клеящийся слой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335640" y="431640"/>
            <a:ext cx="2467080" cy="1584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6696000" y="4392720"/>
            <a:ext cx="2016360" cy="2087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6335640" y="2303640"/>
            <a:ext cx="248940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621400" y="2068560"/>
            <a:ext cx="3090960" cy="21160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503280" y="4494240"/>
            <a:ext cx="3095640" cy="19857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5302080" y="4392720"/>
            <a:ext cx="3337200" cy="2057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60360" y="287280"/>
            <a:ext cx="864072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умага в жизни людей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ществует более 600 видов бумаги разного предназначения и более 100 видов картона. Мы с ребятами собрали свою коллекцию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360360" y="2112840"/>
            <a:ext cx="3240000" cy="2206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31640" y="216000"/>
            <a:ext cx="828072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ndara"/>
              </a:rPr>
              <a:t>Зачем перерабатывать бумагу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Чтоб произвести бумагу надо вырубить множество деревьев, которые росли долгие годы. А посадить новое дерево и вырастить – это большие затраты и усилия. К тому же, чтоб вырастить хорошее дерево нужно в среднем ждать 50 лет. Массовая вырубка насаждений приведет к большим негативным последствиям. 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016000" y="3672000"/>
            <a:ext cx="525636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84360" y="360360"/>
            <a:ext cx="7738920" cy="6191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152280"/>
            <a:ext cx="822492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  <a:ea typeface="Droid Sans Fallback"/>
              </a:rPr>
              <a:t>Данные по количеству собранной макулатуры в школе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050920" y="1413000"/>
            <a:ext cx="4824720" cy="5289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16000" y="216000"/>
            <a:ext cx="88567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войства бумаг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изучения свойств бумаги я провел несколько опытов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30120" y="1314360"/>
            <a:ext cx="8382240" cy="1420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330120" y="2658960"/>
            <a:ext cx="4133880" cy="31003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4602240" y="3456000"/>
            <a:ext cx="4110120" cy="3083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57200" y="92160"/>
            <a:ext cx="8229600" cy="1511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040360" y="4334040"/>
            <a:ext cx="3382920" cy="22888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720720" y="1800360"/>
            <a:ext cx="3889440" cy="2916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5040360" y="1628640"/>
            <a:ext cx="3289320" cy="2351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26960" y="-316080"/>
            <a:ext cx="8461440" cy="1944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179280" y="1341360"/>
            <a:ext cx="3097440" cy="2239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2627280" y="2349360"/>
            <a:ext cx="3981600" cy="2735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5580000" y="4221000"/>
            <a:ext cx="3422880" cy="2359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6000" y="216000"/>
            <a:ext cx="885672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 ходе опытов я выяснил следующие свойства бумаг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нётся, рвётся, промокает, загорается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11280" y="1413000"/>
            <a:ext cx="792144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узнал историю происхождения и появления бумаги, как раньше люди использовали её. Познакомился с технологией изготовления бумаги. 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ыяснил, что бумагу раньше делали из разных материалов, а в наше время чаще всего бумагу делают из деревьев. И убедился в том, что нужно сдавать макулатуру, для сохранности нашей природы. 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Calibri"/>
              </a:rPr>
              <a:t>Я определил некоторые свойства бумаги в своих опытах. И могу с уверенностью сказать, что бумагу можно мять, рвать, она горит, и промокает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Наша гипотеза, о том, что  «Сможет ли человек прожить без бумаги?» не подтвердилась. Бумага очень важна для человечества, все документы делают из бумаги, деньги, образование мы так же получает с помощью тетрадей, учебников, которые сделаны из бумаги. Человек ежедневно сталкивается с бумагой.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-93600" y="144360"/>
            <a:ext cx="822960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28800" y="453960"/>
            <a:ext cx="7062840" cy="36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Актуальность темы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Хорошая бумага заставляет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умать о хороших вещах»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понская пословица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Бумага – крылья, на которых 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носятся по миру мысли мудрецов»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ишер Навои 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31640" y="453960"/>
            <a:ext cx="8496360" cy="49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сточники информац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https://ru.wikipedia.org/wiki/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Бумага писчая // Энциклопедический словарь Брокгауза и Ефрона : в 86 т. (82 т. и 4 доп.). — СПб., 1890—1907.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Мао Цзо-бэнь. Это изобретено в Китае / Перевод с китайского и примечания А. Клышко. — М.: Молодая гвардия, 1959.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Г. Б. Шишкина. Бумага как эстетический феномен японской культуры // Научные сообщения Государственного музея Востока. Вып. XXVI. — М., 2006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Б. Байер, У. Бирштайн и др. История человечества, 2002. ISBN 5-17-012785-5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s://yandex.ru/images/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)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s://www.syl.ru/article/212893/new_klassifikatsiya-i-vidyi-bumagi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)http://mirznanii.com/a/141370/bumaga-ee-vidy-i-osnovnye-svoystva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77720" y="1773360"/>
            <a:ext cx="82184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8200" indent="-266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268200" indent="-266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16000" y="503280"/>
            <a:ext cx="7999200" cy="63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Цель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ить роль бумаги в жизни человека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адачи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Найти материал, содержащий сведения об истории изобретения бумаги, ее свойствах;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Исследовать, как используется бумага в настоящее время;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Узнать, зачем перерабатывать использованную старую бумагу;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Изучить сведения для чего нужно собирать и перерабатывать макулатуру;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Выяснить данные по количеству собранной макулатуры в школе;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Провести опыты для определения свойств бумаги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36720" y="417600"/>
            <a:ext cx="7062840" cy="55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Гипотез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может ли человек прожить без бумаги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МЕТОДЫ ИССЛЕДОВАНИЯ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Информационно-поисковый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Исследовательский      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Аналитический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55640" y="487440"/>
            <a:ext cx="8218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8200" indent="-266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268200" indent="-266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"/>
          <p:cNvSpPr/>
          <p:nvPr/>
        </p:nvSpPr>
        <p:spPr>
          <a:xfrm>
            <a:off x="287280" y="1079640"/>
            <a:ext cx="684072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Бума́га (предположительно от итал. bombagia &lt; лат. bombacium ‘хлопок’, первоисточником же считается иранский) — волокнистый материал с минеральными добавками. Представлен в виде листов для письма, рисования, упаковки и прочего, получаемый из целлюлозы: растений, а также вторсырья (тряпья и макулатуры)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До Цай Луня в Китае делали бумагоподобный материал из бамбука, из пеньки, а ещё раньше — из шёлка, который изготавливали из бракованных коконов шелкопряда. Древними индусами обнаружен естественный процесс образования листа бумагоподобного материала в луже воды после дождя из отходов жизнедеятельности крупных травоядных животных, например слонов. Фабрики, выпускающие такую бумагу, существуют в Индии и Таиланде до сих пор.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«Классическая» бумага, с проклейкой в массе, создана Цай Лунем в 105 году н. э. Он в Китае был объявлен божеством.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84280" y="0"/>
            <a:ext cx="8229600" cy="1096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7128000" y="4319640"/>
            <a:ext cx="1658880" cy="2087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7128000" y="1273320"/>
            <a:ext cx="1728720" cy="2541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55640" y="487440"/>
            <a:ext cx="8218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8200" indent="-266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268200" indent="-266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"/>
          <p:cNvSpPr/>
          <p:nvPr/>
        </p:nvSpPr>
        <p:spPr>
          <a:xfrm>
            <a:off x="287280" y="1079640"/>
            <a:ext cx="504036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Хронология событий: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105 — изобретение бумаги из хлопка Цай Лунем в Китае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600 — проникновение бумаги в Корею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625 — проникновение бумаги в Японию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751 — Таласская битва — проникновение бумаги на Запад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коло 800 — Визирь халифа Харуна ар-Рашида Джафар ибн Яхья построил в Багдаде первую бумажную мельницу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ранее 1100 — производство бумаги завезено в Испанию маврами, появляется бумажная мельница в Хативе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1238 — бумажная фабрика в Испании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В России выработка бумаги ручным способом была налажена в 1560-е годы. 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42880" y="0"/>
            <a:ext cx="822960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42880" y="0"/>
            <a:ext cx="8229600" cy="1079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71600" y="907920"/>
            <a:ext cx="5688000" cy="58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коло 1770 — английский бумажный фабрикант Дж. Ватман-старший ввёл новую бумажную форму, позволявшую получать листы бумаги без следов сетки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1799 — патент на изобретение бумагоделательной машины (Луи-Николя Робер)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1803 — установка бумагоделательной машины в Великобритании (Брайен Донкин)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1806 — патент на изобретение копировальной бумаги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1816 — первые бумагоделательные машины в России (Петергофская бумажная фабрика)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1827 — бумагоделательные машины в США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1856 — изобретение гофрированного картона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1857 — технология получения бумаги из древесины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1884 — начало производства туалетной бумаги в виде рулонов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44360" y="144360"/>
            <a:ext cx="8699760" cy="56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ndara"/>
              </a:rPr>
              <a:t>Основные виды бумаги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Офсетная бумага.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 Ее применяют в случаях, когда нужно печатать документы или журналы, книги, которые могут содержать обычный текст и несложные иллюстрации. У данного вида бывает разная плотность, что влияет на цену: чем плотнее бумага, тем она будет качественнее, прочнее и дороже. 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Газетная бумага.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 Не обладает белым ярким цветом, наоборот – она откровенно серая. Высокая плотность – явно не ее конек, что, соответственно, влечет за собой малый срок службы. 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Бумага мелованная.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Высокое качество создается при помощи специального покрытия, благодаря чему яркие краски и внешний вид конечного продукта заставляют только восхищаться. Такая бумага используется для изготовления презентационных каталогов, открыток и буклетов, возможно, даже рекламных каталогов – всех документов и изделий, где важно передать яркую, сочную, красивую картинку. 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16000" y="184320"/>
            <a:ext cx="590364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Офисная бумага.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 Любой студент, работник социальной службы или другого заведения знаком с этим видом, чаще всего в формате A4. Он может обладать разной плотностью, что также в первую очередь влияет на ценообразование. Для работы лучше всего подходит плотность 80 грамм на метр квадратный. Бумага такой плотности имеет продолжительный срок службы, ее легче восстановить после механических воздействий – она не будет идеально гладкой, но если положить под пресс на несколько дней, то вполне способна выровняться. Кроме того, и стойкость к механическим повреждениям гораздо выше, чем у газетной бумаги, но не такая высокая, как у офсетной. 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Упаковочная бумага.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Из названия становится ясно, для каких целей она используется. Ее главное преимущество – это высокая прочность. 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048360" y="4608360"/>
            <a:ext cx="3024360" cy="2087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119640" y="287280"/>
            <a:ext cx="288000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8T11:26:49Z</dcterms:created>
  <dc:creator>Шума</dc:creator>
  <dc:description/>
  <dc:language>en-US</dc:language>
  <cp:lastModifiedBy/>
  <dcterms:modified xsi:type="dcterms:W3CDTF">2019-12-06T12:37:08Z</dcterms:modified>
  <cp:revision>40</cp:revision>
  <dc:subject/>
  <dc:title>Презентация PowerPoint</dc:title>
</cp:coreProperties>
</file>