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C319-92C1-47B5-9A79-1B305D7BA18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Основной одеждой женщин была длинная сорочка. Поверх сорочки надевали сарафан. (Слайд 9) Для тепла поверх сарафана надевали душегрею. (Слайд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Ребята, как вы думаете, как образовалось это слов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тветы детей (Душу гре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Это короткая, чуть ниже талии очень широкая сборчатая одежда на лям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: Более длинной одеждой, согревающей не только душу, но и тело было… Как бы вы называли такую одежд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детей: (Телогрея). (Слайд 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Ребята, тема нашего сегодняшнего занятия «История русского костюма» Давайте, воспользуемся машиной времени и заглянем в прошлое, чтобы узнать, как одевались русские люди в стар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Как вы думаете, когда человек начал носить одежд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тветы детей: (Очень давн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Правильно, это произошло очень давно, но одежда служила для защиты от холода и жары. Постепенно одежда стала приобретать все большее значение в жизн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: Люди с разным достатком одевались по-разному. Те, что победнее, одежду делали из материала изготовленными городскими ремесленниками, или домотканою-изготовленную дома, в домашних условиях на станке. Ткани иногда окрашивали целиком, иногда наносили узор. Такая ткань называлась набой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спитатель: Главными частями мужской одежды были рубаха и порты. Рубаху делали длинной и подпоясыв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верх рубахи и портов надевали верхнюю одежду, например кафт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ужской головной убор того времени - колпак, это была высокая, остроконечная, обшитая по краю мехом, ша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новной одеждой женщин была длинная сорочка. Поверх сорочки надевали сараф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8ED-498B-4146-AC80-790D931F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4CC-7AA7-44A9-981E-FCD01FC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2C4-ECEC-4E35-9863-DADC6750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406-7E48-499E-A5A5-DA9AE1B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941A-9102-44FD-A880-46626D70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BB69-714A-4E7C-A04E-58FD84F6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A917-42DD-410E-A385-BC1E85C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320-4281-4F96-9AC3-C5BD8D0D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C3EF-ED97-4B84-B34F-774C3C12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379-C707-417C-BEB8-0AF9E4F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5A40-F853-4CF0-8D1B-A5E4EA5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47E-39E0-4EF6-A3E6-17F66D6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1203-6552-4796-B715-A2FC4E35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2ADB-950D-4068-98AC-0EE771E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426-D9F8-4EBB-8193-A9F44EE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1797-3924-4CB3-A67E-5764922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D8E1-0C83-425B-8399-890A3276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42C6-079F-4BEC-926F-4D52B4A4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6CFA-8352-46F7-AE97-46A2940A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AE23-358B-4A12-BDC2-C8A8DBC4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B7A4-578C-401B-A445-6F315625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FBFA-D146-473A-B8D7-A03A7032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1B3-2169-4471-8C84-0EE60C42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BF22-7061-4FB4-ABEB-D2A045E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A6F4-DD20-4857-9004-24197F4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7834-C09A-437D-BFA6-015D62A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13C0-03A8-4D87-9800-913D39C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8477-E857-4DD4-95C4-3071B852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6893-3EE2-4808-83B0-A93F53EF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38CA-A383-4591-9FB8-2E04E90F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D345-E511-441E-BC34-104BEC94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B67B-1FDF-4E60-AAED-2C25E2EC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A2A6-47D2-4E6A-9F16-3F927637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421-C4FC-42C0-A421-97E67AA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34B4-0BE9-4408-9645-EF0246CA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E5EB-011F-48D0-B881-55B5E20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93F3-E69C-4001-838A-D4AF356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F4E0-1979-468B-876C-6B2478A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3EBD-B2F2-42FF-BA70-0311BCFF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F24E-1C45-47AC-839E-3C0FE443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81F4-8635-4E9D-956E-409F04A9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C9CC-3C25-4734-B4B2-3385B38E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D0F1-C041-4E44-98EC-E935D59E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E96B-E28B-48DE-AC0A-0381B34D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C42-445A-4A83-A6AB-DEBD9109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B0313-69D7-46F2-81E4-9E0C008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F633-9242-4081-B572-0FAC8FE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87F5-6EE0-4A6B-A511-35F06F55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D571-F14E-49E7-913A-E3F94891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8359-E38E-47C9-B739-EF87E1DE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2044F-3303-4CDA-BA99-BD0D3D9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B792-E43A-466B-9469-747EF46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A7DED-A026-4C3E-9979-D9C902E9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B67B-D9FD-41F5-8DC5-9CB28B8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1D12-39DC-4CCD-9121-E0B475C3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132-78ED-4AF8-AA43-91CB27B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3850-0566-4066-BB24-6528101A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C419-225E-42EB-A691-1EDC3B30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2878-D88C-45DF-AF78-0E6E1E8B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CB2F6-2764-4EE5-8B50-AE93DAE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383D-1919-4393-8FA2-083887A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027F-8CEC-425B-B12E-4732162B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77D05-AC8B-4296-AF14-D1B8D78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2466-CF57-4A49-A54E-0274C47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B3F9-ABF8-42A5-844A-A1BB622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47F2-C89C-44D8-8947-1F63F50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C31-75B2-458E-87FF-2A54296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7459-5223-4C5B-831F-9D30ACCF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6B85-6792-4CAF-8C70-F7275FA6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5AE7-FBFF-48C0-B9EE-7816A040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6D5C7-9A3E-48B7-BA85-D84D410E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50BE2-E439-4D8B-95EF-52D31BDF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93C8-6FD8-42A8-B50B-C402D257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866F-89E2-481E-AB8D-C4BA4E79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15E0-472D-4D36-8C50-4EBFA671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29BF9-DB08-415C-A8AD-B69AF41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8A9A-6BF6-4D03-ABF3-4A13E5B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528-F63A-48DD-8154-050CB33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9BEDA-8186-4323-8F16-196262AE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8486-B070-4FEC-82FF-2B76916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7718C-A287-4454-94AD-4627526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59E27-424E-4952-9CD5-5BF14F9B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D917-56FA-4A81-BCBC-E06BB357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B23-6742-4D01-93F6-C253B81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770B-D3FF-48F5-BAE3-CA2B4058F74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44B-DA7E-4E97-A8AC-7C4FB559D97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081F-5CD7-4192-8661-EB422B5E061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25B-8A8E-49E4-AA49-B00CF07CE27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EABA-7C3E-41F1-8320-4B4C12DFCDC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3ED-2941-4C78-9422-D4D55793386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1B4-4AD5-4A6D-9A95-D87F25E32CD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187280" y="333000"/>
            <a:ext cx="7715520" cy="59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дошкольное образовательное учреждение детский сад №71 общеразвивающего вида с приоритетным осуществлением деятельности по физическому развитию детей Калинин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тему «История русского костюм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5" descr="1408522090_russian-beauty-22.jpg"/>
          <p:cNvPicPr/>
          <p:nvPr/>
        </p:nvPicPr>
        <p:blipFill>
          <a:blip r:embed="rId2"/>
          <a:stretch/>
        </p:blipFill>
        <p:spPr>
          <a:xfrm>
            <a:off x="1619280" y="2565360"/>
            <a:ext cx="302400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7" name=""/>
          <p:cNvSpPr/>
          <p:nvPr/>
        </p:nvSpPr>
        <p:spPr>
          <a:xfrm>
            <a:off x="4859280" y="5445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: Семма А. 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3" descr="sxDbZRtbCss.jpg"/>
          <p:cNvPicPr/>
          <p:nvPr/>
        </p:nvPicPr>
        <p:blipFill>
          <a:blip r:embed="rId2"/>
          <a:stretch/>
        </p:blipFill>
        <p:spPr>
          <a:xfrm>
            <a:off x="2340000" y="1125360"/>
            <a:ext cx="5472000" cy="521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45" name=""/>
          <p:cNvSpPr/>
          <p:nvPr/>
        </p:nvSpPr>
        <p:spPr>
          <a:xfrm>
            <a:off x="2627280" y="333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ушегре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3" descr="pHXwaMUuVhQ.jpg"/>
          <p:cNvPicPr/>
          <p:nvPr/>
        </p:nvPicPr>
        <p:blipFill>
          <a:blip r:embed="rId2"/>
          <a:stretch/>
        </p:blipFill>
        <p:spPr>
          <a:xfrm>
            <a:off x="1476360" y="260280"/>
            <a:ext cx="2960640" cy="5803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932360" y="40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логре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3" descr="ioRskqCJsac.jpg"/>
          <p:cNvPicPr/>
          <p:nvPr/>
        </p:nvPicPr>
        <p:blipFill>
          <a:blip r:embed="rId2"/>
          <a:stretch/>
        </p:blipFill>
        <p:spPr>
          <a:xfrm>
            <a:off x="2124000" y="836640"/>
            <a:ext cx="5803920" cy="5803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835280" y="26028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крашения: кокошник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slavyan_2.gif"/>
          <p:cNvPicPr/>
          <p:nvPr/>
        </p:nvPicPr>
        <p:blipFill>
          <a:blip r:embed="rId2"/>
          <a:stretch/>
        </p:blipFill>
        <p:spPr>
          <a:xfrm>
            <a:off x="1476360" y="1916280"/>
            <a:ext cx="7199280" cy="345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51" name=""/>
          <p:cNvSpPr/>
          <p:nvPr/>
        </p:nvSpPr>
        <p:spPr>
          <a:xfrm>
            <a:off x="1619280" y="476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крашения: грив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3" descr="otzi.jpg"/>
          <p:cNvPicPr/>
          <p:nvPr/>
        </p:nvPicPr>
        <p:blipFill>
          <a:blip r:embed="rId2"/>
          <a:stretch/>
        </p:blipFill>
        <p:spPr>
          <a:xfrm>
            <a:off x="4500720" y="907920"/>
            <a:ext cx="3595680" cy="511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9" name=""/>
          <p:cNvSpPr/>
          <p:nvPr/>
        </p:nvSpPr>
        <p:spPr>
          <a:xfrm>
            <a:off x="1403280" y="260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стюм древнего челове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3" descr="WEyM7d4dvOA.jpg"/>
          <p:cNvPicPr/>
          <p:nvPr/>
        </p:nvPicPr>
        <p:blipFill>
          <a:blip r:embed="rId2"/>
          <a:stretch/>
        </p:blipFill>
        <p:spPr>
          <a:xfrm>
            <a:off x="1332000" y="1989000"/>
            <a:ext cx="3149640" cy="3149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krl9Qkmr3bQ.jpg"/>
          <p:cNvPicPr/>
          <p:nvPr/>
        </p:nvPicPr>
        <p:blipFill>
          <a:blip r:embed="rId3"/>
          <a:stretch/>
        </p:blipFill>
        <p:spPr>
          <a:xfrm>
            <a:off x="5148360" y="476280"/>
            <a:ext cx="3490920" cy="5740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187280" y="40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бойная тка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3" descr="FnntsdetuRc.jpg"/>
          <p:cNvPicPr/>
          <p:nvPr/>
        </p:nvPicPr>
        <p:blipFill>
          <a:blip r:embed="rId2"/>
          <a:stretch/>
        </p:blipFill>
        <p:spPr>
          <a:xfrm>
            <a:off x="1403280" y="1125360"/>
            <a:ext cx="243864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4" name="Рисунок 4" descr="lKMvh_MJ1-w.jpg"/>
          <p:cNvPicPr/>
          <p:nvPr/>
        </p:nvPicPr>
        <p:blipFill>
          <a:blip r:embed="rId3"/>
          <a:stretch/>
        </p:blipFill>
        <p:spPr>
          <a:xfrm>
            <a:off x="4427640" y="1773360"/>
            <a:ext cx="436248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5" name=""/>
          <p:cNvSpPr/>
          <p:nvPr/>
        </p:nvSpPr>
        <p:spPr>
          <a:xfrm>
            <a:off x="1332000" y="40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ужская одежда: рубаха и пор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3" descr="jB8iroghYXk.jpg"/>
          <p:cNvPicPr/>
          <p:nvPr/>
        </p:nvPicPr>
        <p:blipFill>
          <a:blip r:embed="rId2"/>
          <a:stretch/>
        </p:blipFill>
        <p:spPr>
          <a:xfrm>
            <a:off x="4211640" y="404640"/>
            <a:ext cx="4619520" cy="5715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55640" y="33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фт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3" descr="lj3RP2LDWGs.jpg"/>
          <p:cNvPicPr/>
          <p:nvPr/>
        </p:nvPicPr>
        <p:blipFill>
          <a:blip r:embed="rId1"/>
          <a:stretch/>
        </p:blipFill>
        <p:spPr>
          <a:xfrm>
            <a:off x="3132000" y="333360"/>
            <a:ext cx="4029120" cy="600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pull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3" descr="mGBKiU7Clw4.jpg"/>
          <p:cNvPicPr/>
          <p:nvPr/>
        </p:nvPicPr>
        <p:blipFill>
          <a:blip r:embed="rId1"/>
          <a:stretch/>
        </p:blipFill>
        <p:spPr>
          <a:xfrm>
            <a:off x="2556000" y="260280"/>
            <a:ext cx="4483080" cy="60548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3" descr="sapki3.jpg"/>
          <p:cNvPicPr/>
          <p:nvPr/>
        </p:nvPicPr>
        <p:blipFill>
          <a:blip r:embed="rId2"/>
          <a:stretch/>
        </p:blipFill>
        <p:spPr>
          <a:xfrm>
            <a:off x="3564000" y="476280"/>
            <a:ext cx="5292720" cy="515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41" name=""/>
          <p:cNvSpPr/>
          <p:nvPr/>
        </p:nvSpPr>
        <p:spPr>
          <a:xfrm>
            <a:off x="971640" y="5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Шап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3" descr="eDLqFIPzNdM.jpg"/>
          <p:cNvPicPr/>
          <p:nvPr/>
        </p:nvPicPr>
        <p:blipFill>
          <a:blip r:embed="rId2"/>
          <a:stretch/>
        </p:blipFill>
        <p:spPr>
          <a:xfrm>
            <a:off x="1835280" y="1125360"/>
            <a:ext cx="6511680" cy="5118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987640" y="260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енская одежда: сарафа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1T15:00:34Z</dcterms:created>
  <dc:creator>Люська</dc:creator>
  <dc:description/>
  <dc:language>en-US</dc:language>
  <cp:lastModifiedBy>Тарантул))))</cp:lastModifiedBy>
  <dcterms:modified xsi:type="dcterms:W3CDTF">2015-07-28T16:20:19Z</dcterms:modified>
  <cp:revision>9</cp:revision>
  <dc:subject/>
  <dc:title>Слайд 1</dc:title>
</cp:coreProperties>
</file>