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AD8-D86C-4529-8065-64431151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65B-A0C2-4547-AE73-4403C8C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60E-5691-4B7F-BBC4-DC9CE9E0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62B-412F-4B5C-8A29-1489DB38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6F7B-C607-4765-A0D4-79C92230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B085-8FC3-4730-AAEC-B3E3BFFC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1A6-0D22-450F-BB17-CC6946D9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3382-2070-4CDB-9D57-86BA8663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CCD-7704-40B2-9B3F-3EA63091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98EB-1BA4-4E8B-B267-B6FB1A9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1C89-8A50-47F3-BEB4-72CD84C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BBF-2F38-4BB6-A22B-0C29F70F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FCB9-8FD7-489A-94DE-A818C06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1FF0-F79A-4E1B-BA46-A5E0306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7094-AFB1-469D-8265-3443D74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BF59-ACDD-483F-BD2D-94D8DC05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D10-964E-4F45-AB2B-075500FB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779-30C0-437B-9F9A-B82F93F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048-FDC5-4077-A4F6-9F740020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7D4-5866-4E1F-9B09-DEE2454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772-9828-4257-BF64-757EF5A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2E1-9A71-4AF7-8736-443AD96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D9F-19E9-4E2A-8B41-14A2BD6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AE6-7B7B-4D19-B39C-5306B07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4CD-8704-407F-8514-7471CB6121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648-035C-4D7C-A974-987A0460B5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С ДНЕМ МАМЫ"/>
          <p:cNvPicPr/>
          <p:nvPr/>
        </p:nvPicPr>
        <p:blipFill>
          <a:blip r:embed="rId1"/>
          <a:stretch/>
        </p:blipFill>
        <p:spPr>
          <a:xfrm>
            <a:off x="684360" y="333360"/>
            <a:ext cx="8208720" cy="5865840"/>
          </a:xfrm>
          <a:prstGeom prst="rect">
            <a:avLst/>
          </a:prstGeom>
          <a:ln w="0">
            <a:noFill/>
          </a:ln>
        </p:spPr>
      </p:pic>
      <p:pic>
        <p:nvPicPr>
          <p:cNvPr id="117" name="танец с мамами.mp3" descr=""/>
          <p:cNvPicPr/>
          <p:nvPr/>
        </p:nvPicPr>
        <p:blipFill>
          <a:blip r:embed="rId2"/>
          <a:stretch/>
        </p:blipFill>
        <p:spPr>
          <a:xfrm>
            <a:off x="1042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34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95280" y="176040"/>
            <a:ext cx="8280360" cy="59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697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46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481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51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мамабол"/>
          <p:cNvPicPr/>
          <p:nvPr/>
        </p:nvPicPr>
        <p:blipFill>
          <a:blip r:embed="rId1"/>
          <a:stretch/>
        </p:blipFill>
        <p:spPr>
          <a:xfrm>
            <a:off x="395280" y="549360"/>
            <a:ext cx="8137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98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8" descr="fon-prezentac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алыш1"/>
          <p:cNvPicPr/>
          <p:nvPr/>
        </p:nvPicPr>
        <p:blipFill>
          <a:blip r:embed="rId2"/>
          <a:stretch/>
        </p:blipFill>
        <p:spPr>
          <a:xfrm>
            <a:off x="179280" y="1197000"/>
            <a:ext cx="4464000" cy="42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бог"/>
          <p:cNvPicPr/>
          <p:nvPr/>
        </p:nvPicPr>
        <p:blipFill>
          <a:blip r:embed="rId3"/>
          <a:stretch/>
        </p:blipFill>
        <p:spPr>
          <a:xfrm>
            <a:off x="4788000" y="907920"/>
            <a:ext cx="39956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s1200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4" descr="мама и дети"/>
          <p:cNvPicPr/>
          <p:nvPr/>
        </p:nvPicPr>
        <p:blipFill>
          <a:blip r:embed="rId1"/>
          <a:stretch/>
        </p:blipFill>
        <p:spPr>
          <a:xfrm>
            <a:off x="395280" y="260280"/>
            <a:ext cx="853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27236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39640" y="352440"/>
            <a:ext cx="8136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5T04:43:53Z</dcterms:created>
  <dc:creator>User</dc:creator>
  <dc:description/>
  <dc:language>en-US</dc:language>
  <cp:lastModifiedBy>Пк</cp:lastModifiedBy>
  <dcterms:modified xsi:type="dcterms:W3CDTF">2019-12-06T17:33:25Z</dcterms:modified>
  <cp:revision>22</cp:revision>
  <dc:subject/>
  <dc:title>Слайд 1</dc:title>
</cp:coreProperties>
</file>