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19D4-FA89-4873-BAF8-6203585DD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FF76-57C3-47D9-A571-A1D16A462D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D13-1E28-49DE-BA9C-22F48044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862-D929-47F8-9A40-973B202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858-A7D4-4ED5-ABC4-177DADA2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FBE-E849-4CF1-9C22-5416A533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427-FABB-4E15-AB4B-00C2DB90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4C9-7170-4351-90F1-257489E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2B8-6724-4772-8A2F-61DC59FB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2A0-36E2-4C48-8E9E-E3CC0BAA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830-715C-461E-B68D-CF751433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680-9665-4A02-88E8-BFDE644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FFB-E7B5-4B57-A0DA-7CB9B82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9D7-CDE1-4C0B-8797-3949F2C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B15C-CAD5-4434-B4B7-8FE900D8A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щитники Отечества в моей сем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Андрей\Desktop\5340582.jpg"/>
          <p:cNvPicPr/>
          <p:nvPr/>
        </p:nvPicPr>
        <p:blipFill>
          <a:blip r:embed="rId1"/>
          <a:stretch/>
        </p:blipFill>
        <p:spPr>
          <a:xfrm>
            <a:off x="3144960" y="1859040"/>
            <a:ext cx="2212920" cy="295092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4429080" y="5572080"/>
            <a:ext cx="4340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429160" y="4929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арко Арина, ученица 7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арко Наталия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8560" y="142560"/>
            <a:ext cx="6337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Брат моей прабабушки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емин Владимир Алексеевич,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ушел  добровольцем на фронт 17-летним юношей в августе 1941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0 января 1944 г. он, 19-летний командир группы разведчиков, погиб на боевом задании при изучении обороны противника при подготовке к снятию блокады Ленингр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За подвиг он был награжден Орденом Отечественной войны        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II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теп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Андрей\Desktop\володя 1.bmp"/>
          <p:cNvPicPr/>
          <p:nvPr/>
        </p:nvPicPr>
        <p:blipFill>
          <a:blip r:embed="rId1"/>
          <a:stretch/>
        </p:blipFill>
        <p:spPr>
          <a:xfrm>
            <a:off x="179280" y="189000"/>
            <a:ext cx="2160720" cy="286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podvignaroda.ru/filter/filterimage?path=VS/098/033-0686044-2367%2b004-2366/00000153_1.jpg&amp;id=20262459&amp;id1=159a2761eefd4e0e048509807e016222"/>
          <p:cNvPicPr/>
          <p:nvPr/>
        </p:nvPicPr>
        <p:blipFill>
          <a:blip r:embed="rId2"/>
          <a:stretch/>
        </p:blipFill>
        <p:spPr>
          <a:xfrm>
            <a:off x="541440" y="3193920"/>
            <a:ext cx="802296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Воин-интернационалис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87280" y="907920"/>
            <a:ext cx="5832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ша страна часто была вынуждена не только защищать свои интересы, но и оказывать помощь в отстаивании свободы и независимости других государств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ой дедушка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арко Сергей Иванович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, офицер-артиллерист, выполнял свой интернациональный долг в Демократической Республике Анго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4465440" cy="276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Андрей\Desktop\200px-Coat_of_arms_of_Angola.svg.png"/>
          <p:cNvPicPr/>
          <p:nvPr/>
        </p:nvPicPr>
        <p:blipFill>
          <a:blip r:embed="rId2"/>
          <a:stretch/>
        </p:blipFill>
        <p:spPr>
          <a:xfrm>
            <a:off x="468360" y="549360"/>
            <a:ext cx="2232000" cy="273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93408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856800"/>
            <a:ext cx="84247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ыво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тория моей семьи напрямую связана с историей развития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 доказала, что мои предки всегда стояли на страже Родины, на защите своей семьи. И очень этим горжус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бъект 2"/>
          <p:cNvSpPr/>
          <p:nvPr/>
        </p:nvSpPr>
        <p:spPr>
          <a:xfrm>
            <a:off x="2268360" y="3071880"/>
            <a:ext cx="5112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anegrinews.ru/sites/default/files/info-altai-1418284123.jpg"/>
          <p:cNvPicPr/>
          <p:nvPr/>
        </p:nvPicPr>
        <p:blipFill>
          <a:blip r:embed="rId1"/>
          <a:stretch/>
        </p:blipFill>
        <p:spPr>
          <a:xfrm>
            <a:off x="3708360" y="3846600"/>
            <a:ext cx="5311800" cy="298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a2.mzstatic.com/us/r30/Purple/v4/ba/92/90/ba9290e2-8d1e-b143-4e9e-50b9ecdcb2f0/mzm.wlwcdags.png"/>
          <p:cNvPicPr/>
          <p:nvPr/>
        </p:nvPicPr>
        <p:blipFill>
          <a:blip r:embed="rId2"/>
          <a:stretch/>
        </p:blipFill>
        <p:spPr>
          <a:xfrm>
            <a:off x="82440" y="3840120"/>
            <a:ext cx="2989440" cy="2987640"/>
          </a:xfrm>
          <a:prstGeom prst="rect">
            <a:avLst/>
          </a:prstGeom>
          <a:ln w="0">
            <a:noFill/>
          </a:ln>
        </p:spPr>
      </p:pic>
      <p:sp>
        <p:nvSpPr>
          <p:cNvPr id="113" name="Объект 2"/>
          <p:cNvSpPr/>
          <p:nvPr/>
        </p:nvSpPr>
        <p:spPr>
          <a:xfrm>
            <a:off x="395280" y="115920"/>
            <a:ext cx="8424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«Любовь к Родине начинается с семь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Фрэнсис Бэк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«Защитники Отечества в моей сем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Цель проекта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. Узнать историю судеб моих родственник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 Изучить, как история моей семьи связана с историческими событиями моей страны</a:t>
            </a:r>
            <a:r>
              <a:rPr b="1" lang="ru-RU" sz="2600" spc="-1" strike="noStrike">
                <a:solidFill>
                  <a:srgbClr val="10253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. Поработать над фотографиями и старинными документ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. Показать на  примере моей семьи, как события страны влияли на судьбы простых люд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Гипотеза:</a:t>
            </a:r>
            <a:r>
              <a:rPr b="1" lang="ru-RU" sz="2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учение истории своей семьи помогает лучше понять историю Росс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4720" y="2000160"/>
            <a:ext cx="539604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стория моей семьи неразрывно связана с историей России. Менялось время, менялись правители, менялась жизнь… неизменным оставалось одно – любовь к Родине и к своей семье. Эта любовь выражалась в защите Отчизны и многолетних трудовых будн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Андрей\Desktop\1429093304-0845.sablukov.ivan.semenovich.portret.ekateriny.ii.1770-e.jpg"/>
          <p:cNvPicPr/>
          <p:nvPr/>
        </p:nvPicPr>
        <p:blipFill>
          <a:blip r:embed="rId1"/>
          <a:stretch/>
        </p:blipFill>
        <p:spPr>
          <a:xfrm>
            <a:off x="108000" y="243000"/>
            <a:ext cx="1187280" cy="153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Андрей\Desktop\sq12b7q726xu.jpg"/>
          <p:cNvPicPr/>
          <p:nvPr/>
        </p:nvPicPr>
        <p:blipFill>
          <a:blip r:embed="rId2"/>
          <a:stretch/>
        </p:blipFill>
        <p:spPr>
          <a:xfrm>
            <a:off x="1403280" y="243000"/>
            <a:ext cx="1262160" cy="153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Андрей\Desktop\63422313_1283233530_f_15998194.jpg"/>
          <p:cNvPicPr/>
          <p:nvPr/>
        </p:nvPicPr>
        <p:blipFill>
          <a:blip r:embed="rId3"/>
          <a:stretch/>
        </p:blipFill>
        <p:spPr>
          <a:xfrm>
            <a:off x="2771640" y="241200"/>
            <a:ext cx="1128960" cy="154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Franz Krüger - Portrait of Emperor Nicholas I - WGA12289.jpg"/>
          <p:cNvPicPr/>
          <p:nvPr/>
        </p:nvPicPr>
        <p:blipFill>
          <a:blip r:embed="rId4"/>
          <a:stretch/>
        </p:blipFill>
        <p:spPr>
          <a:xfrm>
            <a:off x="3995640" y="247680"/>
            <a:ext cx="1158840" cy="154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www.dmdonskoy.ru/sites/default/files/field/mainimage-anniversary/03.03_aleksandr_ii.jpg"/>
          <p:cNvPicPr/>
          <p:nvPr/>
        </p:nvPicPr>
        <p:blipFill>
          <a:blip r:embed="rId5"/>
          <a:stretch/>
        </p:blipFill>
        <p:spPr>
          <a:xfrm>
            <a:off x="5292720" y="216000"/>
            <a:ext cx="1060560" cy="156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Kramskoy Alexander III.jpg"/>
          <p:cNvPicPr/>
          <p:nvPr/>
        </p:nvPicPr>
        <p:blipFill>
          <a:blip r:embed="rId6"/>
          <a:stretch/>
        </p:blipFill>
        <p:spPr>
          <a:xfrm>
            <a:off x="6494400" y="216000"/>
            <a:ext cx="1098720" cy="156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http://www.vyborg-info.ru/images/stories/nikolay.jpg"/>
          <p:cNvPicPr/>
          <p:nvPr/>
        </p:nvPicPr>
        <p:blipFill>
          <a:blip r:embed="rId7"/>
          <a:stretch/>
        </p:blipFill>
        <p:spPr>
          <a:xfrm>
            <a:off x="7719840" y="216000"/>
            <a:ext cx="1332000" cy="15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http://st3.maxpark.com/static/u/photo/4184622396/740_120180.jpg"/>
          <p:cNvPicPr/>
          <p:nvPr/>
        </p:nvPicPr>
        <p:blipFill>
          <a:blip r:embed="rId8"/>
          <a:stretch/>
        </p:blipFill>
        <p:spPr>
          <a:xfrm>
            <a:off x="33480" y="5073480"/>
            <a:ext cx="1261800" cy="16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img-fotki.yandex.ru/get/6406/54835962.6c/0_ee9b0_50e7c89b_XL.jpeg"/>
          <p:cNvPicPr/>
          <p:nvPr/>
        </p:nvPicPr>
        <p:blipFill>
          <a:blip r:embed="rId9"/>
          <a:stretch/>
        </p:blipFill>
        <p:spPr>
          <a:xfrm>
            <a:off x="1351080" y="5073480"/>
            <a:ext cx="1366560" cy="166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gornoaltaysk.bezformata.ru/content/image78615732.jpg"/>
          <p:cNvPicPr/>
          <p:nvPr/>
        </p:nvPicPr>
        <p:blipFill>
          <a:blip r:embed="rId10"/>
          <a:stretch/>
        </p:blipFill>
        <p:spPr>
          <a:xfrm>
            <a:off x="2771640" y="5073480"/>
            <a:ext cx="1168560" cy="166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http://stihushka.ru/upload/14189/projimg/109625/hohmodrom_Brejnev_.jpg"/>
          <p:cNvPicPr/>
          <p:nvPr/>
        </p:nvPicPr>
        <p:blipFill>
          <a:blip r:embed="rId11"/>
          <a:stretch/>
        </p:blipFill>
        <p:spPr>
          <a:xfrm>
            <a:off x="3995640" y="5073480"/>
            <a:ext cx="1282680" cy="16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http://ic.pics.livejournal.com/skif_tag/19770500/6498402/6498402_original.jpg"/>
          <p:cNvPicPr/>
          <p:nvPr/>
        </p:nvPicPr>
        <p:blipFill>
          <a:blip r:embed="rId12"/>
          <a:stretch/>
        </p:blipFill>
        <p:spPr>
          <a:xfrm>
            <a:off x="5364000" y="5073480"/>
            <a:ext cx="1295640" cy="167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http://pbs.twimg.com/media/B8xl5LCCQAEOgYj.png"/>
          <p:cNvPicPr/>
          <p:nvPr/>
        </p:nvPicPr>
        <p:blipFill>
          <a:blip r:embed="rId13"/>
          <a:stretch/>
        </p:blipFill>
        <p:spPr>
          <a:xfrm>
            <a:off x="6732720" y="5073480"/>
            <a:ext cx="1224000" cy="16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http://145rnijm0ab3n57zj39in2y1.wpengine.netdna-cdn.com/files/2015/07/Vladimir_Putin_-_2006.jpg"/>
          <p:cNvPicPr/>
          <p:nvPr/>
        </p:nvPicPr>
        <p:blipFill>
          <a:blip r:embed="rId14"/>
          <a:stretch/>
        </p:blipFill>
        <p:spPr>
          <a:xfrm>
            <a:off x="8018640" y="5073480"/>
            <a:ext cx="1116000" cy="167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ttp://www.stihi.ru/pics/2012/09/08/1512.jpg"/>
          <p:cNvPicPr/>
          <p:nvPr/>
        </p:nvPicPr>
        <p:blipFill>
          <a:blip r:embed="rId15"/>
          <a:stretch/>
        </p:blipFill>
        <p:spPr>
          <a:xfrm>
            <a:off x="108000" y="2060640"/>
            <a:ext cx="189396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6"/>
          <a:stretch/>
        </p:blipFill>
        <p:spPr>
          <a:xfrm>
            <a:off x="7593120" y="2060640"/>
            <a:ext cx="13255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авеки с Россией».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Богдан Хмельницки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87280" y="1125000"/>
            <a:ext cx="6840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й предок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утенко Ермолай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, был атаманом Запорожских казаков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Запорожские казаки были свободолюбивыми людьми и не починялись никакому государству. Жили они на территории современной Украины Но осознавая неразрывную братскую связь  между русскими и украинцами, в 1654 г. на Переяславской Раде казаки единодушно прокричали: «Волим под царя Московского, православного». «Навеки с Россией», - ответил Богдан Хмельниц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 тех пор, запорожские казаки верой и правдой служили царю и Ро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Андрей\Desktop\31131958030164.jpg"/>
          <p:cNvPicPr/>
          <p:nvPr/>
        </p:nvPicPr>
        <p:blipFill>
          <a:blip r:embed="rId1"/>
          <a:stretch/>
        </p:blipFill>
        <p:spPr>
          <a:xfrm>
            <a:off x="4950000" y="4581360"/>
            <a:ext cx="4086000" cy="220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komok.do.am/_ph/28/389168011.jpg"/>
          <p:cNvPicPr/>
          <p:nvPr/>
        </p:nvPicPr>
        <p:blipFill>
          <a:blip r:embed="rId2"/>
          <a:stretch/>
        </p:blipFill>
        <p:spPr>
          <a:xfrm>
            <a:off x="108000" y="4581360"/>
            <a:ext cx="4103640" cy="22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С этакими молодцами - и отступать?»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М.И. Куту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03280" y="1000080"/>
            <a:ext cx="590544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оссия вела бесконечные войны, защищая свои границы, поэтому в армию раньше солдат призывали на 25 лет. Их называли рекру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ой предок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хор Утки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ыл среди них. Уйдя в армию в юном возрасте, домой он вернулся уже зрелым человеком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reformshistory.ru/images/Voennie%20reformi/19_soldier.jpg"/>
          <p:cNvPicPr/>
          <p:nvPr/>
        </p:nvPicPr>
        <p:blipFill>
          <a:blip r:embed="rId1"/>
          <a:stretch/>
        </p:blipFill>
        <p:spPr>
          <a:xfrm>
            <a:off x="0" y="3716280"/>
            <a:ext cx="4643280" cy="310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data19.gallery.ru/albums/gallery/138140-089f0-55624935-m750x740-u38bd4.jpg"/>
          <p:cNvPicPr/>
          <p:nvPr/>
        </p:nvPicPr>
        <p:blipFill>
          <a:blip r:embed="rId2"/>
          <a:stretch/>
        </p:blipFill>
        <p:spPr>
          <a:xfrm>
            <a:off x="5033880" y="3716280"/>
            <a:ext cx="38750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Всегда, во все времена и века, Русский воин бивал Прусса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16360" y="846000"/>
            <a:ext cx="554328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месте с Россией мои предки встретили ужас Первой мировой вой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ой прапрадедушка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мин Алексей Андреевич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, 13-летним подростком ушел работать на Тульский Императорский Оружейный Завод, производя так необходимые для фронта винтовки и револьв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C:\Users\Андрей\Desktop\getImage.jpg"/>
          <p:cNvPicPr/>
          <p:nvPr/>
        </p:nvPicPr>
        <p:blipFill>
          <a:blip r:embed="rId1"/>
          <a:stretch/>
        </p:blipFill>
        <p:spPr>
          <a:xfrm>
            <a:off x="179280" y="4076640"/>
            <a:ext cx="4064040" cy="259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Андрей\Desktop\дед.gif"/>
          <p:cNvPicPr/>
          <p:nvPr/>
        </p:nvPicPr>
        <p:blipFill>
          <a:blip r:embed="rId2"/>
          <a:stretch/>
        </p:blipFill>
        <p:spPr>
          <a:xfrm>
            <a:off x="196920" y="765000"/>
            <a:ext cx="2359080" cy="31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Андрей\Desktop\3288284.jpg"/>
          <p:cNvPicPr/>
          <p:nvPr/>
        </p:nvPicPr>
        <p:blipFill>
          <a:blip r:embed="rId3"/>
          <a:stretch/>
        </p:blipFill>
        <p:spPr>
          <a:xfrm>
            <a:off x="4932360" y="4076640"/>
            <a:ext cx="3887640" cy="25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24240" y="115560"/>
            <a:ext cx="6262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Вставай, страна огромная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87640" y="650880"/>
            <a:ext cx="560376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«Нет в России семьи такой, где не памятен был свой герой…» - эти слова из знаменитой песни как нельзя лучше характеризует отношение в моей семье к нашим защитни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ои предки приняли участие в борьбе с немецко-фашистскими захватчиками. Большинство из них так и не вернулись до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3564000" y="3122640"/>
            <a:ext cx="5337000" cy="3543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130320" y="3116160"/>
            <a:ext cx="32400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184280" y="188640"/>
            <a:ext cx="4708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ой прапрадед,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Жарко Харитон Иванович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не успев вернуться к мирной жизни после Советско-Финской войны, вновь был отправлен на передовую. В 1942 г. он попал в плен, после предательства генерала Власова. И до конца войны пробыл в самом страшном концлагере – Бухенвальде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m2.kommersant.ru/Issues.photo/CorpUA/2013/11/29/KKI_015319_03571_1_t210_175239.jpg"/>
          <p:cNvPicPr/>
          <p:nvPr/>
        </p:nvPicPr>
        <p:blipFill>
          <a:blip r:embed="rId1"/>
          <a:stretch/>
        </p:blipFill>
        <p:spPr>
          <a:xfrm>
            <a:off x="76320" y="189000"/>
            <a:ext cx="4108320" cy="291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img0.liveinternet.ru/images/attach/c/2/73/271/73271294_135_44.jpg"/>
          <p:cNvPicPr/>
          <p:nvPr/>
        </p:nvPicPr>
        <p:blipFill>
          <a:blip r:embed="rId2"/>
          <a:stretch/>
        </p:blipFill>
        <p:spPr>
          <a:xfrm>
            <a:off x="4500720" y="3787920"/>
            <a:ext cx="4373280" cy="294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s://upload.wikimedia.org/wikipedia/commons/5/59/Jedemdasseine.jpg"/>
          <p:cNvPicPr/>
          <p:nvPr/>
        </p:nvPicPr>
        <p:blipFill>
          <a:blip r:embed="rId3"/>
          <a:stretch/>
        </p:blipFill>
        <p:spPr>
          <a:xfrm>
            <a:off x="250920" y="3787920"/>
            <a:ext cx="393372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47760" y="115920"/>
            <a:ext cx="591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этой довоенной фотографии мо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апрадедушка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Шамаев Алексей Александрович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,  прапрабабушка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Шамаева Фаина Александровна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мой прадедушка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Шамаев Владимир Алексеевич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41120" y="115920"/>
            <a:ext cx="277524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Объект 2"/>
          <p:cNvSpPr/>
          <p:nvPr/>
        </p:nvSpPr>
        <p:spPr>
          <a:xfrm>
            <a:off x="141120" y="2025720"/>
            <a:ext cx="3167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Алексей Александрович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тарший лейтенант, командир стрелковой роты погиб в декабре 1941 г., во врем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лецкой наступательной операци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F:\Андрей\Фотографии\Предки\0_f2198_dde908ef_orig.jpg"/>
          <p:cNvPicPr/>
          <p:nvPr/>
        </p:nvPicPr>
        <p:blipFill>
          <a:blip r:embed="rId2"/>
          <a:stretch/>
        </p:blipFill>
        <p:spPr>
          <a:xfrm>
            <a:off x="3343320" y="1947960"/>
            <a:ext cx="2868480" cy="191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:\Андрей\Фотографии\Предки\0_f219f_55710925_orig.jpg"/>
          <p:cNvPicPr/>
          <p:nvPr/>
        </p:nvPicPr>
        <p:blipFill>
          <a:blip r:embed="rId3"/>
          <a:stretch/>
        </p:blipFill>
        <p:spPr>
          <a:xfrm>
            <a:off x="6324480" y="2073240"/>
            <a:ext cx="2819520" cy="4784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http://fs00.infourok.ru/images/doc/70/85349/hello_html_m204b6640.jpg"/>
          <p:cNvPicPr/>
          <p:nvPr/>
        </p:nvPicPr>
        <p:blipFill>
          <a:blip r:embed="rId4"/>
          <a:stretch/>
        </p:blipFill>
        <p:spPr>
          <a:xfrm>
            <a:off x="122400" y="3859200"/>
            <a:ext cx="2001600" cy="1409760"/>
          </a:xfrm>
          <a:prstGeom prst="rect">
            <a:avLst/>
          </a:prstGeom>
          <a:ln w="0">
            <a:noFill/>
          </a:ln>
        </p:spPr>
      </p:pic>
      <p:sp>
        <p:nvSpPr>
          <p:cNvPr id="99" name="Объект 2"/>
          <p:cNvSpPr/>
          <p:nvPr/>
        </p:nvSpPr>
        <p:spPr>
          <a:xfrm>
            <a:off x="2143080" y="3987720"/>
            <a:ext cx="396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Фаина Александровна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месте с сыном осталась в Туле. Моя прапрабабушка принимала участие в создании оборонительных рубежей, копала окопы и траншеи. За мужество, стойкость и героизм, проявленный  при защите города, Туле, в 1976 г., присвоена высшая награда – звание города-геро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9" descr="http://www.moselektrik.ru/info/images/flag_tula.gif"/>
          <p:cNvPicPr/>
          <p:nvPr/>
        </p:nvPicPr>
        <p:blipFill>
          <a:blip r:embed="rId5"/>
          <a:stretch/>
        </p:blipFill>
        <p:spPr>
          <a:xfrm>
            <a:off x="122400" y="5396040"/>
            <a:ext cx="20016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4:26:04Z</dcterms:created>
  <dc:creator>Андрей Жарко</dc:creator>
  <dc:description/>
  <dc:language>en-US</dc:language>
  <cp:lastModifiedBy>Zharko, Andrey (CSX)</cp:lastModifiedBy>
  <dcterms:modified xsi:type="dcterms:W3CDTF">2019-12-06T13:19:59Z</dcterms:modified>
  <cp:revision>94</cp:revision>
  <dc:subject/>
  <dc:title>Презентация PowerPoint</dc:title>
</cp:coreProperties>
</file>