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21F5-8381-4A6E-99CF-424355DFA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3020-6D29-4C49-8F31-082898DE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2CBD-8F44-48DB-B028-75EA5633D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CCB6-6C06-417C-893F-13A1D57DE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0BC1-D9E8-403B-9993-83EC72BA3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89E2-4B8B-403F-B0D6-084A76DE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BB2E-F937-407F-A0D8-874AAEEC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4B4C4-4862-4DA8-949A-98BA0A14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13B76-6CF6-4D0A-8ADD-23FBB47A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40DF-993C-4C56-B65C-26D2E18F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EF6A-E4F3-437E-846F-49DE9469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DD5C-55B5-4E64-A73B-F472A6D7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56E3-7406-46C4-A490-A5960381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F7560-7932-45E9-BB8A-F1536753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D035-75F3-4B6E-9604-5A28698B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B028-7FA1-4585-B373-CD270FE4E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91A4-F50D-4C53-A83D-E48C85355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0EFD-6263-453D-AFCE-8BDB4E3B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483A-F4F1-496F-89A3-BAA596BA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B9C5-629E-463F-AC09-DA5EFE02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6791-A5F9-475F-AE76-97ECFD62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0181-BD8F-4D7B-8864-43254206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711A-EB7E-480D-AAE7-E3BF7C59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B4B9-B8BF-4C47-8D86-37B30F5A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D606-93A4-466B-8789-2313D04001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D02C-22F0-470F-9407-B842D376A36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роект-Презентация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10920" y="1341360"/>
            <a:ext cx="7993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м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Будущие читател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анный проект создан для применения в группах младшего дошкольного возраст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втор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еменова Екатерина Геннадье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спитатель ГБДОУ № 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ировского райо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анкт-Петербур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17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cecff"/>
                </a:solidFill>
                <a:latin typeface="Arial"/>
              </a:rPr>
              <a:t>Взаимодействие с родителями</a:t>
            </a:r>
            <a:endParaRPr b="0" lang="en-US" sz="3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держание деятельност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знакомить родителей с примерным планом работы по данному проекту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вести беседу с родителями на тему «Воспитываем будущего читателя» в форме «круглого стола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нсультации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воспитателей по организации домашнего чтения («Что и как читать ребенку дома»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отовить информационные стенды, папки-передвижки, ежедневные информационные листки по тем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влечь родителей изготовлению вместе с детьми закладо для кни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актические материалы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лан-схема  по реализации проекта «Волшебный мир книги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еседа с родителями «Воспитываем будущего читателя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нсультации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памятка «Воспитываем будущего читателя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консультация «Что и как читать ребенку дома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Примерные направления: «Что мы сегодня читали», «Читайте вместе с нами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cecff"/>
                </a:solidFill>
                <a:latin typeface="Arial"/>
              </a:rPr>
              <a:t>Результат деятельности</a:t>
            </a:r>
            <a:r>
              <a:rPr b="1" lang="en-US" sz="43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43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 уголке для родителей была размещена информация о проекте 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 результате совместной деятельности (педагоги, родители, дети) дети получили возможность расширить кругозор о книгах, их героях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ети научились слушать чтение книг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Групповая библиотечка пополнилась новыми книгами и была отреставрирован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ели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развитие устойчивого интереса к произведениям написанных в книгах;    обогащать представления детей о разнообразии книг, жанрах произведений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раскрытие ценности совместного творчества детей и их роди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дачи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Образовательные: формировать умение детей слушать чт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Развивающие: развивать традиции семейного чтения.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Воспитательные: создавать атмосферу эмоционального комфорта, взаимопонимания и поддержки; прививать умение прийти на помощь в трудную мину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2f2f2"/>
                </a:solidFill>
                <a:latin typeface="Arial"/>
              </a:rPr>
              <a:t>Продукт деятельност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Arial"/>
              </a:rPr>
              <a:t>1. Закладки для книг, как совместные поделки детей и взросл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Arial"/>
              </a:rPr>
              <a:t>2. «Правила обращения с книгами»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Arial"/>
              </a:rPr>
              <a:t>3. Совместная с детьми театрализация сказ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лан проекта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ызвать интерес детей и родителей к теме проект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бсуждение проекта с родителям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бор информации, литературы, дополнительного материал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Работа по плану с детьми, родителями, педагогам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езентация проект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cecff"/>
                </a:solidFill>
                <a:latin typeface="Arial"/>
              </a:rPr>
              <a:t>Методическое обеспечение:</a:t>
            </a:r>
            <a:br>
              <a:rPr sz="3900"/>
            </a:br>
            <a:endParaRPr b="0" lang="en-US" sz="3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монстрационный материал: серия сюжетных картин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атические картотеки «стихи», «загадки», «сказки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ценарии театрализованных представлений по сказка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тская художественная литератур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тская познавательная литерату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cecff"/>
                </a:solidFill>
                <a:latin typeface="Arial"/>
              </a:rPr>
              <a:t>План проекта</a:t>
            </a:r>
            <a:r>
              <a:rPr b="1" lang="en-US" sz="3900" spc="-1" strike="noStrike">
                <a:solidFill>
                  <a:srgbClr val="ccecff"/>
                </a:solidFill>
                <a:latin typeface="Arial"/>
              </a:rPr>
              <a:t>:</a:t>
            </a:r>
            <a:br>
              <a:rPr sz="3900"/>
            </a:br>
            <a:endParaRPr b="0" lang="en-US" sz="3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погружение в проект: обсуждение темы, определение мотивов участия детей в предстоящей деятель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выбор идей, поиск путей решения пробле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Реализация  иде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Презентация проек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одержание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1.предложить принести в группу любимые книги из дома, провести беседу «Моя любимая книга»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2. рассмотреть с воспитанниками иллюстрации в книгах.</a:t>
            </a:r>
            <a:br>
              <a:rPr sz="1500"/>
            </a:b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3. познакомить с содержанием книг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4. провести беседу о том, как хранить книги, как обращаться с книгами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5. Определить место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хранения книг в групп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6. Провести в книжном уголке игры и упражнения  8. Организовать в группе встречу с библиотекарем, знакомство с книжками-игрушками, звуковыми и музыкальными книгами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7. Работа в книжном уголке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-чтение (рассказывание) сказок, чтение наизусть потешек и небольших стихотворений при минимальной помощи воспитателя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-пальчиковый театр, игры с игрушками по русским народным  сказкам («Репка», «Теремок», «Колобок» и др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8. Художественно-продуктивная деятельность по сюжетам знакомых литературных произведений. Оформление книжного уголка детскими работами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9. Провести игры и занятия по теме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10. Проведение театрализованных представлений совместно с детьми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Материалы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идактическая игра « Моя любимая книга» (угадай по иллюстраци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 Рассматривание иллюстраций к сказка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« Колобок», «Теремок», « Курочка-ряба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 Беседа «Какие бывают книги?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62064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Игра занятие «Путешествие в поисках книжного уголка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Игры и упражнения в книжном угол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Показ русской народной сказки «Репка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.Игры и занят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22T09:58:46Z</dcterms:created>
  <dc:creator>user</dc:creator>
  <dc:description/>
  <dc:language>en-US</dc:language>
  <cp:lastModifiedBy>Пользователь</cp:lastModifiedBy>
  <dcterms:modified xsi:type="dcterms:W3CDTF">2019-12-06T10:05:26Z</dcterms:modified>
  <cp:revision>17</cp:revision>
  <dc:subject/>
  <dc:title>Слайд 1</dc:title>
</cp:coreProperties>
</file>