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44C-063C-4C81-91D2-6F1EC3D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DF3-D092-4C18-9688-125E9BB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B9F-5AE2-4610-A01F-7D1507AD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856-A0EC-4C87-B1DD-FB835300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D59-5A4E-4441-BEBD-0DFBD56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D1B-BBB1-4C88-9535-2AC9866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D82-DA6E-444C-B0FC-697E730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840-BA21-47A5-B476-9B524C5E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CEF-B1C8-4D42-A62B-B3450BA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EA1-45D1-4453-ACC2-24C957B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FDC-2FD7-4F93-B2EC-91BD14E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AEE-A3DE-4E85-8F2A-13A2F5F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6892-461C-49C5-AEED-950CACB0639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195120" y="171360"/>
            <a:ext cx="8558280" cy="2170080"/>
            <a:chOff x="195120" y="171360"/>
            <a:chExt cx="8558280" cy="21700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95120" y="171360"/>
              <a:ext cx="85582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5840" y="274680"/>
              <a:ext cx="840096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Проект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ТЕМА : </a:t>
              </a: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«Садим овощи»</a:t>
              </a:r>
              <a:br>
                <a:rPr sz="2800"/>
              </a:b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Ответственный за проект: Мелешко Л.Н.</a:t>
              </a:r>
              <a:br>
                <a:rPr sz="2000"/>
              </a:b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Участники проекта: Мустафина Д.Х, Ленина О.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Содержимое 2"/>
          <p:cNvGrpSpPr/>
          <p:nvPr/>
        </p:nvGrpSpPr>
        <p:grpSpPr>
          <a:xfrm>
            <a:off x="212760" y="2206800"/>
            <a:ext cx="8529480" cy="4706640"/>
            <a:chOff x="212760" y="2206800"/>
            <a:chExt cx="8529480" cy="4706640"/>
          </a:xfrm>
        </p:grpSpPr>
        <p:pic>
          <p:nvPicPr>
            <p:cNvPr id="4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12760" y="2206800"/>
              <a:ext cx="8529480" cy="47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57120" y="23320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Паспорт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b050"/>
                  </a:solidFill>
                  <a:latin typeface="Verdana"/>
                </a:rPr>
                <a:t>Тип проекта</a:t>
              </a: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: познавательно-игро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58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Вид проекта: исследователь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58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По продолжительности: долгосрочный  (с 10мая по16 июня 2019 года , неделя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58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Создатель проекта Мелешко Л.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58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828"/>
                  </a:solidFill>
                  <a:latin typeface="Verdana"/>
                </a:rPr>
                <a:t>Участники проекта: воспитатели: Мустафина Д.Х,  Ленина О.А и дети второй группы раннего возраста №1</a:t>
              </a:r>
              <a:r>
                <a:rPr b="0" lang="ru-RU" sz="2000" spc="-1" strike="noStrike">
                  <a:solidFill>
                    <a:srgbClr val="005828"/>
                  </a:solidFill>
                  <a:latin typeface="Verdana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58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Заголовок 1"/>
          <p:cNvGrpSpPr/>
          <p:nvPr/>
        </p:nvGrpSpPr>
        <p:grpSpPr>
          <a:xfrm>
            <a:off x="115920" y="-103320"/>
            <a:ext cx="8778960" cy="2462400"/>
            <a:chOff x="115920" y="-103320"/>
            <a:chExt cx="8778960" cy="2462400"/>
          </a:xfrm>
        </p:grpSpPr>
        <p:pic>
          <p:nvPicPr>
            <p:cNvPr id="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5920" y="-103320"/>
              <a:ext cx="877896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1440" y="0"/>
              <a:ext cx="849636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Verdana"/>
                </a:rPr>
                <a:t>Цель проекта:</a:t>
              </a:r>
              <a:br>
                <a:rPr sz="2200"/>
              </a:b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c00000"/>
                  </a:solidFill>
                  <a:latin typeface="Verdana"/>
                </a:rPr>
                <a:t>Через различные виды деятельности дать детям элементарные представления о свойствах семян; о посадке и прополке овощей; о  уборке урожая; о значении овощей в жизни  человека.</a:t>
              </a:r>
              <a:br>
                <a:rPr sz="1800"/>
              </a:br>
              <a:r>
                <a:rPr b="1" lang="ru-RU" sz="1800" spc="-1" strike="noStrike">
                  <a:solidFill>
                    <a:srgbClr val="c00000"/>
                  </a:solidFill>
                  <a:latin typeface="Verdana"/>
                </a:rPr>
                <a:t>Способствовать развитию познавательных и творческих способностей дет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Содержимое 2"/>
          <p:cNvGrpSpPr/>
          <p:nvPr/>
        </p:nvGrpSpPr>
        <p:grpSpPr>
          <a:xfrm>
            <a:off x="-115920" y="2176560"/>
            <a:ext cx="9363240" cy="4736880"/>
            <a:chOff x="-115920" y="2176560"/>
            <a:chExt cx="9363240" cy="4736880"/>
          </a:xfrm>
        </p:grpSpPr>
        <p:pic>
          <p:nvPicPr>
            <p:cNvPr id="5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15920" y="2176560"/>
              <a:ext cx="9363240" cy="47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228600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Задачи проекта: Образовательная: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-Формировать представления детей о посадке овощей – активизировать словарь по теме.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Обучать детей навыкам экспериментирования с  семенами гороха.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Развивающая: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-Развивать наблюдательность, мышление, память, умение анализировать, сравнивать, обобщать, устанавливать причинно-следственные связи, делать выводы, обогащать словарный запас детей, развивать речь.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Воспитательная: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-Воспитывать эмоционально-ценностное отношение к окружающему миру.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Проблема: </a:t>
              </a:r>
              <a:br>
                <a:rPr sz="1600"/>
              </a:br>
              <a:r>
                <a:rPr b="1" lang="ru-RU" sz="1600" spc="-1" strike="noStrike">
                  <a:solidFill>
                    <a:srgbClr val="984204"/>
                  </a:solidFill>
                  <a:latin typeface="Verdana"/>
                </a:rPr>
                <a:t>Во время рассказа о горохе дети испытывали затруднения при ответах на вопросы о том, как из гороха появился росток, как из ростка  вырастает стебель , а на стебле плоды. На основании возникшей проблемной ситуации, я решила приступить к разработке и реализации данного проект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23760" y="4700520"/>
            <a:ext cx="9290160" cy="2212920"/>
            <a:chOff x="-23760" y="4700520"/>
            <a:chExt cx="9290160" cy="221292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23760" y="4700520"/>
              <a:ext cx="9290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08000" y="4805280"/>
              <a:ext cx="9036000" cy="20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Формирование элементарных представлений о росте семян, из каких семян вырастают те или иные культуры, значение овощей  в жизни человека. Эмоциональное проявление детей во всех видах деятельности. Формирование навыков совместной деятельност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Содержимое 2"/>
          <p:cNvGrpSpPr/>
          <p:nvPr/>
        </p:nvGrpSpPr>
        <p:grpSpPr>
          <a:xfrm>
            <a:off x="-122400" y="-176040"/>
            <a:ext cx="9363240" cy="4949640"/>
            <a:chOff x="-122400" y="-176040"/>
            <a:chExt cx="9363240" cy="4949640"/>
          </a:xfrm>
        </p:grpSpPr>
        <p:pic>
          <p:nvPicPr>
            <p:cNvPr id="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22400" y="-176040"/>
              <a:ext cx="9363240" cy="49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0"/>
              <a:ext cx="9072720" cy="47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Актуальнос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ти часто задают вопросы, и далеко не на все вопросы можно ответить так, чтобы малыш понял. Порой бывает мало одного ответа, возникает потребность провести экспериментирование – показать и рассказать, как происходит то или иное действо в природе, уточнить знания о свойствах и качествах объектов, их изменениях. Каждый опыт помогает находить решение различных задач и даёт возможность понять, почему всё происходит так, а не иначе, увидеть закономерности своими глазами. Опытная и исследовательская деятельность несёт в себе большие возможности для всестороннего развития детей. Дети подводятся к умению рассуждать, делать выводы и умозаключения, что обеспечивает становлению мировоззрения ребёнка, способствует развитию личностного роста. Данный вид деятельности позволяет каждому ребёнку реализовать свою любознательную и познавательную активность, развивает мышление, обогащает знания и словарный запа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Прогнозируемые результат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725480"/>
          </a:xfrm>
          <a:prstGeom prst="rect">
            <a:avLst/>
          </a:prstGeom>
          <a:solidFill>
            <a:srgbClr val="f9b639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роприятия по реализации проекта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удожественно- творческая деятельность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Содержимое 2"/>
          <p:cNvGrpSpPr/>
          <p:nvPr/>
        </p:nvGrpSpPr>
        <p:grpSpPr>
          <a:xfrm>
            <a:off x="298440" y="1816200"/>
            <a:ext cx="8504280" cy="4365360"/>
            <a:chOff x="298440" y="1816200"/>
            <a:chExt cx="8504280" cy="4365360"/>
          </a:xfrm>
        </p:grpSpPr>
        <p:pic>
          <p:nvPicPr>
            <p:cNvPr id="6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98440" y="1816200"/>
              <a:ext cx="8504280" cy="43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8760" y="2000160"/>
              <a:ext cx="8258040" cy="41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Чтение сказки «Горошина», «Вершки и корешки» «», «Лейка», Д.Радари «Чипалино». С.Михалков «Овощи» А.Прокофьева «Огород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тгадывание загадок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оставление рассказа: «Мой любимый овощ», «Как мы садили огород»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-слушание песни Группа "Непоседы" - Виноватая Тучка, звуки природы - «Дождь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-рассказывание по сюжетным картинкам «Как огород поливают», «Как появляется из семечка росток, а из земли стебелёк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-продуктивная деятельность (экспериментирование с семенами, наблюдение за ростком, рисование «горошины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487440" y="725400"/>
            <a:ext cx="4809960" cy="884160"/>
            <a:chOff x="487440" y="725400"/>
            <a:chExt cx="4809960" cy="88416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87440" y="725400"/>
              <a:ext cx="48099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71680" y="857160"/>
              <a:ext cx="4679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ru-RU" sz="2400" spc="-1" strike="noStrike">
                  <a:solidFill>
                    <a:srgbClr val="ff0000"/>
                  </a:solidFill>
                  <a:latin typeface="Verdana"/>
                </a:rPr>
                <a:t>Физическое развитие:</a:t>
              </a: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одержимое 2"/>
          <p:cNvGrpSpPr/>
          <p:nvPr/>
        </p:nvGrpSpPr>
        <p:grpSpPr>
          <a:xfrm>
            <a:off x="324000" y="1414440"/>
            <a:ext cx="8551800" cy="4797360"/>
            <a:chOff x="324000" y="1414440"/>
            <a:chExt cx="8551800" cy="4797360"/>
          </a:xfrm>
        </p:grpSpPr>
        <p:pic>
          <p:nvPicPr>
            <p:cNvPr id="6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4000" y="1414440"/>
              <a:ext cx="85518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" y="1600200"/>
              <a:ext cx="822960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звивать координацию движений, формировать умение ориентироваться в пространстве, развивать внимание, уметь снимать напряжение и устал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гровая деятельност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гровые ситуации на тему «магазин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гра : «Где, что растёт?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движная игра «Солнышко и дождик»; «Ой, что за народ?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гра на развитие речевого дыхания «Подуем на листок»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рудовая деятельност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-прополоть сорня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ливаем огород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альчиковая гимнастика: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«Капуста», «Компот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28960" y="357120"/>
            <a:ext cx="2843280" cy="3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ини огор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42800" y="4714920"/>
            <a:ext cx="20005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1357200" y="2143080"/>
            <a:ext cx="53355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6T18:18:41Z</dcterms:modified>
  <cp:revision>29</cp:revision>
  <dc:subject/>
  <dc:title>Проект /долгосрочный/</dc:title>
</cp:coreProperties>
</file>