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3B9-2533-4E80-A6E7-576F76DC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4D2-2336-4B35-8C57-8381B31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5A5-9B13-4F83-86D0-1AD9411E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B69-2D9B-4020-BE0F-E9F04BB4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811-D927-4620-B762-A80DE8D3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55C-0AD1-4172-8EA1-734B6A22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40D-022A-4433-8F7E-F5154292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DD5-9D20-4C61-9736-87555A56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614-3A06-4E35-A3C5-8B9C9755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B1E-1DE9-4CA5-A887-DB273D3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6EE-5F7A-4572-BC68-90F17DD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10C-875A-4D80-AC9A-BFE6A0F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064-E040-4780-A364-C725A1264F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77708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00"/>
                </a:solidFill>
                <a:latin typeface="Comic Sans MS"/>
                <a:ea typeface="Arial"/>
              </a:rPr>
              <a:t>«Формирование основ безопасного поведения  детей младшего дошкольного возраста»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omic Sans MS"/>
                <a:ea typeface="Arial"/>
              </a:rPr>
              <a:t>(родительское собра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71720" y="5857920"/>
            <a:ext cx="6215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Автор: Пилецкая Лариса Николаевна, восп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МБДОУ детский сад № 23 «Ёлочка» , г.Большой Камен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ÐÐ°ÑÑÐ¸Ð½ÐºÐ¸ Ð¿Ð¾ Ð·Ð°Ð¿ÑÐ¾ÑÑ ÑÐ¾ÑÐ¼Ð¸ÑÐ¾Ð²Ð°Ð½Ð¸Ñ Ð¾ÑÐ½Ð¾Ð² Ð±ÐµÐ·Ð¾Ð¿Ð°ÑÐ½Ð¾Ð³Ð¾ Ð¿Ð¾Ð²ÐµÐ´ÐµÐ½Ð¸Ñ Ñ Ð´ÐµÑÐµÐ¹"/>
          <p:cNvPicPr/>
          <p:nvPr/>
        </p:nvPicPr>
        <p:blipFill>
          <a:blip r:embed="rId1"/>
          <a:stretch/>
        </p:blipFill>
        <p:spPr>
          <a:xfrm>
            <a:off x="2357280" y="2357280"/>
            <a:ext cx="414360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7358040" y="5143680"/>
            <a:ext cx="16430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Comic Sans MS"/>
              </a:rPr>
              <a:t>Решение проблемных ситу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928440"/>
            <a:ext cx="41432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итуация №3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Ребенок потерялся. Что он будет делат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Возможные отве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Везде бегать и искать ма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Стоять на месте, где потерялс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Обратиться к милиционеру за помощью, если уж очень долго стоиш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Пойти с незнакомой тетей, которая скажет, что только что видела твою маму, а мама плачет, ищет теб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Пойти с чужим мужчиной, который скажет, что живет рядом с домом, в котором ты живешь, что он тебя провод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Попросить прохожего отвести тебя в ближайшее отделение мили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Обратиться к продавцу в магазине за помощь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Попросить прохожего позвонить в милицию и сообщить, что ты потерялся и находишься в таком – то мест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C:\Users\глория\Desktop\Новая папка (3)\IMG-20180314-WA0030.jpg"/>
          <p:cNvPicPr/>
          <p:nvPr/>
        </p:nvPicPr>
        <p:blipFill>
          <a:blip r:embed="rId1"/>
          <a:stretch/>
        </p:blipFill>
        <p:spPr>
          <a:xfrm>
            <a:off x="4643280" y="142884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85840" y="1296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00"/>
                </a:solidFill>
                <a:latin typeface="Comic Sans MS"/>
              </a:rPr>
              <a:t>                            </a:t>
            </a:r>
            <a:r>
              <a:rPr b="0" lang="ru-RU" sz="2800" spc="-1" strike="noStrike">
                <a:solidFill>
                  <a:srgbClr val="007000"/>
                </a:solidFill>
                <a:latin typeface="Comic Sans MS"/>
              </a:rPr>
              <a:t>Итог собр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4240" y="3286080"/>
            <a:ext cx="7643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5" descr="C:\Users\глория\AppData\Local\Microsoft\Windows\Temporary Internet Files\Content.Word\IMG_20180323_100657.jpg"/>
          <p:cNvPicPr/>
          <p:nvPr/>
        </p:nvPicPr>
        <p:blipFill>
          <a:blip r:embed="rId1"/>
          <a:stretch/>
        </p:blipFill>
        <p:spPr>
          <a:xfrm>
            <a:off x="2428920" y="3429000"/>
            <a:ext cx="4572000" cy="32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Прямоугольник 6"/>
          <p:cNvSpPr/>
          <p:nvPr/>
        </p:nvSpPr>
        <p:spPr>
          <a:xfrm>
            <a:off x="357120" y="714240"/>
            <a:ext cx="8143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Задача взрослых состоит не только в том, чтобы оберегать и защищать ребенка, но и в том, чтобы подготовить его к встрече с различными сложными, а порой и опасными жизненными ситуаци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Продолжить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сотрудничество педагогов с родителями воспитанников по вопросам формирования основ безопасного поведения у дошкольников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Расширить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объем дидактического материала, а также углубить работу с детьми по заданной тем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3.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Привлечь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родителей к оказанию помощи в пополн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«Уголка безопасности» необходимыми дидактическими и наглядными пособиями, игрушками, маке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57120" y="18684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00"/>
                </a:solidFill>
                <a:latin typeface="Comic Sans MS"/>
                <a:ea typeface="Calibri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357120" y="714240"/>
            <a:ext cx="86439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Дошкольный возраст характеризуется нарастанием двигательной активности и увеличением физических возможностей ребёнка, которые, сочетаясь с повышенной любознательностью и стремлением к самостоятельности, нередко приводят к возникновению травмоопасных ситуа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Этот факт обуславливает необходимость, как можно раньше начинать знакомить дошкольников с основами безопас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Часто дети не только не знают, как справиться с ситуацией, но и не осознают сам факт её возникновения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этому их следует знакомить с источниками опасности, мерами предосторожности и собственными возможностями.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Именно это и можно считать основой безопасного поведения, которая позволит дошкольникам предвидеть, избегать и правильно действовать при возникновении травмоопасных ситуаци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0040" y="392904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абота по обучению детей правилам грамотного поведения на улице, на природе и дома – эта работа не одного дня. Для того, чтобы она принесла результаты, недостаточно одного занятия или беседы с детьми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абота должна быть систематической.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 еще одно важное требование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: детям недостаточно только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теоретических знаний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,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они должны применять их на практи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И если теоретические знания мы, педагоги, можем обеспечить детям в детском саду, то их практическое проявление целиком ложиться на плечи роди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85840" y="0"/>
            <a:ext cx="1357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68360" y="14292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орма проведе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еминар-практику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  повышение педагогической компетентности родителей в вопросах безопасности жизнедеятельности детей, формирование чувства ответственности за безопасность своего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1.Познакомить родителей с работой детского сада по теме 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«Безопасность жизнедеятельности детей»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2. Активизировать знания родителей об особенностях обучения детей правилам безопасного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3. Формировать готовность родителей к сотрудничеству с педагогами детского сада по проблемам развития у детей навыков безопасного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286680" y="507204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00"/>
                </a:solidFill>
                <a:latin typeface="Comic Sans MS"/>
              </a:rPr>
              <a:t>Знакомство родителей с работой детского сада по теме </a:t>
            </a:r>
            <a:r>
              <a:rPr b="1" i="1" lang="ru-RU" sz="2000" spc="-1" strike="noStrike">
                <a:solidFill>
                  <a:srgbClr val="007000"/>
                </a:solidFill>
                <a:latin typeface="Comic Sans MS"/>
              </a:rPr>
              <a:t>«Безопасность жизнедеятельности детей»</a:t>
            </a:r>
            <a:r>
              <a:rPr b="1" lang="ru-RU" sz="2000" spc="-1" strike="noStrike">
                <a:solidFill>
                  <a:srgbClr val="007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Работа по формированию основ безопасного поведения детей дошкольного возраста ведется по нескольким разделам (</a:t>
            </a:r>
            <a:r>
              <a:rPr b="0" i="1" lang="ru-RU" sz="1600" spc="-1" strike="noStrike">
                <a:solidFill>
                  <a:srgbClr val="002060"/>
                </a:solidFill>
                <a:latin typeface="Times New Roman"/>
              </a:rPr>
              <a:t>доклад воспитателя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), а именно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Ребенок и другие люди»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,в котором дается объяснение тому, что именно может быть опасным в общении с другими людьми; что не всегда приятная внешность совпадает с добрыми намерениями и какое поведение следует выбрать в сложной ситу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Ребенок и природа».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Мы говорим о загрязнении окружающей среды, о бережном отношении к живой природе; о ядовитых растениях ;о контактах с животны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Ребенок дома»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- пожароопасные предметы, острые и тяжелые предметы, балкон, открытое окно и другие бытовые опасности. А также, умение пользоваться телефоном в экстремальных ситуация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Здоровье и эмоциональное благополучие ребенка»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- изучение строения организма, закрепление навыков личной гиены, о роли лекарств, и витаминов, отношение к больному человеку, а также детские страхи, конфликты между детьм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Ребенок на улице»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 - правила дорожного движения, правила поведения в транспорте, если ребенок потерялся, ориентирование на мест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5" descr="ÐÐ°ÑÑÐ¸Ð½ÐºÐ¸ Ð¿Ð¾ Ð·Ð°Ð¿ÑÐ¾ÑÑ Ð±ÐµÐ·Ð¾Ð¿Ð°ÑÐ½Ð¾ÑÑÑ ÑÐµÐ±ÐµÐ½ÐºÐ°"/>
          <p:cNvPicPr/>
          <p:nvPr/>
        </p:nvPicPr>
        <p:blipFill>
          <a:blip r:embed="rId1"/>
          <a:stretch/>
        </p:blipFill>
        <p:spPr>
          <a:xfrm>
            <a:off x="3214800" y="478620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ÐÐ°ÑÑÐ¸Ð½ÐºÐ¸ Ð¿Ð¾ Ð·Ð°Ð¿ÑÐ¾ÑÑ Ð±ÐµÐ·Ð¾Ð¿Ð°ÑÐ½Ð¾ÑÑÑ ÑÐµÐ±ÐµÐ½ÐºÐ°"/>
          <p:cNvPicPr/>
          <p:nvPr/>
        </p:nvPicPr>
        <p:blipFill>
          <a:blip r:embed="rId2"/>
          <a:stretch/>
        </p:blipFill>
        <p:spPr>
          <a:xfrm>
            <a:off x="6215040" y="478620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ÐÐ°ÑÑÐ¸Ð½ÐºÐ¸ Ð¿Ð¾ Ð·Ð°Ð¿ÑÐ¾ÑÑ Ð±ÐµÐ·Ð¾Ð¿Ð°ÑÐ½Ð¾ÑÑÑ ÑÐµÐ±ÐµÐ½ÐºÐ°"/>
          <p:cNvPicPr/>
          <p:nvPr/>
        </p:nvPicPr>
        <p:blipFill>
          <a:blip r:embed="rId3"/>
          <a:stretch/>
        </p:blipFill>
        <p:spPr>
          <a:xfrm>
            <a:off x="428760" y="4786200"/>
            <a:ext cx="25714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Беседа с родителями на тему </a:t>
            </a:r>
            <a:r>
              <a:rPr b="0" lang="ru-RU" sz="1600" spc="-1" strike="noStrike">
                <a:solidFill>
                  <a:srgbClr val="007000"/>
                </a:solidFill>
                <a:latin typeface="Comic Sans MS"/>
              </a:rPr>
              <a:t>: </a:t>
            </a:r>
            <a:r>
              <a:rPr b="1" lang="ru-RU" sz="1600" spc="-1" strike="noStrike">
                <a:solidFill>
                  <a:srgbClr val="007000"/>
                </a:solidFill>
                <a:latin typeface="Comic Sans MS"/>
              </a:rPr>
              <a:t>«Формы и методы работы по формированию основ безопасного поведения у детей младшего дошкольного возраста»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Знакомство с наглядными и дидактическими пособиями, дидактическими играми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Comic Sans MS"/>
              </a:rPr>
              <a:t>Рассказ воспитателя о проводимой работе в группе. Обсуждение из личного опыта родител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Users\глория\Documents\Новая папка (3)\IMG-20180314-WA00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07180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глория\Documents\Новая папка (3)\IMG-20180314-WA0031.jpg"/>
          <p:cNvPicPr/>
          <p:nvPr/>
        </p:nvPicPr>
        <p:blipFill>
          <a:blip r:embed="rId2"/>
          <a:stretch/>
        </p:blipFill>
        <p:spPr>
          <a:xfrm>
            <a:off x="3500280" y="4286160"/>
            <a:ext cx="3048120" cy="242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глория\Documents\Новая папка (3)\IMG-20180314-WA0024.jpg"/>
          <p:cNvPicPr/>
          <p:nvPr/>
        </p:nvPicPr>
        <p:blipFill>
          <a:blip r:embed="rId3"/>
          <a:stretch/>
        </p:blipFill>
        <p:spPr>
          <a:xfrm>
            <a:off x="6786720" y="37861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357120" y="4357800"/>
            <a:ext cx="2952720" cy="23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5"/>
          <a:stretch/>
        </p:blipFill>
        <p:spPr>
          <a:xfrm>
            <a:off x="2714760" y="1643040"/>
            <a:ext cx="321444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6"/>
          <a:stretch/>
        </p:blipFill>
        <p:spPr>
          <a:xfrm>
            <a:off x="6072120" y="171468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00"/>
                </a:solidFill>
                <a:latin typeface="Comic Sans MS"/>
              </a:rPr>
              <a:t>Знакомство родителей с работой детского сада по теме </a:t>
            </a:r>
            <a:r>
              <a:rPr b="1" i="1" lang="ru-RU" sz="2000" spc="-1" strike="noStrike">
                <a:solidFill>
                  <a:srgbClr val="007000"/>
                </a:solidFill>
                <a:latin typeface="Comic Sans MS"/>
              </a:rPr>
              <a:t>«Безопасность жизнедеятельности детей»</a:t>
            </a:r>
            <a:r>
              <a:rPr b="1" lang="ru-RU" sz="2000" spc="-1" strike="noStrike">
                <a:solidFill>
                  <a:srgbClr val="007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«Уголок безопасност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C:\Users\глория\Documents\Новая папка (3)\IMG_20180314_17503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Блиц-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400" y="713880"/>
            <a:ext cx="542916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Назовите правила поведения при обнаружении запаха газа в кварти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Ответ: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Не включать свет и электроприборы, не зажигать спички, открыть окна и форточки, звонить в газовую службу от соседей по телефону – 04-, оповестить других соседей о случившемс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опрос №2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Назовите правила поведения при пожаре в кварти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Ответ: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Не открывать окна, не тушить водой загоревшиеся электроприборы, дышать через мокрую ткань, к выходу двигаться, пригнувшись, покиньте помещение, закройте за собой дверь, вызовите пожарную охрану по телефону  -01- , сообщите о пожаре соседя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опрос №3: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Назовите правила поведения при контакте с домашней и бродячей соб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Ответ: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Не гладьте незнакомых; не трогайте собаку, когда она ест или кого- то охраняет, особенно своих детенышей; не толкайте и не нападайте в шутку на хозяина собаки; никогда пристально не смотрите собаке в глаза; не убегайте от собаки, не поворачивайтесь к ней спиной; чтобы отогнать бродячую собаку, бывает достаточно поднять с земли камень или палку, а вот с домашними животными, часто хорошо дрессированными, лучше не размахивать руками, а громко и четко отдать команду: «Фу!» или «Нельзя!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C:\Users\глория\Desktop\Новая папка (3)\IMG-20180314-WA0022 - копия.jpg"/>
          <p:cNvPicPr/>
          <p:nvPr/>
        </p:nvPicPr>
        <p:blipFill>
          <a:blip r:embed="rId1"/>
          <a:stretch/>
        </p:blipFill>
        <p:spPr>
          <a:xfrm>
            <a:off x="5786280" y="2000160"/>
            <a:ext cx="322596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ÐÐ°ÑÑÐ¸Ð½ÐºÐ¸ Ð¿Ð¾ Ð·Ð°Ð¿ÑÐ¾ÑÑ Ð±ÐµÐ·Ð¾Ð¿Ð°ÑÐ½Ð¾ÑÑÑ Ð´ÐµÑÐµÐ¹"/>
          <p:cNvPicPr/>
          <p:nvPr/>
        </p:nvPicPr>
        <p:blipFill>
          <a:blip r:embed="rId2"/>
          <a:stretch/>
        </p:blipFill>
        <p:spPr>
          <a:xfrm>
            <a:off x="6500880" y="285840"/>
            <a:ext cx="14288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00"/>
                </a:solidFill>
                <a:latin typeface="Comic Sans MS"/>
              </a:rPr>
              <a:t>Решение проблемных ситу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8568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итуация №1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: Молодая женщина приятной наружности говорит девочке ( мальчику): «Здравствуй, девочка! Как тебя зовут?  А где ты живешь?» как должна ответь девочка незнакомк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Возможные ответы: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«Вот я сейчас милиционера позову!»; «Простите, но я очень спешу!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:\Users\глория\Desktop\Новая папка (3)\IMG-20180314-WA0025.jpg"/>
          <p:cNvPicPr/>
          <p:nvPr/>
        </p:nvPicPr>
        <p:blipFill>
          <a:blip r:embed="rId1"/>
          <a:stretch/>
        </p:blipFill>
        <p:spPr>
          <a:xfrm>
            <a:off x="1643040" y="1785960"/>
            <a:ext cx="5929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Comic Sans MS"/>
              </a:rPr>
              <a:t>Решение проблемных ситу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50004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итуация №2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Лежит на земле пьяный мужчина. Его шапка и ботинок валяются в стороне. Человек просит: «Мальчик, помоги мне, пожалуйста!» Как должен повести себя ребен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Возможные ответ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«Я позову сейчас кого - нибудь из взрослых»; «Пройду мимо, сделаю вид, что не замечаю лежащего человека»; «Подниму шапку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Users\глория\Desktop\Новая папка (3)\IMG-20180314-WA0029.jpg"/>
          <p:cNvPicPr/>
          <p:nvPr/>
        </p:nvPicPr>
        <p:blipFill>
          <a:blip r:embed="rId1"/>
          <a:stretch/>
        </p:blipFill>
        <p:spPr>
          <a:xfrm>
            <a:off x="1714680" y="2071800"/>
            <a:ext cx="5524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глория</cp:lastModifiedBy>
  <dcterms:modified xsi:type="dcterms:W3CDTF">2019-12-06T00:31:53Z</dcterms:modified>
  <cp:revision>72</cp:revision>
  <dc:subject/>
  <dc:title>Слайд 1</dc:title>
</cp:coreProperties>
</file>