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0F00-B4E7-4311-B953-4B86D71A1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6B38-12C9-4F34-95D7-F58F9511F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CB9A-9087-4E6C-AA80-E56F7B65A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9475-3244-411B-A77D-81B7F6071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6059F8-F0CF-4973-BEB4-E5E5F9261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4D7849-F20D-4501-917E-3EF73C92A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2DE803-0A17-4B1D-9EF6-2DA501229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2EA78A-8211-46E1-A890-9DF6F53DD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4C13A5-2E17-4B31-A071-D0F81D08B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E54538-246A-454B-AC36-0E6EAD6FF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954A8D-23AB-4378-BA72-79DC2ADDE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4D3A-9DE4-4BDF-B938-6D16E4ADC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5DD1BB-D786-43E1-B1E4-AEB69DE55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D8CAA2-E298-43BE-A550-B354305BF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8B3FF3-AE20-4B2F-B0C7-F07836C8D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0332FB-3CC9-43F1-910E-69A0960BE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5D176C-DC9C-4D14-97C8-B77C443B7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D258-BA3A-4EC3-95E1-D8A4704E7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DA19-DAA4-484A-86AF-92B339263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93CD-A020-4F58-B57B-43385790A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7D7F-A654-4998-8E1B-2B4EE75E3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DBA0-9D37-4D1A-B31B-9CCD739D7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0517-E050-409A-BC35-BF8E343F1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87AD-D075-4518-A443-8BB9EA393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89BE6-F74F-4D97-8B1A-68BD68389D6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84F28-ED3F-43A4-B1BC-4688C3FBD2B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e3e3ff"/>
                </a:solidFill>
                <a:latin typeface="Arial"/>
              </a:rPr>
              <a:t>Северо – Кавказский</a:t>
            </a:r>
            <a:br>
              <a:rPr sz="5400"/>
            </a:br>
            <a:r>
              <a:rPr b="0" lang="ru-RU" sz="5400" spc="-1" strike="noStrike">
                <a:solidFill>
                  <a:srgbClr val="e3e3ff"/>
                </a:solidFill>
                <a:latin typeface="Arial"/>
              </a:rPr>
              <a:t>экономический район 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Промышленность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ищевая промышленность: мукомольно-крупяная, маслобойная (подсолнечное масло), консервная, виноделие и друг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имическая промышленность: один из крупнейших в РФ завод по производству азотных удобрений в г. Невинномысск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Топливная промышленность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вая буровая скважина России дала нефть в 1860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 50-х годов 20 века Кавказ был основной нефтяной базой Росс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настоящее время имеет локальный характер, так как запасы топливных ресурсов сильно истоще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Сельское хозяйство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лавные с\х культуры: озимая пшеница, кукуруза, рис (в низовьях рек). По мнению специалистов краснодарский рис – самый качественный в мире.   В Краснодарском крае выращивают самый северный в мире ча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вцеводство: тонкорунное – на равнинах, грубошёрстное – в предгорьях и гора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виноводство, птицеводство. Возрождается коневодств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Транспорт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дставлен всеми видами и отличается высокой степенью развит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рупнейшие нефтеналивные морские порты: г. Новороссийск и г. Туапсе - на  Чёрном море и г. Махачкала – на Каспийском море-озер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Народные промысл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ул Унцукуль. Здесь изготавливают предметы быта из кизилового дерева с тонкой насечкой из металл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сёлок Кубачи (турец. кольчужники). Здесь производили кольчуги и оружие, сейчас производят украшения, посуду и др. из сереб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вроткачество. 1 место в РФ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Использованная литератур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еография России. Хозяйство и географические районы. 9кл.: учеб. для общеобразоват. учреждений/ под ред. А.И. Алексеева. – 11-е изд.: - м.: Дрофа, 2009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еография России. Население и хозяйство. 9кл.:учеб. Для общеобразоват. учреждений \ В.П. Дронов, В.Я. Ром. – 10-е изд. – М.: Дрофа, 2004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еография России: 8-9 классы. Материалы для подготовки к экзамену: учебно-методическое пособие/ Е.М. Курашева. – М.: Издательство «Экзамен», 2009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Состав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спублика Адыгея (г. Майкоп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спублика Кабардино – Балкария (г.Нальчик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рачаево – Черкесская Республика   (г. Черкесск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спублика Северная Осетия – Алания (г. Владикавказ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спублика Ингушетия (г. Магас)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Состав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еченская Республика (г. Грозный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спублика Дагестан (г. Махачкал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остовская область (г. Ростов-на-Дону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раснодарский край (г. Краснодар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авропольский край (г. Ставрополь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Особенности ЭГП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йон пограничный (Украина, Абхазия, Грузия, Южная Осетия, Азербайджан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меет выход к морям: Азовскому, Чёрному. Выход к Каспийскому морю-озер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раничит с высокоразвитыми экономическими районами: Центрально-Чернозёмным и Поволжье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Населени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исленность населения – 18 млн. человек (13% населения РФ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редняя плотность населения – 50 чел. на кв. к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П=Р-С положительны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Дагестане наибольший ЕП В РФ: +13 промилле (+13 чел. на 1000 чел. 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Населени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мый многонациональный район РФ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спублики с преобладанием коренного населения: Дагестан (80%), Чеченская и Ингушская (71%), Кабардино – Балкарская (58%), Северо - Осетинская (53%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спублика с равенством коренного и русского населения: Карачаево – Черкесская (41% и 42%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спублика с преобладанием русского населения: Адыгея (68%, адыгейцы – 22%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Населени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льшая часть кореннных народов исповедует ислам. Осетины – православные христиан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ровень урбанизации - 57%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ород – миллионер – Ростов-на-Дон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ельские поселения в Предкавказье – станицы (до 20000 чел.), в горах – аул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елик миграционный поток насел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йон обеспечен трудовыми ресурс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e3e3ff"/>
                </a:solidFill>
                <a:latin typeface="Arial"/>
              </a:rPr>
              <a:t>Хозяйство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Кавказ – это всесоюзная здравница, житница и кузница.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х\ф «Кавказская пленница»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Промышленность.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шиностроение: более 50% электровозов в г. Новочеркасске;      50% паровых котлов в г. Таганроге;  20% зерновых комбайнов в г. Ростове-на-Дону завод «Ростсельмаш» и в г. Таганрог. Атомное машиностроение в г. Волгодонске завод «Атоммаш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31T21:03:39Z</dcterms:created>
  <dc:creator>Марина Ивановна</dc:creator>
  <dc:description/>
  <dc:language>en-US</dc:language>
  <cp:lastModifiedBy>User</cp:lastModifiedBy>
  <dcterms:modified xsi:type="dcterms:W3CDTF">2019-12-06T15:18:10Z</dcterms:modified>
  <cp:revision>4</cp:revision>
  <dc:subject/>
  <dc:title>Северо – Кавказский экономический район </dc:title>
</cp:coreProperties>
</file>