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4CE-2CC0-4DFD-9071-2F1E579D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0DC-790D-41D5-A13A-71CF90B2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FCB-9896-4950-BFF5-05A98016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BFB-60FA-4EB8-9D70-34F2C438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C030B-EB65-4FB8-98F6-E59E42F5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3C430-FE32-48DB-9B06-E5FB584E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6AF57-2809-4D5B-8F2A-86242DEF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D6D5F-F6E0-48CA-B628-8E6ACB0E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88FDB-A2DD-47B5-9D5D-3822AD51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FA062-E1CE-4FCD-A847-AA5575DE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CBA56-210D-4CE4-86C7-4FE113D8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D59-15E6-4314-9EB0-3A211FDB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CED93-BFAA-49FC-A6C1-A8C649C3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2F2FF-D049-4A6B-AF1B-DDAAC82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4E417-DE23-4835-B2E1-A98DB853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CC930-AEEC-4B23-8EDD-BE4D9797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72A6D-1627-46E3-9E30-A2EB3F5A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85A-34AD-43A8-A1DD-3E7F38BD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BFC-2866-43FC-B04E-4790A4B7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170-8A21-404B-8378-6AA89CB8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FBA-DD69-4195-BCFA-1780507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070-06FA-48DA-B391-CEFFBDB8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6D1-5D37-4175-8253-2386452C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8F1-1D4B-4013-AEF4-8F08E4B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720-4FB6-4268-93FC-C5505820EB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17CE-F745-42D7-8FF8-64F89C3F24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еверо – Кавказский</a:t>
            </a:r>
            <a:br>
              <a:rPr sz="5400"/>
            </a:b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экономический район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мышлен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щевая промышленность: мукомольно-крупяная, маслобойная (подсолнечное масло), консервная, виноделие и друг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мическая промышленность: один из крупнейших в РФ завод по производству азотных удобрений в г. Невинномысс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пливная промышлен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буровая скважина России дала нефть в 1860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50-х годов 20 века Кавказ был основной нефтяной базой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имеет локальный характер, так как запасы топливных ресурсов сильно истощ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е с\х культуры: озимая пшеница, кукуруза, рис (в низовьях рек). По мнению специалистов краснодарский рис – самый качественный в мире.   В Краснодарском крае выращивают самый северный в мире ч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вцеводство: тонкорунное – на равнинах, грубошёрстное – в предгорьях и г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новодство, птицеводство. Возрождается конево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 всеми видами и отличается высокой степенью разви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пнейшие нефтеналивные морские порты: г. Новороссийск и г. Туапсе - на  Чёрном море и г. Махачкала – на Каспийском море-озер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родные промысл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ул Унцукуль. Здесь изготавливают предметы быта из кизилового дерева с тонкой насечкой из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ёлок Кубачи (турец. кольчужники). Здесь производили кольчуги и оружие, сейчас производят украшения, посуду и др. из сереб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вроткачество. 1 место в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я России. Хозяйство и географические районы. 9кл.: учеб. для общеобразоват. учреждений/ под ред. А.И. Алексеева. – 11-е изд.: - м.: Дрофа,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я России. Население и хозяйство. 9кл.:учеб. Для общеобразоват. учреждений \ В.П. Дронов, В.Я. Ром. – 10-е изд. – М.: Дрофа,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я России: 8-9 классы. Материалы для подготовки к экзамену: учебно-методическое пособие/ Е.М. Курашева. – М.: Издательство «Экзамен»,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ста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Адыгея (г. Майкоп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Кабардино – Балкария (г.Нальчи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ачаево – Черкесская Республика   (г. Черкесс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Северная Осетия – Алания (г. Владикавка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Ингушетия (г. Магас)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ста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ченская Республика (г. Грозны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Дагестан (г. Махачкал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товская область (г. Ростов-на-Дон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одарский край (г. Краснод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ропольский край (г. Ставропол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обенности ЭГП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йон пограничный (Украина, Абхазия, Грузия, Южная Осетия, Азербайджа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ет выход к морям: Азовскому, Чёрному. Выход к Каспийскому морю-озе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ничит с высокоразвитыми экономическими районами: Центрально-Чернозёмным и Поволжь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енность населения – 18 млн. человек (13% населения РФ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яя плотность населения – 50 чел. на кв. 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П=Р-С полож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агестане наибольший ЕП В РФ: +13 промилле (+13 чел. на 1000 чел. 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многонациональный район Р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спублики с преобладанием коренного населения: Дагестан (80%), Чеченская и Ингушская (71%), Кабардино – Балкарская (58%), Северо - Осетинская (53%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спублика с равенством коренного и русского населения: Карачаево – Черкесская (41% и 42%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спублика с преобладанием русского населения: Адыгея (68%, адыгейцы – 22%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ая часть кореннных народов исповедует ислам. Осетины – православные христи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урбанизации - 57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од – миллионер – Ростов-на-Д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льские поселения в Предкавказье – станицы (до 20000 чел.), в горах – ау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 миграционный поток нас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йон обеспечен трудовыми ресур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Хозяйств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авказ – это всесоюзная здравница, житница и кузница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х\ф «Кавказская пленница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омышленность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остроение: более 50% электровозов в г. Новочеркасске;      50% паровых котлов в г. Таганроге;  20% зерновых комбайнов в г. Ростове-на-Дону завод «Ростсельмаш» и в г. Таганрог. Атомное машиностроение в г. Волгодонске завод «Атоммаш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03:39Z</dcterms:created>
  <dc:creator>Марина Ивановна</dc:creator>
  <dc:description/>
  <dc:language>en-US</dc:language>
  <cp:lastModifiedBy>User</cp:lastModifiedBy>
  <dcterms:modified xsi:type="dcterms:W3CDTF">2019-12-06T15:18:10Z</dcterms:modified>
  <cp:revision>4</cp:revision>
  <dc:subject/>
  <dc:title>Северо – Кавказский экономический район </dc:title>
</cp:coreProperties>
</file>