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17.png" ContentType="image/png"/>
  <Override PartName="/ppt/media/image32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D8EA-AB55-451F-BE47-3F0C2576E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7955-0515-404B-990B-2AFAE5C4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30F7-8C91-4F27-A246-D2099EEFD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DE32-862A-4377-882B-845270EF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CA87-6A22-4A5D-99F2-FB28CC56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A598-887B-4EAD-AF2C-A888CB13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4355-D0EE-49B3-BFB0-2323348E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C213-F187-48FE-8C49-7EF156A3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1705-1BCF-47CD-BE09-085FFFC8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F86B-3E12-4AC2-B9BB-E17CAC60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7530-0B5D-4BD2-BF73-A978CCB8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F5AD-BB58-4588-A83F-198164A1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E9B5B6-5DC1-4E67-839F-26783C8F75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66600" y="-33480"/>
            <a:ext cx="9196200" cy="6891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е первое открытие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ис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7758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талова Елиза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ца 4 "А" класса МБОУ СОШ № 11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хорова Александра Александ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 высше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0080" y="-31680"/>
            <a:ext cx="7620120" cy="33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68400" y="-33480"/>
            <a:ext cx="9198000" cy="68914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3600" y="139320"/>
            <a:ext cx="84009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1752 году М. В. Ломоносов, проводивший опыты по созданию цветного стек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мальты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получил от Сената разрешение на строительство Усть - Рудицкой фаб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-66600" y="1509840"/>
            <a:ext cx="4282920" cy="5349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657680" y="3598920"/>
            <a:ext cx="4473720" cy="3259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656240" y="1508040"/>
            <a:ext cx="4475160" cy="20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68400" y="-33480"/>
            <a:ext cx="9198000" cy="6891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2400" y="-6192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61800" y="114480"/>
            <a:ext cx="8350560" cy="67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68400" y="-33480"/>
            <a:ext cx="9198000" cy="6891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7600" y="226800"/>
            <a:ext cx="8612280" cy="64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нце XIX — начале XX века, в период расцвета бисерного рукоделия во многих странах мира и в России, наряду с привозным использовался бисер, изготовляемый в небольших кустарных мастерских Киевской, Московской, Казанской и других губерний для нужд местных ювелиров, ремесленников и рукодельниц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ый этап в истории бисероплетения начался с основания производства бисера в Японии. В 1949 году основана компания Miyuki, а в 1957 году появилась компания TOHO. Оба производителя выпускают бисер высшего качества и постоянно пополняют свой ассортимент новыми формами и оттенка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сер и стеклярусы в Россию завозят из других стран, преимущественно из Китая и Чехии. Своего производства бисера и стеклярусов до сих пор в России н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66600" y="-46080"/>
            <a:ext cx="9196200" cy="68914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225360"/>
            <a:ext cx="79534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ывается, в мире насчитывается 19 видов бис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63520" y="568440"/>
          <a:ext cx="8706960" cy="6278040"/>
        </p:xfrm>
        <a:graphic>
          <a:graphicData uri="http://schemas.openxmlformats.org/drawingml/2006/table">
            <a:tbl>
              <a:tblPr/>
              <a:tblGrid>
                <a:gridCol w="8706960"/>
              </a:tblGrid>
              <a:tr h="311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клярусы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езки стеклянной трубочки длиной 3 мм и боле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човый  (с серебряной нить, «огонёк» 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Хамелеон»  (с цветной нитью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ивной (мокрый) бисе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ламутровый (цейлонский)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озрачный натуральный бисер (естественный, обычный), матовый, глух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ллический бис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естящий (люстровы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крашенный внут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инск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ск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фальтовый (графитовы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ёрт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сат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уж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нзиновый (переливчаты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зрачный натуральный (естественный обычны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аморный(меланжевы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золотой нить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окнистый(снежок, соломк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318360" y="2622600"/>
            <a:ext cx="2811240" cy="422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68400" y="-42840"/>
            <a:ext cx="9198000" cy="6891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9600" y="136440"/>
            <a:ext cx="8626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хочу вам представить свои готовые рабо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Я уже вышила иконы по именам святых покровителей нашей семь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059680" y="3441600"/>
            <a:ext cx="876240" cy="58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-68400" y="3979800"/>
            <a:ext cx="3819600" cy="2868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-68400" y="1230480"/>
            <a:ext cx="3819600" cy="2868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319720" y="1244520"/>
            <a:ext cx="3800520" cy="2849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5321160" y="3979800"/>
            <a:ext cx="3808440" cy="2857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3327480" y="1244520"/>
            <a:ext cx="2425680" cy="1819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 rot="5400000">
            <a:off x="3371760" y="2815920"/>
            <a:ext cx="2340000" cy="2425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3319560" y="4892760"/>
            <a:ext cx="243504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01240" cy="6894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7080" y="0"/>
            <a:ext cx="8240760" cy="15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гда ребята в классе увидели мои поделки, они попросили меня провести обучающее занятие. Я подготовила все необходимое для работы с одноклассник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участниками кружка "Бисероплетение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181296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321600" y="181296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0" y="473400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6321600" y="473400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3189240" y="181296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3189240" y="4734000"/>
            <a:ext cx="287964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66600" y="-98280"/>
            <a:ext cx="9194760" cy="68896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3760" y="510840"/>
            <a:ext cx="8572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ы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елом, я считаю, что достигла своей цели: рассказала и показала вам, что и как можно сделать из маленьких цветных бусинок. Я увидела живой интерес в ваших глазах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е кажется, что равнодушных слушателей не был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ень жаль, что в нашей стране нет производства бисера. Когда я вырасту, то мечтаю открыть в моем родном городе фабрику по изготовлению бисера. Мне кажется, что жизнь многих людей заиграет разными красками блестящи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ных бусинок. Желаю всем яркого и всегда позитивного настроения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20600" y="5741640"/>
            <a:ext cx="585468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93600" y="-14400"/>
            <a:ext cx="9196200" cy="68900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57280" y="522360"/>
            <a:ext cx="808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икипе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Беседа с ма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Занятия внеурочной деятельности по бисероплет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оходы в музеи и хра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Инструкции по работе с вышив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024360" y="3486240"/>
            <a:ext cx="3041640" cy="30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54000" y="-33480"/>
            <a:ext cx="9196560" cy="6891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0360" y="906120"/>
            <a:ext cx="8348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ль: обобщение знаний и распространение собственного опы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3880" y="4089240"/>
            <a:ext cx="816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ихотворен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Письмо о пользе стекла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 в бисере Стекло, подобяся жемчуг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имо по всему земному ходит кр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 красится народ в полунощных степя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 красится Арап на южных берегах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. В. Ломоно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68400" y="12600"/>
            <a:ext cx="9198000" cy="6897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8600" y="185400"/>
            <a:ext cx="7959600" cy="31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Узнать и рассказать об истории возникновения, распространения и применении бисера в жизни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Классифицировать виды бисера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демонстрировать работы из бисера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Привлечь интерес окружающих меня людей к бисероплетению и вышиванию бисе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66600" y="-9360"/>
            <a:ext cx="9196200" cy="6891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024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 чего все начало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-68400" y="3747960"/>
            <a:ext cx="4138920" cy="3110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962600" y="3699000"/>
            <a:ext cx="4167000" cy="3159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-66600" y="773280"/>
            <a:ext cx="4137120" cy="2976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4991040" y="774720"/>
            <a:ext cx="413856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440" y="17640"/>
            <a:ext cx="9133200" cy="6840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одской конкурс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Чудеса Новосибирска глазами детей», посвященный 120-летию родного гор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Я сделала бисером в технике мозаика изображение любимой горожанами клумбы “Часы”и заняла второе мес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33920" y="1800360"/>
            <a:ext cx="4367160" cy="3743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16000" y="2735280"/>
            <a:ext cx="4103640" cy="39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20" y="14400"/>
            <a:ext cx="9176040" cy="68738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8520" y="14040"/>
            <a:ext cx="8399520" cy="25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третьем  классе на каникулах в марте мы с учителем, одноклассниками и мамой ездили в Санкт-Петербург. Там мы были на экскурсиях во многих православных храмах, в Эрмитаже. Санкт-Петербург и его музеи, храмы вдохновили на новый этап работы-вышивка бисером икон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от моя первая икона "Николай Чудотворец". Но об этом позж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016000" y="2786040"/>
            <a:ext cx="557208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80" y="23760"/>
            <a:ext cx="9151920" cy="68565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5880" y="239400"/>
            <a:ext cx="874548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науки традиционно связывает возникновения стеклоделия с Египтом, основанием чему служат многолетние свидетельства, полученные в археологических раскопках. Так почти 6 тыс. лет тому назад возникло стеклоделие и появились первые стеклянные бусы разных форм и размеров.в Египте из непрозрачного стекла, который по – арабски назывался бусра или бус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952720" y="2963880"/>
            <a:ext cx="3181320" cy="2165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680" y="4314960"/>
            <a:ext cx="3436920" cy="2565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775480" y="4314960"/>
            <a:ext cx="338292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68400" y="-33480"/>
            <a:ext cx="9198000" cy="68914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880" y="135000"/>
            <a:ext cx="8745480" cy="18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чале нашей эры стеклоделие появилось в Риме и других городах Италии, в Греции, Галлии — территория нынешней Франции, Испании, Португалии, Германи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ротяжении нескольких веков бисер ввозили в Россию из Венеции и Германии. В 15 веке привозной бисер применялся русскими рукодельницами наравне с драгоценными камнями и жемчугом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-66600" y="3527280"/>
            <a:ext cx="2820960" cy="3330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975280" y="3409920"/>
            <a:ext cx="3156120" cy="3448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981160" y="2166840"/>
            <a:ext cx="2857680" cy="26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640" y="-7920"/>
            <a:ext cx="9170640" cy="6865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32400" y="2406600"/>
            <a:ext cx="4660920" cy="44528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160" y="276120"/>
            <a:ext cx="8745480" cy="19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ое внимание развитию стеклоделия в России уделял Петр 1. Он отменил пошлины на стеклянные изделия, привлек для подготовки русских мастеров иностранных стеклоделов, посылал молодых россиян за границу учиться стекольному делу и, в частности, искусству изготовления бис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0520" y="2406600"/>
            <a:ext cx="4511880" cy="4451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5T06:11:31Z</dcterms:created>
  <dc:creator>Александра</dc:creator>
  <dc:description/>
  <dc:language>en-US</dc:language>
  <cp:lastModifiedBy/>
  <dcterms:modified xsi:type="dcterms:W3CDTF">2019-12-06T15:05:35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9.1.0.4746</vt:lpwstr>
  </property>
</Properties>
</file>