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F9B7-CB32-42D4-A233-C8038EB4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41C-6D06-450A-99CD-D2B9EBAE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EFF-8037-4326-B749-E915E8BC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23BC-2E63-40D2-B34C-EDC4D5ED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4C58-A60B-4C7F-AF11-2861E5EA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05F-3B41-443E-BD4A-1A73ADBC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C327-843A-4047-8DD8-BCF7CFEA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A063-18D1-4549-BD73-A0033337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98D-3879-4193-83BF-06718806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D09-8857-4056-A9AB-59D3361E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A6F-29EC-4525-8BB9-44FBB5D8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BF7-1C8C-47B4-BF2E-B3E02727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F5BC-7699-4FA5-9B65-8294367EF4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Е ДОШКОЛЬНОЕ ОБРАЗОВАТЕЛЬНОЕ УЧРЕЖДЕНИ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«ДС № 6 «Колобок» комбинированного вида городского округа Стрежевой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спользование технологи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-Джо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работе с дошкольник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257800" y="4571640"/>
            <a:ext cx="3657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5186160" y="5181480"/>
            <a:ext cx="372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тель-дефектолог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рисова Марина Виктор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60958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Ум ребенка находится на кончиках его пальцев.</a:t>
            </a:r>
            <a:br>
              <a:rPr sz="4400"/>
            </a:br>
            <a:br>
              <a:rPr sz="44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. А. Сухомлин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https://ae01.alicdn.com/kf/HTB1jj9MLpXXXXXkapXXq6xXFXXXc/Hot-Sale-Finger-Massage-Ring-Acupuncture-Ring-Health-Care-Body-Massager-Relax-Hand-Massage-Finger-lose.jpg"/>
          <p:cNvPicPr/>
          <p:nvPr/>
        </p:nvPicPr>
        <p:blipFill>
          <a:blip r:embed="rId2"/>
          <a:stretch/>
        </p:blipFill>
        <p:spPr>
          <a:xfrm>
            <a:off x="457200" y="2971800"/>
            <a:ext cx="3273480" cy="327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4771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у-Джок – это одно из направлений восточной медицины, южно – корейским профессором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ак Чже В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https://2.bp.blogspot.com/-nc_Fos9-meU/V5xTdDJYeUI/AAAAAAAAFSc/8erxIYgYG4g4FeIz5LwnZvXt3d3Wgn2YQCLcB/s1600/%25D0%25AF139.jpg"/>
          <p:cNvPicPr/>
          <p:nvPr/>
        </p:nvPicPr>
        <p:blipFill>
          <a:blip r:embed="rId2"/>
          <a:stretch/>
        </p:blipFill>
        <p:spPr>
          <a:xfrm>
            <a:off x="1981080" y="3048120"/>
            <a:ext cx="294480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7" descr="0_c6_21695995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у» - кисть          «Джок» - сто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Содержимое 4" descr="su_dzhok - копия.jpg"/>
          <p:cNvPicPr/>
          <p:nvPr/>
        </p:nvPicPr>
        <p:blipFill>
          <a:blip r:embed="rId2"/>
          <a:stretch/>
        </p:blipFill>
        <p:spPr>
          <a:xfrm>
            <a:off x="4724280" y="1447920"/>
            <a:ext cx="4191120" cy="4952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6" name="Picture 18" descr="кисть"/>
          <p:cNvPicPr/>
          <p:nvPr/>
        </p:nvPicPr>
        <p:blipFill>
          <a:blip r:embed="rId3"/>
          <a:stretch/>
        </p:blipFill>
        <p:spPr>
          <a:xfrm>
            <a:off x="304920" y="1447920"/>
            <a:ext cx="4124160" cy="4952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5" descr="0_c6_21695995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Су-Джок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стимулято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" descr="SDC17221"/>
          <p:cNvPicPr/>
          <p:nvPr/>
        </p:nvPicPr>
        <p:blipFill>
          <a:blip r:embed="rId2"/>
          <a:stretch/>
        </p:blipFill>
        <p:spPr>
          <a:xfrm>
            <a:off x="225360" y="1749600"/>
            <a:ext cx="4048200" cy="4200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SDC17222"/>
          <p:cNvPicPr/>
          <p:nvPr/>
        </p:nvPicPr>
        <p:blipFill>
          <a:blip r:embed="rId3"/>
          <a:stretch/>
        </p:blipFill>
        <p:spPr>
          <a:xfrm>
            <a:off x="4718160" y="1749600"/>
            <a:ext cx="4206600" cy="4200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5" descr="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к пользоватьс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6400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ассаж шарико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Поскольку на ладони находится множество биологически активных точек, эффективным способом их стимуляции является массаж специальным шариком. Прокатывая шарик между ладошками, дети массируют мыщцы рук. В каждом шарике есть «волшебное» колечк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ассаж эластичным кольц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 Кольцо нужно надеть на палец и провести массаж зоны соответствующей пораженной части тела, до ее покраснения и появления ощущения тепла. Эту процедуру необходимо повторять несколько раз в де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23724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0"/>
            <a:ext cx="6172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-Джок технология – это высокоэффективный, универсальный, доступный и абсолютно безопасный метод самооздоровления и самоисцеления путем воздействия на активные точки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, бесспорно, оказывает стимулирующее влияние на развитие ре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четание пальчиковой гимнастики, самомассажа с упражнениями, позволяет значительно повысить эффективность коррекционно-образовательной деятельности как в детском саду, так и до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23724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6477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8T03:46:11Z</dcterms:created>
  <dc:creator>Пользователь</dc:creator>
  <dc:description/>
  <dc:language>en-US</dc:language>
  <cp:lastModifiedBy>User</cp:lastModifiedBy>
  <cp:lastPrinted>2015-03-04T12:59:56Z</cp:lastPrinted>
  <dcterms:modified xsi:type="dcterms:W3CDTF">2019-11-13T15:39:49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