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0DF6-972B-478F-A056-C8257B532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56D3-21A4-44F4-B38D-CD8D1B8A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08CC-A45E-436A-8B5C-F9AE600A2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88AB-18F9-46F8-8DF0-0813439AB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A32C-9217-43D9-BDB1-B0BBB2E7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78D8-EC6C-4794-99E7-FDC0C721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D6F8-31AA-4350-8862-04F90217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D60D-2850-426A-B4D3-8CA0D08D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AC3F-85CD-4041-9666-51E11DC8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663E-01A5-45BC-B229-FA6C27F9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D0AE-C31D-4829-9D7F-12BA69F1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F325-7182-4677-A7F6-CE1F689A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88A9-BAFF-4F5F-A251-AF0ED8EFF5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Такие разные глобусы</a:t>
            </a:r>
            <a:br>
              <a:rPr sz="48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(проек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8840" y="4114440"/>
            <a:ext cx="38862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ла ученица 5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ременко Анаста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КОУ СОШ № 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. Советское Ру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ководитель учитель географ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га Г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глобус1"/>
          <p:cNvPicPr/>
          <p:nvPr/>
        </p:nvPicPr>
        <p:blipFill>
          <a:blip r:embed="rId2"/>
          <a:stretch/>
        </p:blipFill>
        <p:spPr>
          <a:xfrm>
            <a:off x="457200" y="251460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узей глобу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6019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о единственное публичное собрание глобусов в ми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Экспонаты музе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1 музей глобусов"/>
          <p:cNvPicPr/>
          <p:nvPr/>
        </p:nvPicPr>
        <p:blipFill>
          <a:blip r:embed="rId1"/>
          <a:stretch/>
        </p:blipFill>
        <p:spPr>
          <a:xfrm>
            <a:off x="380880" y="990720"/>
            <a:ext cx="3706920" cy="3733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2 музей"/>
          <p:cNvPicPr/>
          <p:nvPr/>
        </p:nvPicPr>
        <p:blipFill>
          <a:blip r:embed="rId2"/>
          <a:stretch/>
        </p:blipFill>
        <p:spPr>
          <a:xfrm>
            <a:off x="4495680" y="914400"/>
            <a:ext cx="4422960" cy="2948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3 музей"/>
          <p:cNvPicPr/>
          <p:nvPr/>
        </p:nvPicPr>
        <p:blipFill>
          <a:blip r:embed="rId3"/>
          <a:stretch/>
        </p:blipFill>
        <p:spPr>
          <a:xfrm>
            <a:off x="1828800" y="2666880"/>
            <a:ext cx="2635200" cy="3962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4 музей"/>
          <p:cNvPicPr/>
          <p:nvPr/>
        </p:nvPicPr>
        <p:blipFill>
          <a:blip r:embed="rId4"/>
          <a:stretch/>
        </p:blipFill>
        <p:spPr>
          <a:xfrm>
            <a:off x="4724280" y="3733920"/>
            <a:ext cx="419112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дивительные глобу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6019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рта – самый большой в мире вращающийся глобус Земл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309564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Интерактивный глоб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интерактивный"/>
          <p:cNvPicPr/>
          <p:nvPr/>
        </p:nvPicPr>
        <p:blipFill>
          <a:blip r:embed="rId1"/>
          <a:stretch/>
        </p:blipFill>
        <p:spPr>
          <a:xfrm>
            <a:off x="2133720" y="1447920"/>
            <a:ext cx="464796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609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Глобусы еще долго будут служить людям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изучении материала по географии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у «Как человек открывал Землю», 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хотела узнать больше информации 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обусах и ответить на вопро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 появился первый глобу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й глобус самый древн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виды глобусов бываю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де можно увидеть сразу много глобус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ь ли необычные глобус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то такое «глобус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Первый  земной глобус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обус Кратес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й земной глобу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готовленный около 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т до н.э. Кратес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льским, живш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 Пергаме. Сама мод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наших дней не дош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становлена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са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глобус Кратеса"/>
          <p:cNvPicPr/>
          <p:nvPr/>
        </p:nvPicPr>
        <p:blipFill>
          <a:blip r:embed="rId1"/>
          <a:stretch/>
        </p:blipFill>
        <p:spPr>
          <a:xfrm>
            <a:off x="609480" y="1676520"/>
            <a:ext cx="37735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Самый</a:t>
            </a: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древний</a:t>
            </a: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глоб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670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ев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обу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торый дошел до нас, бы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 в 1492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мецким уче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хайм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глобус Бехайма"/>
          <p:cNvPicPr/>
          <p:nvPr/>
        </p:nvPicPr>
        <p:blipFill>
          <a:blip r:embed="rId1"/>
          <a:stretch/>
        </p:blipFill>
        <p:spPr>
          <a:xfrm>
            <a:off x="685800" y="1676520"/>
            <a:ext cx="34894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Географический глоб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й популяр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матривая  та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обус, можно увид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по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риков, рек, озе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, океанов и друг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ектов физиче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глобус1"/>
          <p:cNvPicPr/>
          <p:nvPr/>
        </p:nvPicPr>
        <p:blipFill>
          <a:blip r:embed="rId1"/>
          <a:stretch/>
        </p:blipFill>
        <p:spPr>
          <a:xfrm>
            <a:off x="95400" y="1600200"/>
            <a:ext cx="46479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Политический глоб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бус показыв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итическое устрой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неты. На нем указ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ницы стран, столиц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ода, важные морские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хопутные пу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удобства просмо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ны выкрашены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ные цветовые оттен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полит глобус1"/>
          <p:cNvPicPr/>
          <p:nvPr/>
        </p:nvPicPr>
        <p:blipFill>
          <a:blip r:embed="rId1"/>
          <a:stretch/>
        </p:blipFill>
        <p:spPr>
          <a:xfrm>
            <a:off x="380880" y="1295280"/>
            <a:ext cx="3886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Рельефный глоб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агодаря та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струкции, 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ем изуч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льеф поверх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ы (гор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вышенности 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угие физ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екты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рельефный глобус 1"/>
          <p:cNvPicPr/>
          <p:nvPr/>
        </p:nvPicPr>
        <p:blipFill>
          <a:blip r:embed="rId1"/>
          <a:stretch/>
        </p:blipFill>
        <p:spPr>
          <a:xfrm>
            <a:off x="609480" y="1447920"/>
            <a:ext cx="34466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Звездный глоб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строномами д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ения звезд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звездный глобус 1"/>
          <p:cNvPicPr/>
          <p:nvPr/>
        </p:nvPicPr>
        <p:blipFill>
          <a:blip r:embed="rId1"/>
          <a:stretch/>
        </p:blipFill>
        <p:spPr>
          <a:xfrm>
            <a:off x="380880" y="1676520"/>
            <a:ext cx="4267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06:19:22Z</dcterms:created>
  <dc:creator>Чекунова Анна</dc:creator>
  <dc:description/>
  <dc:language>en-US</dc:language>
  <cp:lastModifiedBy>Домовой</cp:lastModifiedBy>
  <dcterms:modified xsi:type="dcterms:W3CDTF">2019-12-06T20:49:50Z</dcterms:modified>
  <cp:revision>12</cp:revision>
  <dc:subject>география</dc:subject>
  <dc:title>Такие разные глобус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