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4D3-5348-4EF6-AD08-679ECD76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B2C-FD11-4691-97CD-C5033FD8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F56-05CE-4CB6-91D7-F0779D8F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EF0-DBA1-42DF-B3D6-4E220CA0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B5A8-4032-4D67-A7CD-8F914B2F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99DB-D1E3-4C9C-B66C-EA0D9B5E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7CE0-ABD8-483C-A9B8-C8473415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89D2-E25F-4732-97A3-FDC43414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1663-D9CB-48E7-A6B7-03139FF6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21A9-25F6-4A77-AE6A-1B75E7DD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6809-CC4F-4EAE-A4FE-128F85D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7D4-9078-438E-992F-5BE60F04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9FA1-9763-4DB6-A058-5191FCC0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A6EB-58DB-4303-A042-5436633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84B4-4210-4612-800A-8B6FCF7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F07C-17AC-4835-9D40-94792F35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9FA5-F352-46DC-AED7-55AF584B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C054A-7122-404E-B67D-5467B966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0ADE-F8CA-499C-8398-AD6E2028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BC19-4ABA-4CF9-B4B5-B6237E32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C262-1057-4648-8216-87524D7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478E-DC13-45FA-B473-B07BFDC5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E94-A8CA-45BD-87A1-9431D23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04D8-DF88-45C8-804B-ABC77A19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E9FA-45F7-4F75-BB90-06EA0CAB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19E2-E3F3-44EA-9C85-BAC1329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2422-1F7C-4735-8198-621D785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03C9-40E9-42DA-AF57-9AA7A28B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BB7A-80EC-4F54-B988-E96223FA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22FA-1253-45CE-8B96-729C30B2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1FC2-E2CA-48F7-8936-38B9C784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DD3A2-9613-4A0F-9082-B032494D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4C8C-E305-40A0-B403-3209C78E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F12-5439-4F16-A1BE-7C3AFD50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0402-4E9B-4F2A-A3FD-55331F77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C69B-906A-4BB6-8DFB-C310CC4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23D3-457A-4FEE-9DD4-8A5B61D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5AE2-9409-456E-93A5-3502827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2C2E4-0FD5-4990-BC05-8FFAE4B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743C-87AA-4A02-9690-F071B3A1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0F66E-F3B0-4D4E-99CD-4DF39E29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2BDA-4E7E-4BDF-A87F-12560A07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CE390-0A3D-4CE6-B481-FBFB82AF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F9D-787E-43BD-948B-D16A039A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4D0-7AB9-45D4-846F-6066C84D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936-5E87-4651-ABF4-5ABC9318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F72-9668-4DC8-B528-F6C70EE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D84-D0EA-49EB-8C8B-68DBF08B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D98FA-F8AD-47E5-806D-E1916FBAA330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1F533-6785-4033-AC09-73AE4E6D5230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04F3F-4797-4AEE-A0A9-7866CCF1C597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E2189-A494-471A-98B5-AC2FFCAE8041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Целеполагание и планирование деятельности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блемная ситуац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Девушка считает, что обладает хорошими голосовыми данными. Ее амбиции направлены в сторону успешной певческой карьеры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роходит определенное время, а карьера так и не складывается. 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очему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Характеристики целе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иоритетность – первостепенность и градированнос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Объемность – ближайшие и отдаленные цел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Формат конечн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Содержимое 3" descr="https://pp.vk.me/c619231/v619231958/196bd/KhubTdkoWTo.jpg"/>
          <p:cNvPicPr/>
          <p:nvPr/>
        </p:nvPicPr>
        <p:blipFill>
          <a:blip r:embed="rId1"/>
          <a:srcRect l="0" t="9123" r="0" b="0"/>
          <a:stretch/>
        </p:blipFill>
        <p:spPr>
          <a:xfrm>
            <a:off x="987480" y="1249200"/>
            <a:ext cx="8289720" cy="44150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1851120" y="5634720"/>
            <a:ext cx="71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нкретна, измерима, достижима, согласована с другими целями, определена в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Задания для групп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Сформулируйте ближайшие и отдаленные цели относительно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1 группа – дружб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2 группа – школ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3 группа – родителе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4 группа - здоровь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4 вопроса планирова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Содержимое 3" descr="https://pp.vk.me/c619231/v619231958/196c6/rjj9uErm2Mw.jpg"/>
          <p:cNvPicPr/>
          <p:nvPr/>
        </p:nvPicPr>
        <p:blipFill>
          <a:blip r:embed="rId1"/>
          <a:stretch/>
        </p:blipFill>
        <p:spPr>
          <a:xfrm>
            <a:off x="1341360" y="1538280"/>
            <a:ext cx="73789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Линия времен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Содержимое 3" descr=""/>
          <p:cNvPicPr/>
          <p:nvPr/>
        </p:nvPicPr>
        <p:blipFill>
          <a:blip r:embed="rId1"/>
          <a:stretch/>
        </p:blipFill>
        <p:spPr>
          <a:xfrm>
            <a:off x="193680" y="1962000"/>
            <a:ext cx="96789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11:10:42Z</dcterms:created>
  <dc:creator>User</dc:creator>
  <dc:description/>
  <dc:language>en-US</dc:language>
  <cp:lastModifiedBy>SilVa</cp:lastModifiedBy>
  <dcterms:modified xsi:type="dcterms:W3CDTF">2019-12-06T04:51:47Z</dcterms:modified>
  <cp:revision>11</cp:revision>
  <dc:subject/>
  <dc:title>Целеполагание и планирование деятельности</dc:title>
</cp:coreProperties>
</file>