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CB1-6B8F-4DAD-8C0D-0034BFB9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4AB-1F11-442A-9ACF-42557CC5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DCB-2657-4521-B8EE-87E4AEF8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6BA-95D2-4D53-B0B1-0D5346C7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DAE-107F-49AB-95A3-EAA904A6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39D-428B-423F-B890-6714FD8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AE9-0ACC-4029-BC4E-9A5F0F9F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809-0BA2-4032-A0B8-67B6CD9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BFC-E137-43F6-B4F1-A8C41D8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1D5-BC52-4255-8B95-3A9F8C0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35B-3C7A-4A2B-AA3D-8D70EB14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A95-BDB5-42E6-A0C7-FA993FE0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2DC6-CF78-42A0-A7D4-9B182104A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В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к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т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р</a:t>
            </a: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Ум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умницы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Учитель информатики Петро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8.Для чего же этот ящик?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Он в себя бумагу тащит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И сейчас же буквы, точки,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Запятые – строчка к строчке –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Напечатает картинку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Ловкий мастер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Струйный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9.Без меня сплошной бардак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Что ты делаешь? И как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Даже если постараться,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Без меня не разобраться!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И не слушай никого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Не увидишь ничего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67280" y="3068640"/>
            <a:ext cx="433440" cy="431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69228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350028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2446920" y="2097720"/>
            <a:ext cx="86544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629800">
            <a:off x="5255280" y="216900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114800">
            <a:off x="2627280" y="83628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726200">
            <a:off x="4859280" y="76500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403400">
            <a:off x="2626920" y="335736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7456200">
            <a:off x="5182200" y="325044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725800">
            <a:off x="2242800" y="17499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178000">
            <a:off x="3364560" y="182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742800">
            <a:off x="4466880" y="1444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141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+ бу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90600">
            <a:off x="4571280" y="422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S L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150400">
            <a:off x="3467160" y="44791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464000">
            <a:off x="2204280" y="4146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31417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 + SHI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6093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(удаляет символ, стоящий справа от курсо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609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перевод курсора на новую ст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0930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SPACE (удаляет символ, стоящий слева от курс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093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+ буква (написать заглавную бук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950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S LOSK (переключатель: первое нажатие её включает режим ввода прописных букв, а следующее -выключа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093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(перемещение курсора в начало с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616572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(перемещение курсора в конец с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021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RL + SHIFT (переключения клавиатуры с режима ввода русских букв на режим ввода латинских букв и обрат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Конкур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1. Полный набор символов для код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2. Определенная последовательность команд, приводящая от исходных данных к конечному резуль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3. Родина папуа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4. Восемь 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 Графическая форма записи алгорит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6. удар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7. мера м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8. бывает в начале 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9. модель земного ш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10. Наиболее распространенный носитель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11. Часть экр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2. учебная оценка, не пользующаяся популярн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13. Приложение не реагирует на за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14. сигнал на перемен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5. Ломаная пря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6. Тот, кто выполняет заданные коман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7. наука, работающая с информаци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18. Всемирная пау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19. Стандартное устройство для ввода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20. устройство, на котором можно писать, считать, создавать мультфиль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21. часть клавиату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2. Устройство для работы с Интер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23. Устройство, предназначенное для вывода информации на экра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4. Точка или другой знак, помещенный перед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25. Материальный объект для хранения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26. Запись звука на бумаг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27. Предприятие связи, осуществляющее передачу текст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28. Человек, составляющий програм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29. Выводит информацию на бума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30. Исправление ошибок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31. Бывает после дож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2. Устройство распознания изображ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33. В нем расположены все важные компоненты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34. Все команды, которые может выполнить исполни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35. Используется для засекречивания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6. веревка для ботин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7. Знаковая система представления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38. Ссылка на файл, расположенная на 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39. Кисло-сладкий фрук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40. Место на диске, имеющее св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1. Программа, которая позволяет создавать текстовы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5. Конкурс “Из двух слов 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третье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Из каждой пары слов путём перестановки букв составить третье слово – имя существительное, причём должны быть использованы все буквы. За каждое правильно составленное слово команда получает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Например:Охра + По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Паро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редставление ком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Команды называют свою команду, девиз и эмблему команды (до 3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1 команд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Кит + Рана , Парк + И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Arial"/>
              </a:rPr>
              <a:t>2 команд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Arial"/>
              </a:rPr>
              <a:t>Ров + Поза , Боб + Ус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3 команд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Вода + Ринг , Липа + Н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</a:rPr>
              <a:t>Конкурс “Отгадай предложение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Учащиеся должны расшифровать предложение. Задание оценивается в 2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ВОЛКОЗЕЛИСАДИЛИВУРЕК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КОЗАЯЦЫПЛЕНОКАПАЛИПУ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Конкурс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то первым собирет домино тот получает 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" descr="http://festival.1september.ru/articles/411311/img1.jpg"/>
          <p:cNvPicPr/>
          <p:nvPr/>
        </p:nvPicPr>
        <p:blipFill>
          <a:blip r:embed="rId2"/>
          <a:stretch/>
        </p:blipFill>
        <p:spPr>
          <a:xfrm>
            <a:off x="324000" y="184320"/>
            <a:ext cx="367956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81160" y="144360"/>
            <a:ext cx="31816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Слово ж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Конкурс «Отгадай загадки»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правильный ответ 1 бал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1. </a:t>
            </a: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Скромный серый колобок,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Длинный тонкий проводок,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Ну а на коробке –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Две или три кнопки.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В зоопарке есть зайчишка,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У компьютера есть ...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.А теперь, друзья, загадка!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то такое: рукоятка,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нопки две, курок и хвостик?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у конечно, это ...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Словно смелый капитан!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 на нем – горит экран.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Яркой радугой он дышит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 на нем компьютер пишет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 рисует без запинки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севозможные картинки.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верху машины всей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азмещается ..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4.Около дисплея – главный блок: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Там бежит электроток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К самым важным микросхемам.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Этот блок зовут 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5.По клавишам прыг да скок –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Бе-ре-ги но-го-ток! 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Раз-два и готово –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Отстукали слово! 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Вот где пальцам физкультура 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Это вот – 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6.В ней записаны программы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И для мамы, и для папы!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В упаковке, как конфета,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Быстро вертится 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7.И компьютеры порой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Говорят между собой,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Но для этого одна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Им штуковина нужна.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К телефону подключил –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Сообщение получил!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Вещь, известная не всем!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Называется ...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05:30:48Z</dcterms:created>
  <dc:creator>PC_WS</dc:creator>
  <dc:description/>
  <dc:language>en-US</dc:language>
  <cp:lastModifiedBy>user</cp:lastModifiedBy>
  <dcterms:modified xsi:type="dcterms:W3CDTF">2019-12-03T08:32:54Z</dcterms:modified>
  <cp:revision>6</cp:revision>
  <dc:subject/>
  <dc:title>Викторина  «Умники и умницы»</dc:title>
</cp:coreProperties>
</file>