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2D2-0DCC-4760-AF93-E761DE7F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860-8A5F-4FDE-A21C-70401CB2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4ED-15DF-44DD-BFC0-25D09A24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AD7-926F-4553-8340-CB7BB7A4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34A-C427-4A9E-A9FC-2ACFD80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CFA-FCD9-4C29-A903-AFC281B6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52D-4F31-4F14-BA39-AC97147F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C1B-6959-453F-B350-DD85A30D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FDA-BFD8-4BC4-B92C-B94EED34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0A8-3BAA-4A28-BE8B-602CCDE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E12-F2B2-45CC-9463-99CD6203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A11-2CD8-4216-BC11-BAA2D6BA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FA2A-ADA9-46E4-8133-726021D46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В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к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т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р</a:t>
            </a: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н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Ум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умницы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Учитель информатики Петрова Л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8.Для чего же этот ящик?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Он в себя бумагу тащит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И сейчас же буквы, точки,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Запятые – строчка к строчке –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Напечатает картинку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Ловкий мастер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Струйный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9.Без меня сплошной бардак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Что ты делаешь? И как?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Даже если постараться,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Без меня не разобраться!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И не слушай никого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Не увидишь ничего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67280" y="3068640"/>
            <a:ext cx="433440" cy="431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69228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350028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2446920" y="2097720"/>
            <a:ext cx="86544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629800">
            <a:off x="5255280" y="216900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114800">
            <a:off x="2627280" y="83628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726200">
            <a:off x="4859280" y="76500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403400">
            <a:off x="2626920" y="335736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7456200">
            <a:off x="5182200" y="3250440"/>
            <a:ext cx="865080" cy="23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725800">
            <a:off x="2242800" y="17499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178000">
            <a:off x="3364560" y="182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742800">
            <a:off x="4466880" y="1444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141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+ бу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890600">
            <a:off x="4571280" y="422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S L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150400">
            <a:off x="3467160" y="44791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464000">
            <a:off x="2204280" y="4146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31417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 + SHI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609300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(удаляет символ, стоящий справа от курсор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6093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перевод курсора на новую ст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609300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SPACE (удаляет символ, стоящий слева от курс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0930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+ буква (написать заглавную бук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950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S LOSK (переключатель: первое нажатие её включает режим ввода прописных букв, а следующее -выключа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093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(перемещение курсора в начало стро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616572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(перемещение курсора в конец стро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6021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RL + SHIFT (переключения клавиатуры с режима ввода русских букв на режим ввода латинских букв и обрат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Конкур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1. Полный набор символов для код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2. Определенная последовательность команд, приводящая от исходных данных к конечному результа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3. Родина папуа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4. Восемь 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. Графическая форма записи алгорит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6. удар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7. мера м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8. бывает в начале м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9. модель земного ш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10. Наиболее распространенный носитель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11. Часть экр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12. учебная оценка, не пользующаяся популярн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13. Приложение не реагирует на за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14. сигнал на перемен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15. Ломаная прям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6. Тот, кто выполняет заданные команд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7. наука, работающая с информаци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18. Всемирная пау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19. Стандартное устройство для ввода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20. устройство, на котором можно писать, считать, создавать мультфиль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21. часть клавиату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2. Устройство для работы с Интерн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23. Устройство, предназначенное для вывода информации на экра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4. Точка или другой знак, помещенный перед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25. Материальный объект для хранения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26. Запись звука на бумаг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27. Предприятие связи, осуществляющее передачу текстов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28. Человек, составляющий програм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29. Выводит информацию на бума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30. Исправление ошибок в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31. Бывает после дож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2. Устройство распознания изображ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33. В нем расположены все важные компоненты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34. Все команды, которые может выполнить исполнит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35. Используется для засекречивания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6. веревка для ботин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37. Знаковая система представления информ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38. Ссылка на файл, расположенная на 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39. Кисло-сладкий фрук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40. Место на диске, имеющее св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1. Программа, которая позволяет создавать текстовые 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5. Конкурс “Из двух слов 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третье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66"/>
                </a:solidFill>
                <a:latin typeface="Arial"/>
              </a:rPr>
              <a:t>Из каждой пары слов путём перестановки букв составить третье слово – имя существительное, причём должны быть использованы все буквы. За каждое правильно составленное слово команда получает 1 ба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66"/>
                </a:solidFill>
                <a:latin typeface="Arial"/>
              </a:rPr>
              <a:t>Например:Охра + По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66"/>
                </a:solidFill>
                <a:latin typeface="Arial"/>
              </a:rPr>
              <a:t>Парох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Представление кома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Команды называют свою команду, девиз и эмблему команды (до 3 бал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1 команд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Кит + Рана , Парк + И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Arial"/>
              </a:rPr>
              <a:t>2 команд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Arial"/>
              </a:rPr>
              <a:t>Ров + Поза , Боб + Ус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3 команд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Вода + Ринг , Липа + Н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Arial"/>
              </a:rPr>
              <a:t>Конкурс “Отгадай предложение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Учащиеся должны расшифровать предложение. Задание оценивается в 2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ВОЛКОЗЕЛИСАДИЛИВУРЕК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КОЗАЯЦЫПЛЕНОКАПАЛИПУ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Конкурс Дом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то первым собирет домино тот получает 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" descr="http://festival.1september.ru/articles/411311/img1.jpg"/>
          <p:cNvPicPr/>
          <p:nvPr/>
        </p:nvPicPr>
        <p:blipFill>
          <a:blip r:embed="rId2"/>
          <a:stretch/>
        </p:blipFill>
        <p:spPr>
          <a:xfrm>
            <a:off x="324000" y="184320"/>
            <a:ext cx="367956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81160" y="144360"/>
            <a:ext cx="318168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Arial"/>
              </a:rPr>
              <a:t>Слово ж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Конкурс «Отгадай загадки»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правильный ответ 1 бал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1. </a:t>
            </a: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Скромный серый колобок,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Длинный тонкий проводок,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Ну а на коробке –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Две или три кнопки.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В зоопарке есть зайчишка,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У компьютера есть ...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.А теперь, друзья, загадка!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Что такое: рукоятка,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Кнопки две, курок и хвостик?</a:t>
            </a:r>
            <a:br>
              <a:rPr sz="4000"/>
            </a:b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у конечно, это ...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Словно смелый капитан!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 на нем – горит экран.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Яркой радугой он дышит,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 на нем компьютер пишет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 рисует без запинки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севозможные картинки.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верху машины всей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азмещается ..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4.Около дисплея – главный блок: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Там бежит электроток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К самым важным микросхемам.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Этот блок зовут 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5.По клавишам прыг да скок –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Бе-ре-ги но-го-ток! 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Раз-два и готово –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Отстукали слово! 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Вот где пальцам физкультура </a:t>
            </a:r>
            <a:br>
              <a:rPr sz="4000"/>
            </a:br>
            <a:r>
              <a:rPr b="0" lang="ru-RU" sz="4000" spc="-1" strike="noStrike">
                <a:solidFill>
                  <a:srgbClr val="00cc66"/>
                </a:solidFill>
                <a:latin typeface="Arial"/>
              </a:rPr>
              <a:t>Это вот – 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6.В ней записаны программы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И для мамы, и для папы!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В упаковке, как конфета, </a:t>
            </a: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Быстро вертится 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7.И компьютеры порой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Говорят между собой,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Но для этого одна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Им штуковина нужна.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К телефону подключил –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Сообщение получил!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Вещь, известная не всем!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Называется ... 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3T05:30:48Z</dcterms:created>
  <dc:creator>PC_WS</dc:creator>
  <dc:description/>
  <dc:language>en-US</dc:language>
  <cp:lastModifiedBy>user</cp:lastModifiedBy>
  <dcterms:modified xsi:type="dcterms:W3CDTF">2019-12-03T08:32:54Z</dcterms:modified>
  <cp:revision>6</cp:revision>
  <dc:subject/>
  <dc:title>Викторина  «Умники и умницы»</dc:title>
</cp:coreProperties>
</file>