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B30-17EC-4D02-9167-262CA425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EB3-A3C9-4F2A-9D13-254E6AC2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593-04CB-480F-A585-9010D8C3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3EB-DC29-415E-94F6-93A6763C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82D-4166-4DCD-A837-DDFC3D71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89B-E995-46D2-8475-DFFA97C0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23C-B64F-47CB-BE4B-BF4A6BFB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5DD-1705-4566-B151-A1B68932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327-3570-4A11-AD63-F9290CEC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EF5-6007-499C-AD4E-339808A1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10E-D0DF-4BF4-BF5B-F0CAAF1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A5C-7936-42B6-8B24-9C4DFCFE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4539-F745-4472-925B-D3CDC95EB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000" y="4651200"/>
            <a:ext cx="855000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ff9e1d"/>
                </a:solidFill>
                <a:latin typeface="Calibri"/>
              </a:rPr>
              <a:t>22 ноября — День словарей и энциклопедий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Зеница, зерно, глядельце, зеркальце, человечек в глазу, круглая прорешка среди радужной перепонки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Calibri"/>
              </a:rPr>
              <a:t>Зрачок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3465360" y="2970360"/>
            <a:ext cx="37483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арушение равновесия в жизненных отправлениях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Calibri"/>
              </a:rPr>
              <a:t>Болезнь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1976400" y="1544760"/>
            <a:ext cx="65660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бщее название всякого твердого ископаемого, кроме твердых металлов, или крупица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Calibri"/>
              </a:rPr>
              <a:t>Камень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2600" y="2913120"/>
            <a:ext cx="48862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2666880" y="1544760"/>
            <a:ext cx="5875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Куча, толпа насекомых  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Calibri"/>
              </a:rPr>
              <a:t>Рой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3349800" y="2817720"/>
            <a:ext cx="53020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54200" y="1544400"/>
            <a:ext cx="80928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сякое многоствольное низменное растение, многолетнее растение с деревянистым стволом, малорослое дерев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832040" y="113796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Calibri"/>
              </a:rPr>
              <a:t>Куст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1440" y="2741760"/>
            <a:ext cx="548640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4120" y="-360"/>
            <a:ext cx="701496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e1d"/>
                </a:solidFill>
                <a:latin typeface="Calibri"/>
              </a:rPr>
              <a:t>Конкурс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60560" y="374400"/>
            <a:ext cx="8083440" cy="64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1" lang="ru-RU" sz="6400" spc="-1" strike="noStrike">
                <a:solidFill>
                  <a:srgbClr val="0d0d0d"/>
                </a:solidFill>
                <a:latin typeface="Calibri"/>
              </a:rPr>
              <a:t>Палка, прут, спица; заостренная с конца или с концов, железная, костяная, деревянная протыкалка с ушком или без ушка.   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4"/>
          <p:cNvSpPr/>
          <p:nvPr/>
        </p:nvSpPr>
        <p:spPr>
          <a:xfrm>
            <a:off x="6251400" y="6330960"/>
            <a:ext cx="122256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06120" y="1544400"/>
            <a:ext cx="794052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тверстие, проем в стене или ограде для прохода и проезда; широкие двери     для езды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79120" y="1137960"/>
            <a:ext cx="701532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Calibri"/>
              </a:rPr>
              <a:t>Ворота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1832040" y="2817720"/>
            <a:ext cx="669276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4120" y="0"/>
            <a:ext cx="701496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ff9e1d"/>
                </a:solidFill>
                <a:uFillTx/>
                <a:latin typeface="Calibri"/>
              </a:rPr>
              <a:t>Конкурс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12480" y="527040"/>
            <a:ext cx="7931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1.  Стричь под одну гребенку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2. На живую нитку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3. Сложить оружи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4. Брать на прице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5.  В час по чайной ложк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d0d0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Играть первую скрипку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d0d0d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Петь с чужого голос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d0d0d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Открывать Америку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d0d0d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Ждать у моря погоды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d0d0d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Попасть в ловушку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d0d0d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Закусить удил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d0d0d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Сгущать краск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d0d0d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100" spc="-1" strike="noStrike">
                <a:solidFill>
                  <a:srgbClr val="0d0d0d"/>
                </a:solidFill>
                <a:latin typeface="Calibri"/>
              </a:rPr>
              <a:t>Ход конем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4120" y="0"/>
            <a:ext cx="701496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e1d"/>
                </a:solidFill>
                <a:latin typeface="Calibri"/>
              </a:rPr>
              <a:t>Конкурс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2480" y="527040"/>
            <a:ext cx="7931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1.      «Глаз» автомобиля      (фара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2.      «Свежезамороженный» дождь (град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3.      «Слово» регулировщика     (свист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4.      Родной или крестный         (папа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5.      Шляпка на ножке            (гриб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6.      Лесной барабанщик    (дятел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7.      Собачья радость    (кость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8.      Такса, а не собака           (плата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9.      Орел, но не птица           (город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d0d0d"/>
                </a:solidFill>
                <a:latin typeface="Calibri"/>
              </a:rPr>
              <a:t>10. Не носки и не чулки   (гольфы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6251400" y="527040"/>
            <a:ext cx="167976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1517760" y="1444680"/>
            <a:ext cx="1374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7473960" y="1901880"/>
            <a:ext cx="137304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7319880" y="2513160"/>
            <a:ext cx="1374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6710400" y="2970360"/>
            <a:ext cx="1373040" cy="6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6556320" y="3581280"/>
            <a:ext cx="13748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1"/>
          <p:cNvSpPr/>
          <p:nvPr/>
        </p:nvSpPr>
        <p:spPr>
          <a:xfrm>
            <a:off x="6862680" y="4497480"/>
            <a:ext cx="1374840" cy="6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6862680" y="5108400"/>
            <a:ext cx="1374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5946840" y="4040280"/>
            <a:ext cx="1374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6251400" y="5567400"/>
            <a:ext cx="167976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4120" y="0"/>
            <a:ext cx="701496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e1d"/>
                </a:solidFill>
                <a:latin typeface="Calibri"/>
              </a:rPr>
              <a:t>Конкурс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12480" y="527040"/>
            <a:ext cx="7931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«Почему не говорят?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Почему не говорят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обака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зимы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Потому что говорят: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от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л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Морей толпы – рек/орды;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морей верблюды – рек/лам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мяч рая - шар/а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оценка рая – балл/а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656160" y="2817720"/>
            <a:ext cx="167940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739960" y="3887640"/>
            <a:ext cx="15271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4267080" y="3276720"/>
            <a:ext cx="15271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3349800" y="4344840"/>
            <a:ext cx="167940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601560" y="700200"/>
            <a:ext cx="3917880" cy="50860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"/>
          <p:cNvPicPr/>
          <p:nvPr/>
        </p:nvPicPr>
        <p:blipFill>
          <a:blip r:embed="rId2"/>
          <a:stretch/>
        </p:blipFill>
        <p:spPr>
          <a:xfrm>
            <a:off x="4511520" y="700200"/>
            <a:ext cx="43848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4120" y="0"/>
            <a:ext cx="701496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e1d"/>
                </a:solidFill>
                <a:latin typeface="Calibri"/>
              </a:rPr>
              <a:t>Конкурс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2480" y="527040"/>
            <a:ext cx="7931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17375e"/>
                </a:solidFill>
                <a:latin typeface="Calibri"/>
              </a:rPr>
              <a:t>« Ребусы, ребусы, ребусы»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i="1" lang="ru-RU" sz="3700" spc="-1" strike="noStrike">
                <a:solidFill>
                  <a:srgbClr val="0d0d0d"/>
                </a:solidFill>
                <a:latin typeface="Calibri"/>
              </a:rPr>
              <a:t>Решите следующие задачи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Отделите плод от растения.     </a:t>
            </a:r>
            <a:r>
              <a:rPr b="1" lang="ru-RU" sz="3700" spc="-1" strike="noStrike">
                <a:solidFill>
                  <a:srgbClr val="0d0d0d"/>
                </a:solidFill>
                <a:latin typeface="Calibri"/>
              </a:rPr>
              <a:t>СОШИСНШАК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Растворите белое в прозрачном        </a:t>
            </a:r>
            <a:r>
              <a:rPr b="1" lang="ru-RU" sz="3700" spc="-1" strike="noStrike">
                <a:solidFill>
                  <a:srgbClr val="0d0d0d"/>
                </a:solidFill>
                <a:latin typeface="Calibri"/>
              </a:rPr>
              <a:t>СВОАДХАР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Уберите горячее – останется холодное.   </a:t>
            </a:r>
            <a:r>
              <a:rPr b="1" lang="ru-RU" sz="3700" spc="-1" strike="noStrike">
                <a:solidFill>
                  <a:srgbClr val="0d0d0d"/>
                </a:solidFill>
                <a:latin typeface="Calibri"/>
              </a:rPr>
              <a:t>КИАПЯСТОБЕКРГ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Найдите друга и врага Буратино.      </a:t>
            </a:r>
            <a:r>
              <a:rPr b="1" lang="ru-RU" sz="3700" spc="-1" strike="noStrike">
                <a:solidFill>
                  <a:srgbClr val="0d0d0d"/>
                </a:solidFill>
                <a:latin typeface="Calibri"/>
              </a:rPr>
              <a:t>МАБАЛЗЬВИИЛИНО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Зачеркните ядовитое - оставьте съедобное.   </a:t>
            </a:r>
            <a:r>
              <a:rPr b="1" lang="ru-RU" sz="3700" spc="-1" strike="noStrike">
                <a:solidFill>
                  <a:srgbClr val="0d0d0d"/>
                </a:solidFill>
                <a:latin typeface="Calibri"/>
              </a:rPr>
              <a:t> ПООПГАНЕНОКК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4120" y="0"/>
            <a:ext cx="701496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e1d"/>
                </a:solidFill>
                <a:latin typeface="Calibri"/>
              </a:rPr>
              <a:t>Конкурс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12480" y="527040"/>
            <a:ext cx="7931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Вспомните пословицы, в которых употребляются какие-либо циф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4120" y="0"/>
            <a:ext cx="701496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e1d"/>
                </a:solidFill>
                <a:latin typeface="Calibri"/>
              </a:rPr>
              <a:t>Конкурс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12480" y="527040"/>
            <a:ext cx="7931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Изобразите  фразеологизмы так, чтобы соперники отгадали фразеолог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(нарисовать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9280" y="236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e1d"/>
                </a:solidFill>
                <a:latin typeface="Calibri"/>
              </a:rPr>
              <a:t>СПАСИБО ЗА ВНИМАНИЕ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32040" y="1544760"/>
            <a:ext cx="701496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Calibri"/>
              </a:rPr>
              <a:t>игл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3138480" y="2629080"/>
            <a:ext cx="3724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2040" y="1544760"/>
            <a:ext cx="7014960" cy="28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Вязкое, липкое вещество для сплочения в одно частей чего-либ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64760" y="1517400"/>
            <a:ext cx="7016760" cy="12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2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Calibri"/>
              </a:rPr>
              <a:t>кле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5340240" y="1517760"/>
            <a:ext cx="30416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6120" y="1544400"/>
            <a:ext cx="794052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оговистые, трубчатые нити, растущие на теле человека и большей части млекопитающи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Calibri"/>
              </a:rPr>
              <a:t>Волосы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3057480" y="2671920"/>
            <a:ext cx="6095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бвершка строения или крыша  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2040" y="374400"/>
            <a:ext cx="701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9e1d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32040" y="1544400"/>
            <a:ext cx="70149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Calibri"/>
              </a:rPr>
              <a:t>Кровл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3619440" y="2717640"/>
            <a:ext cx="54514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Елена</cp:lastModifiedBy>
  <dcterms:modified xsi:type="dcterms:W3CDTF">2019-11-21T07:44:31Z</dcterms:modified>
  <cp:revision>43</cp:revision>
  <dc:subject/>
  <dc:title>PowerPoint Presentation</dc:title>
</cp:coreProperties>
</file>