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A32-9F0C-4EE5-A620-3BAE0973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253-7445-401B-8058-6EED350C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6B5-234C-4AC9-8519-39392B20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2C0-77CA-4CA2-9012-0755776A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E435-58D2-4C8A-B565-6F4AE935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1330-DCEA-4756-A084-FD6BBA2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B39-3271-4A77-8345-F20A2E0D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DD4-A0C8-4E27-999D-8E563CB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580D-2985-4664-94E7-323A4E5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AB7-8414-4970-8F5D-52E4F10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E35-D727-4131-BB72-0E6A6B0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C5D-857A-413C-9976-75A09D1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6469-EFE1-4F3D-89C6-FEFC539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C81-8331-4DD7-99AD-1932EBC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96A-5630-4A66-8FE1-E358AAB1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4370-F7C2-453E-91C5-A27FBC8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BD65-F976-419C-B6EC-665832B6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AB3-14DE-4441-93B1-FE44092C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A5F-261D-42EF-BFE2-01D50EA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83F-EC81-4943-BF39-A3463BA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57A-4DA5-4AE5-814D-7936FB5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9DD-382B-4B36-AA39-3F2CA64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0B7-8EE6-43B4-9052-CE52C281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AC1-AF2F-4B6B-A595-69B50F8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0F6-566F-42EC-B177-513A86F5F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922-BFC4-4A7E-A145-2E57A06F61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6720" y="907920"/>
            <a:ext cx="5867280" cy="532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examen_logo2"/>
          <p:cNvPicPr/>
          <p:nvPr/>
        </p:nvPicPr>
        <p:blipFill>
          <a:blip r:embed="rId3"/>
          <a:stretch/>
        </p:blipFill>
        <p:spPr>
          <a:xfrm>
            <a:off x="0" y="0"/>
            <a:ext cx="27003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00720" y="2565360"/>
            <a:ext cx="3924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ишем сочинение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роли союзов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197000"/>
            <a:ext cx="161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ИА С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427280" y="1413000"/>
            <a:ext cx="4608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поставления: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е гулял сильной вет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лесу было тихо. В поле гулял сильной ветер, в лес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ти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тивопоставл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светило ярко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 (однако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роз был неимове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мещ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уть был долгим, зато красота гор покорила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333360"/>
            <a:ext cx="777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Смысловые отнош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в предложениях с противительными союз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68360" y="1557360"/>
            <a:ext cx="3816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608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заимо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ы поедем в Крым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се останемся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еременности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 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тер свистит в трубах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 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бойники вышли на большую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333360"/>
            <a:ext cx="777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мысловые отнош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в предложениях с разделительными союз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384720" cy="5135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 rot="19935000">
            <a:off x="5363640" y="2492280"/>
            <a:ext cx="866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817800">
            <a:off x="7019640" y="2420640"/>
            <a:ext cx="866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2924280"/>
            <a:ext cx="59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йте простые предложени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родными членами и слож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ения, используя сочините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ые сою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ите характер смысл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й в эти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00000" y="189000"/>
            <a:ext cx="7601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ряды подчинительных союзо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836640"/>
          <a:ext cx="8424720" cy="5905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3048120" cy="18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6156360" y="1628640"/>
            <a:ext cx="122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2781360"/>
            <a:ext cx="3048120" cy="172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156360" y="3573360"/>
            <a:ext cx="1514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0066"/>
                </a:solidFill>
                <a:latin typeface="Arial"/>
              </a:rPr>
              <a:t>потому что,</a:t>
            </a:r>
            <a:endParaRPr b="1" lang="en-US" sz="2000" spc="1" strike="noStrike">
              <a:ln w="0">
                <a:noFill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0066"/>
                </a:solidFill>
                <a:latin typeface="Arial"/>
              </a:rPr>
              <a:t>так как</a:t>
            </a:r>
            <a:endParaRPr b="1" lang="en-US" sz="2000" spc="1" strike="noStrike">
              <a:ln w="0">
                <a:noFill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076720" y="4724280"/>
            <a:ext cx="3048120" cy="194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300720" y="5589720"/>
            <a:ext cx="1095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если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93080" y="90792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е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236000" y="4869000"/>
            <a:ext cx="1171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93080" y="2781360"/>
            <a:ext cx="16095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чи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26920" y="981000"/>
            <a:ext cx="3048120" cy="165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26920" y="46530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84360" y="2852640"/>
            <a:ext cx="3047760" cy="165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556000" y="907920"/>
            <a:ext cx="1895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ъяснитель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68360" y="1773360"/>
            <a:ext cx="7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ч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40000" y="2852640"/>
            <a:ext cx="2238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авнитель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50920" y="3645000"/>
            <a:ext cx="7905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как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4724280"/>
            <a:ext cx="1887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050920" y="5589720"/>
            <a:ext cx="11527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г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00000" y="189000"/>
            <a:ext cx="7601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ряды подчинительных союзо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765000"/>
          <a:ext cx="8640720" cy="6043680"/>
        </p:xfrm>
        <a:graphic>
          <a:graphicData uri="http://schemas.openxmlformats.org/drawingml/2006/table">
            <a:tbl>
              <a:tblPr/>
              <a:tblGrid>
                <a:gridCol w="4321440"/>
                <a:gridCol w="431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у ч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 что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т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 предложения, используя указанные союз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характер смысловых  отношений передан в каждом предложен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дуюсь жизн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04812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3047760" cy="1656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627280" y="1052640"/>
            <a:ext cx="1895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едств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79640" y="1773360"/>
            <a:ext cx="128124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ак ч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340000" y="2852640"/>
            <a:ext cx="2238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тупитель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68360" y="3645000"/>
            <a:ext cx="79092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хот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 rot="1105800">
            <a:off x="4266720" y="1130400"/>
            <a:ext cx="123840" cy="3844800"/>
          </a:xfrm>
          <a:prstGeom prst="upArrow">
            <a:avLst>
              <a:gd name="adj1" fmla="val 50000"/>
              <a:gd name="adj2" fmla="val 7761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rot="2165400">
            <a:off x="4649760" y="1824120"/>
            <a:ext cx="144360" cy="3168720"/>
          </a:xfrm>
          <a:prstGeom prst="upArrow">
            <a:avLst>
              <a:gd name="adj1" fmla="val 50000"/>
              <a:gd name="adj2" fmla="val 54875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8860400">
            <a:off x="3247920" y="3654000"/>
            <a:ext cx="3097080" cy="147600"/>
          </a:xfrm>
          <a:prstGeom prst="rightArrow">
            <a:avLst>
              <a:gd name="adj1" fmla="val 50000"/>
              <a:gd name="adj2" fmla="val 5245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546800">
            <a:off x="3465360" y="3796920"/>
            <a:ext cx="3097440" cy="144360"/>
          </a:xfrm>
          <a:prstGeom prst="rightArrow">
            <a:avLst>
              <a:gd name="adj1" fmla="val 50000"/>
              <a:gd name="adj2" fmla="val 53640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283800">
            <a:off x="3708360" y="4508640"/>
            <a:ext cx="3097080" cy="144360"/>
          </a:xfrm>
          <a:prstGeom prst="rightArrow">
            <a:avLst>
              <a:gd name="adj1" fmla="val 50000"/>
              <a:gd name="adj2" fmla="val 536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031000">
            <a:off x="3708360" y="4005000"/>
            <a:ext cx="3097080" cy="144360"/>
          </a:xfrm>
          <a:prstGeom prst="rightArrow">
            <a:avLst>
              <a:gd name="adj1" fmla="val 50000"/>
              <a:gd name="adj2" fmla="val 536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512800">
            <a:off x="3634920" y="4220640"/>
            <a:ext cx="3097440" cy="152640"/>
          </a:xfrm>
          <a:prstGeom prst="rightArrow">
            <a:avLst>
              <a:gd name="adj1" fmla="val 50000"/>
              <a:gd name="adj2" fmla="val 50731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4653000"/>
            <a:ext cx="719280" cy="504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219640" y="587700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кст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)Это известно всем охотникам, как трудно выучить собаку не гоняться за зверями, кошками и зайцами, а разыскивать только птиц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2) Однажды во время моего урока мы с собакой  Ромкой вышли на полянку, и на ту же полянку вышел тигровый кот. (3)Ромка был с левой руки от меня, а кот — с правой, и так произошла эта ужасная встреча.(4)В одно мгновенье кот обернулся, пустился наутек, а за ним ринулся Ромка. (5)Я не успел ни свистнуть, ни крикнуть «тубо» 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6)Вокруг на большом пространстве не было ни одного дерева, на которое кот мог бы взобраться и спастись от собаки, — кусты и полянки без конца. (7)Я иду медленно, как черепаха, разбирая следы Ромкиных лап то на влажной земле, то на грязи, то по краям луж и на песке ручьев. (8)Много перешел я полянок, мокрых и сухих, перебрел два ручейка, два болотца, и, наконец, вдруг все открылось: Ромка стоит на поляне неподвижный, с налитыми кровью глазами; против него, очень близко, тигровый кот — спина горбатым деревенским пирогом, хвост медленно поднимается и опускается. (9)Нетрудно мне было догадаться, о чем они думал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10)Тигровый кот говорит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11) — Ты, конечно, можешь на меня броситься, но помни, собака, за меня тигры стоят! (12)Попробуй-ка, сунься, пес, и я дам тебе тигра в глаз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13)Ромку же я понимал так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14) — Знаю, мышатница, что ты дашь мне тигра в глаза, зато я тебя разорву пополам! (15)Вот только позволь мне еще немного подумать, как лучше бы взять теб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16)Думал и я: «Ежели мне к ним подойти, кот пустится наутек, за ним пустится и Ромка. (17)Если попробовать Ромку позвать…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18)Долго раздумывать, однако, было мне некогда. (19)Я решил начать усмирение зверей с разговора по-хорошему. (20)Самым нежным голосом, как дома в комнате во время нашей игры, я назвал Ромку по имени и отчеству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1)— Роман Василич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2)Он покосился, а кот завыл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3)Тогда я крикнул тверж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4)— Роман, не дури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5)Ромка оробел и сильнее покосился, и кот тоже сильнее провыл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6)Я воспользовался моментом, когда Ромка покосился, успел поднять руку над своей головой и так сделать, будто рублю головы и ему, и кот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7)Увидев это, Ромка подался назад, а кот, полагая, будто Ромка струсил, и втайне, конечно, радуясь этому, провыл с переливом обыкновенную котовую победную песню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 (28)Это задело самолюбие Ромки. (29)Он, пятясь задом, вдруг остановился и посмотрел на меня, спрашивая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(30)  — Не дать ли ему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31) Тогда я еще раз рукой в воздухе отрубил ему голову и во все горло выкрикнул бесповоротное свое реш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32) — Тубо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33) Он подался еще к кустам, обходом явился ко мне. (34)Так я сломил дикую волю собак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    (35) А кот убежал.                                                                                  (По Пришвину М.М.)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34920" y="404640"/>
            <a:ext cx="5126040" cy="61200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учёного Ильиша Б.А.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вязи и отношения между членами предложения и между предложениями зависят от характера сою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492360" cy="619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4500720" y="1214280"/>
            <a:ext cx="4429080" cy="18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риант  сочинени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4" descr="C:\Users\Галина\Desktop\картинки с шаттерстока\shutterstock_77615920.jpg"/>
          <p:cNvPicPr/>
          <p:nvPr/>
        </p:nvPicPr>
        <p:blipFill>
          <a:blip r:embed="rId4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583272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, что союзы не только служат для связи однородных членов простого предложения и частей сложного предложения, но и  указывают на определенные смысловые отношения между ни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Обратимся к тексту, чтобы доказать э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, союз и в сложносочинённом предложении 2 не только соединяет  простые предложения в сложное, но и подчёркивает одновременность событий, переданных в этих предложениях. А вот   разделительные союзы при однородных членах предлож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 влажной земле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 грязи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о краям луж и на песке ручьев»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указывают на чередование мест, по которым шёл рассказч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справедливо утверждение учёного Ильиша Б.А., считавшего, что  «связи и отношения между членами предложения и между предложениями зависят от характера союз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313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0323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51280" y="260280"/>
            <a:ext cx="511344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учёного Ильиша Б.А.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язи и отношения между членами предложения и между предложениями зависят от характера сою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16872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95640" y="260280"/>
            <a:ext cx="48006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924360" cy="6264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627280" y="6381720"/>
            <a:ext cx="63244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гораева Г.Т., ведущий методист издательства "Экзамен"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0492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9280" y="1557360"/>
            <a:ext cx="36734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о союз было заимствов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старославян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-то в нем выделя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Ъ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со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мевш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е "вместе"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ень -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ЮЗЪ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ого было близ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значению в слов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З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ЯЗАТЬ,УЗЕ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260280"/>
            <a:ext cx="7993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 этимологии слова.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46324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юз — это служебная часть речи, которая служит для связи однородных членов предложения, частей сложного предложения, а также отдельных предложений в тексте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юзы употребляются в речи только в соединении со знаменательными словам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юз, будучи служебным словом, не выполняет назывн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значение не может быть самостоя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ующая функция в предложении является для союза осно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союзов не столько устанавливает связь, сколько выявляет и конкретизирует ее.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476280"/>
            <a:ext cx="6782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</a:rPr>
              <a:t>Союз как служебная часть р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00360" cy="540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 rot="20796000">
            <a:off x="6443640" y="3141720"/>
            <a:ext cx="72072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юз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9036000" cy="666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5640" y="2205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276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84360" y="2492280"/>
            <a:ext cx="42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Роль союзов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</a:rPr>
              <a:t>в предложени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и союзы выражают смысловые отношения межд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дельными слова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ложе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союзы выражают смысловые отношения между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частями сложного предл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тельно, союзы выполняют важнейшую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коммуникативно-речевую фун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х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авливают различные смысловые и эмоциональные связи между компонентами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уществляют логическое членение речевых отрыв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дают и воспринимают значение целого и отношения к нему его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этом проявляется исключительно важные для общения логические и выразительные функции сою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 о союзе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ельзя говори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шь как о форма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е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рамматических связе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между компонен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ной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62864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5516640"/>
            <a:ext cx="1728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800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260280"/>
            <a:ext cx="56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24000" y="189000"/>
            <a:ext cx="482436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арактер союзных связей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700360" y="1700280"/>
            <a:ext cx="3672000" cy="496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ы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единяющ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лены предложен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язывают их как равноправные элементы. В этой функции они всегда буду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чинительны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ы, соединяющие между соб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ые предложен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гут связывать их и на началах равноправия - в таком случае это буду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чинительные союз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и на началах подчинения одного предложения другому - в таком случае это буду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ительные сою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3419640"/>
                <a:gridCol w="2963520"/>
                <a:gridCol w="2760840"/>
              </a:tblGrid>
              <a:tr h="209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един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исоединитель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, да, ни…ни, и…и, не только… но и, как…так и, тоже, так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ти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сопоставитель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а, но, да, зато, однако, ж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, либо, то…то, не то…не то, или…ил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900000" y="189000"/>
            <a:ext cx="7601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ряды сочинительных союзо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92360" y="907920"/>
            <a:ext cx="2446560" cy="1874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993400">
            <a:off x="3995640" y="1125360"/>
            <a:ext cx="67968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21094200">
            <a:off x="4932360" y="162864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и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3280" y="2133720"/>
            <a:ext cx="752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это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64000" cy="1655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0993400">
            <a:off x="3995640" y="3284640"/>
            <a:ext cx="679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 rot="20887200">
            <a:off x="5076720" y="3715920"/>
            <a:ext cx="43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88000" y="4221000"/>
            <a:ext cx="57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не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это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19640" y="4941720"/>
            <a:ext cx="2808000" cy="16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20993400">
            <a:off x="4067280" y="5084280"/>
            <a:ext cx="679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21148200">
            <a:off x="4932360" y="5516280"/>
            <a:ext cx="7207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6021360"/>
            <a:ext cx="576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это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608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дновременные:</a:t>
            </a:r>
            <a:r>
              <a:rPr b="0" lang="ru-RU" sz="2400" spc="-1" strike="noStrike">
                <a:solidFill>
                  <a:srgbClr val="98480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лнце светило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 п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овательные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кнула молния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ждь пол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ыстрая смена событий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янул выстрел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ь уп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соеди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было весело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ж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ку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333360"/>
            <a:ext cx="777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мысловые отнош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 предложениях с соединительными союз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Admin</cp:lastModifiedBy>
  <dcterms:modified xsi:type="dcterms:W3CDTF">2013-08-19T05:55:08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