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9C-2114-42E8-B3FF-BB581DC7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5F7-D8FE-498D-A395-602D12A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5D1-EB37-4645-8EAF-B029962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088-70A8-45B9-A3AB-651E2D9F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A59D-18A6-4A31-8CD6-80C73D5F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86738-E6F5-405C-A3D4-847DD69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9DAD-528A-4DF7-A48C-A983D088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8D426-16E9-4848-A91C-8D6313A0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6974D-9456-4199-9650-D696B5D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4C0A-53AF-4A8B-8EE1-74FB586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46319-C13F-4EB5-889A-D30C6BF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CDE-39AC-45D4-8D51-F3ACEF0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E8C8-FF4B-446D-84E6-C05E5BE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27FC-E102-44AA-9C23-923CE09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778D-F198-4B82-B0C4-31EE406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1C87-05BD-4D71-942F-3506B4FF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8040-42EE-4BCC-8843-960917A2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13A-994F-4EAC-8BA6-14921B1D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668-3C82-4CCF-B755-701F84F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A21-37DC-44AF-93E5-F3B03D8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786-20FB-4010-9BB7-CBEB151B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870-71E1-4C90-80BF-DD4A2B1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8EF-65AE-4ED7-9D54-988F8AF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1AC-B945-4434-A9FD-43AA700B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A5A-B078-4BF6-B971-7BDA27342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D61-FFA7-4305-9E0F-334ABA41A8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дронимика назв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11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асавиди Е.Ю., учитель ис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обществознания МБОУ СОШ №5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Пыть-Ях, ХМАО-Юг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рты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ереводе с тюркого Иртыш – «ир» земля, и «тыш» – роющий, то есть «роющий землю» или «землеро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138709-19990"/>
          <p:cNvPicPr/>
          <p:nvPr/>
        </p:nvPicPr>
        <p:blipFill>
          <a:blip r:embed="rId1"/>
          <a:stretch/>
        </p:blipFill>
        <p:spPr>
          <a:xfrm>
            <a:off x="154764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ремена первооткрывателя Лены землепроходца Пенда, в 1619-1623 гг., река называлась Елюенэ - название, созвучное с эвенкийским Енэ, Йэннэси, Йэнеси (Енисей), что означает "большая река". Елюенэ у русских приняло форму Лена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Лэна"/>
          <p:cNvPicPr/>
          <p:nvPr/>
        </p:nvPicPr>
        <p:blipFill>
          <a:blip r:embed="rId1"/>
          <a:stretch/>
        </p:blipFill>
        <p:spPr>
          <a:xfrm>
            <a:off x="468360" y="3848040"/>
            <a:ext cx="7543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ис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происходит от древнекиргизского «Эне-Сай» — мать-река, или от эвенкийского «Ионэсси» — большая вода. Впадает в Северный Ледовитый океан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enisey_0"/>
          <p:cNvPicPr/>
          <p:nvPr/>
        </p:nvPicPr>
        <p:blipFill>
          <a:blip r:embed="rId1"/>
          <a:stretch/>
        </p:blipFill>
        <p:spPr>
          <a:xfrm>
            <a:off x="4500720" y="692280"/>
            <a:ext cx="4464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                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Днеп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4043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е сведения о Днепре и реках его бассейна приведены в IV книге "Мельпомены" древнегреческого историка Геродота. Днепр назывался Борисфеном, что означает "тот, который течет с севера", а людей, которые жили на его берегах-борисфенитами. В древнерусских летописях название реки Днепр писалось, как Дънѣпръ. Особенно много слов с этим корнем означает быстрое дви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legend1"/>
          <p:cNvPicPr/>
          <p:nvPr/>
        </p:nvPicPr>
        <p:blipFill>
          <a:blip r:embed="rId1"/>
          <a:stretch/>
        </p:blipFill>
        <p:spPr>
          <a:xfrm>
            <a:off x="3924360" y="2852640"/>
            <a:ext cx="4968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ун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00360" y="836280"/>
            <a:ext cx="4392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украинских народных песнях слово Дунай сохранилось до нашего времени как общее название со значением "большая вода"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ена Киевской Руси Днепр называли Славутичем или Славутой. В те времена он был частью торгового пути, соединяющего Прибалтику с Причерноморьем и известного в истории, как "Путь из варяг в греки". Такое название зафиксировано в "Слове о полку Игоревом«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вание Славута происходит от древнеиндоевропейской лексемы-Слова, что означало"текучая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13708596871362"/>
          <p:cNvPicPr/>
          <p:nvPr/>
        </p:nvPicPr>
        <p:blipFill>
          <a:blip r:embed="rId1"/>
          <a:stretch/>
        </p:blipFill>
        <p:spPr>
          <a:xfrm>
            <a:off x="395280" y="2133720"/>
            <a:ext cx="3657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адога и Волх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адога» - место высадки, осед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олхов» означает всего лишь «волоков поток», то есть «поток, который волокёт суда, или по которому можно волок(ч)итьих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707502151"/>
          <p:cNvPicPr/>
          <p:nvPr/>
        </p:nvPicPr>
        <p:blipFill>
          <a:blip r:embed="rId1"/>
          <a:stretch/>
        </p:blipFill>
        <p:spPr>
          <a:xfrm>
            <a:off x="4500720" y="2205000"/>
            <a:ext cx="446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га — самая большая река в Европе, длиной 3700 км и площадью бассейна около 1,4 млн кв. к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доисторических времен человеческая память донесла до нас три наименования реки Волги в ее нижнем течении: Арас, Ра и Ит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ревности река Волга имела название «Ра». Словом, рожденным от гидронима Ра, является обозначение праздничного небесного явления радуга (ра — вода, дуга, водяная дуг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юркоязычный народ булгары проживали на Волге-Каме. Волга в пределах государства булгар с V века называлась Ити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800px-Volga_Rocks-640x480"/>
          <p:cNvPicPr/>
          <p:nvPr/>
        </p:nvPicPr>
        <p:blipFill>
          <a:blip r:embed="rId1"/>
          <a:stretch/>
        </p:blipFill>
        <p:spPr>
          <a:xfrm>
            <a:off x="5003640" y="2060640"/>
            <a:ext cx="396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 - древнее славянское имя Бога Солнца, а также древнее название Волги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Есть на этот счет легенд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бог Ра состарился, он сказал Небесной Корове: «Я живу, только сердце устало жить... Подыми меня ввысь на рогах своих! Стану я небесной рекою - той, что Явь и Навь разделяет»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он протек Ра-рекою с гор, которые потом назвали Уральскими, ибо они расположены у Ра-реки. Ныне эту реку именуют Волгой, в верхнем течении - Белой Воложкой, в нижнем - Доном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многих языках мира есть слово «Кама». Для каждого народа оно несет свое знач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ма – в ряде финно-угорских языков означает «река». С тем же самым смыслом, но в несколько иной вокализации – кемь, известен целый ряд гидронимов и топонимов на территории Евраз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ембридж («Город на реке», а река сия именуется Кем) – в Англии; Кемпер (от старобретонского названия, означающего «Слияние рек») – во Франции; Кемери – древнее поселение (а ныне известный курорт) на месте целебного источника в Латвии.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вестно, что в старину шаман на Руси назывался кам. Отсюда и дожившее до наших дней слово камлание – обрядовое действо шамана. Возможно, и древнеарийский бог любви Кама был когда-то шаманом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«Кама» имеется и в древнеиндийском языке и означает «любов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1251783605_214_main_gal-10-0003"/>
          <p:cNvPicPr/>
          <p:nvPr/>
        </p:nvPicPr>
        <p:blipFill>
          <a:blip r:embed="rId1"/>
          <a:stretch/>
        </p:blipFill>
        <p:spPr>
          <a:xfrm>
            <a:off x="5292720" y="2997360"/>
            <a:ext cx="3594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1280" y="1052640"/>
            <a:ext cx="4475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ик - первоначальное название реки Урал. «Яик» впервые встречается в русской летописи 1229 г. , от общетюркской основы «Жаик» со значением «широкое русло реки» или «широко разливающийся»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луживает внимания попытка вывести название Урал от мансийского слова «ур», означающего гору, возвышенность, увал, водораздел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1f41df257119"/>
          <p:cNvPicPr/>
          <p:nvPr/>
        </p:nvPicPr>
        <p:blipFill>
          <a:blip r:embed="rId1"/>
          <a:stretch/>
        </p:blipFill>
        <p:spPr>
          <a:xfrm>
            <a:off x="324000" y="2492280"/>
            <a:ext cx="396072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нцы, обитающие в низовьях реки, называли её Саля-ям, что означает «мысовая река». Ханты и манси дали ей название Ас — «большая река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лькупы звали реку Квай, Еме, Куай. Эти названия означали — «крупная ре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завоевания Ермаком Сибири край вокруг Оби назывался Обдорским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положение, что название реки — иранского происхождения, от *ап «вода». Такое название полноводной реке вполне могли дать степные ираноязычные народы, жившие на юге Западной Сибири в период с раннебронзового века по средневеков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i?id=223685839-42-72&amp;n=21"/>
          <p:cNvPicPr/>
          <p:nvPr/>
        </p:nvPicPr>
        <p:blipFill>
          <a:blip r:embed="rId1"/>
          <a:stretch/>
        </p:blipFill>
        <p:spPr>
          <a:xfrm>
            <a:off x="5292720" y="5013360"/>
            <a:ext cx="32400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03:03:02Z</dcterms:created>
  <dc:creator>GYPNORION</dc:creator>
  <dc:description/>
  <dc:language>en-US</dc:language>
  <cp:lastModifiedBy>Селена</cp:lastModifiedBy>
  <dcterms:modified xsi:type="dcterms:W3CDTF">2019-12-07T15:47:49Z</dcterms:modified>
  <cp:revision>5</cp:revision>
  <dc:subject/>
  <dc:title>Этимология названий</dc:title>
</cp:coreProperties>
</file>