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08E-25FF-44A9-AB94-F534F33E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9CE-2E8F-4A14-8AF5-2333BAEC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CC7-71EE-4F9C-A456-7D7CEF6D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29C-0739-43B7-9479-3DBF5F6E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2EA-6477-475D-9A4A-7E45FC6F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8F6-8AC1-4F3A-B7F8-B68F6EC9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A72-34AF-4968-A1D3-79116A04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39F-ECD9-40B5-8C18-05FF9F70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64C-5380-422A-998E-1E9F7554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5CB-D18A-450C-888E-145F8198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B57-D2B4-4D32-82C9-3FD3939A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D58-78FB-4975-8897-C0F563A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3361-9ABC-4165-B053-0271B1E7E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ЩЕНИЕ БЕЗ КОНФЛИ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365724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дготовила социальный педагог МАОУ «Средняя школа №8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ерминова Сайёра Карамали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Что такое компромисс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мпромис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лючаются в умении выслушать и постараться понять другую сторону, согласиться, пойти на уступки. Совместное принятие решения и неукоснительное соблюдение договоренности – гарантия преодоления конфликта в различных ситуация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КОМПРОМИС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это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гласие на основе взаимных уступок. Человек может идти на него сознательно, выражая этой уступкой уважение к своему оппоненту. Тот, кто не боится идти на компромисс, чаще выходит из конфли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Правила предупреждения конфли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говорите сразу с возбужденным человек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арайтесь “встать на его место”, посмотреть на проблему его глаз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йте заставить себя замолчать, когда вас задевают в мелкой ссор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скрывайте доброго отношения к человеку, с которым вступаете в конфлик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чем сказать человеку неприятное слово, постарайтесь создать доброжелательную атмосферу, отметьте хорошие дела и поступки этого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Школьная служба прими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Помогает решать конфликты – разногласия в основе которых лежит несовместимость взглядов, интересов и потребност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1685757-614b4d47b5c2fbc3"/>
          <p:cNvPicPr/>
          <p:nvPr/>
        </p:nvPicPr>
        <p:blipFill>
          <a:blip r:embed="rId2"/>
          <a:stretch/>
        </p:blipFill>
        <p:spPr>
          <a:xfrm>
            <a:off x="5943600" y="4267080"/>
            <a:ext cx="26668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даёт участие в школьной службе примир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рост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вершившему правонару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ть причины своего поступка и его последст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гладить причиненный вре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нуть к себе уважение, восстановить отношения, которые, возможно, были наруш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ерпевш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бавиться от негативных переживаний и желания отомст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бедиться в том, что справедливос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дителя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очь ребенку в трудной жизненной ситу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развитию у него ответственного и взрослого по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сли ты хочешь, чтобы вокруг тебя были хорошие, добрые люди, попробуй относиться к ним внимательно, ласково, вежливо – увидишь, что все станут лучше. Всё в жизни зависит от тебя самого, поверь мне…”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 Горь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 живете среди людей. Каждый ваш поступок, каждое ваше желание отражаются на людях. Знайте, что существует граница между тем, что вам хочется, и тем, что можно. Ваше желание – это радость или слезы ваших близких людей. Проверяйте свои поступки сознанием: не причиняете ли вы зла, неприятностей, неудобств людям своими поступками. Делайте так, чтобы людям, которые окружают вас, было хорошо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.А. Сухомли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е люди в обществе должны соблюдать правила культурного общения. Правила правовой культуры обязывают каждого человека уважать достоинства других люд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БЕРИТЕ ПРОТИВОПОЛОЖНЫЕ ПО СМЫСЛУ С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рубость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– ненависть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– обман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– злость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– унижение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– равнодуши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то у вас получилос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ТИВОПОЛОЖНЫЕ ПО СМЫСЛУ С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убость 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жливост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ненависть 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юбов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обман 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вер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злость 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брожелательност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унижение 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важен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равнодушие 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нимательност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КОФЛИ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спор, столкновение конкурирующих сторон (людей или социальных групп) за владение чем-то таким, что одинаково высоко ценится обеими сторон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столкновение противоположно направленных целей, интересов, позиций, мнений, взглядов оппонентов или субъектов взаимодейст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тивоборство взаимосвязанных, но преследующих свои цели двух или более сторо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 ПРОИСХОДЯТ КОНФЛИК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мет конфли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ичина конфликт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объективные обстоятельства, которые предопределяют появление конфликта. Причина связана с потребностями конфликтующих сторо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вод для конфликт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езначительное происшествие, которое способствует возникновению конфликта, но сам конфликт может не разв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J0233043"/>
          <p:cNvPicPr/>
          <p:nvPr/>
        </p:nvPicPr>
        <p:blipFill>
          <a:blip r:embed="rId2"/>
          <a:stretch/>
        </p:blipFill>
        <p:spPr>
          <a:xfrm>
            <a:off x="5943600" y="762120"/>
            <a:ext cx="2414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Запомните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нфликте участвуют только две стороны, остальные-зрители, союзники одной из сторон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разногласия переходят в конфликт, когда стороны не проявляют гибкость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конфликт разрешается мирно, когда стороны готовы пойти на уступки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ывод: совместное принятие решения и неукоснительное соблюдение договоренности – гарантия преодоления конфли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ЫХОДЫ ИЗ КОНФЛИКТНЫХ СИТУА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збег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риспособ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оревн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омпроми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отрудни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5" descr="a1.JPG"/>
          <p:cNvPicPr/>
          <p:nvPr/>
        </p:nvPicPr>
        <p:blipFill>
          <a:blip r:embed="rId2"/>
          <a:stretch/>
        </p:blipFill>
        <p:spPr>
          <a:xfrm>
            <a:off x="4800600" y="144792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mputer</dc:creator>
  <dc:description/>
  <dc:language>en-US</dc:language>
  <cp:lastModifiedBy>user</cp:lastModifiedBy>
  <dcterms:modified xsi:type="dcterms:W3CDTF">2016-04-27T07:34:14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