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4E7-2A39-4B49-A968-F4AFCFFD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611-CAC2-4E55-AB6F-05AC8C64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1F0-DF62-443D-A572-87CFC340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4F2-C833-47C3-B2B5-93F2814E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D55A-1535-4214-B62D-23E9DE7C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509-21CC-4E8C-A265-9ED12E2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7BF0-960E-4EE3-8532-873901E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E97-0F90-4686-A1D9-CCD45EF2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2E8E-45C9-4215-AC1C-F7AD020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49FC-328D-4FF8-BC54-D0ECB86E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330F-09B6-4E8D-AE50-55632CAB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E69-5AF0-4C11-8FB0-E66B0C8C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418B-D21E-4CAE-A9A9-03DAA88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6F8A-CB15-4055-9925-9583EA7D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8A0A-2079-4E43-BDDB-0C28375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8AAA-09C6-4E57-B7DE-310BE715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A13-E088-4C37-A777-07E980C7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30C-32C1-4919-9031-195318FE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6BA-504C-4FDD-AF23-A4AE87D6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3D1-AA3D-4214-A547-0558465E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D21-ECC8-4611-9980-E83E3DF5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E3F-5A69-4E24-93BD-BDE17BC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746-B7CE-4BB5-A066-C5D71C99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23A-AECB-4E92-80D1-A3782CA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9BC5-DAB8-4633-BF58-793DB14C70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EAD0-AB73-4C72-A984-C7443CBCEC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0240" y="5444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Учитель биологии Гимазетдинова А.Ф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СОШ №62» г. Магнитогорска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900000" y="1628640"/>
            <a:ext cx="7632720" cy="29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Использование цифров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микроскоп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8 клас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Биология. Животны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4"/>
          <p:cNvSpPr/>
          <p:nvPr/>
        </p:nvSpPr>
        <p:spPr>
          <a:xfrm>
            <a:off x="1908000" y="333360"/>
            <a:ext cx="55436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Гидра пресноводн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гидра"/>
          <p:cNvPicPr/>
          <p:nvPr/>
        </p:nvPicPr>
        <p:blipFill>
          <a:blip r:embed="rId1"/>
          <a:stretch/>
        </p:blipFill>
        <p:spPr>
          <a:xfrm>
            <a:off x="1332000" y="1546200"/>
            <a:ext cx="74167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16000" y="1412640"/>
            <a:ext cx="7416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Untitledколюще-сосйщий аппарат комара"/>
          <p:cNvPicPr/>
          <p:nvPr/>
        </p:nvPicPr>
        <p:blipFill>
          <a:blip r:embed="rId1"/>
          <a:stretch/>
        </p:blipFill>
        <p:spPr>
          <a:xfrm>
            <a:off x="1116000" y="1382760"/>
            <a:ext cx="7632720" cy="528624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611280" y="333360"/>
            <a:ext cx="82818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Колюще-сосущий аппарат кома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Клещ"/>
          <p:cNvPicPr/>
          <p:nvPr/>
        </p:nvPicPr>
        <p:blipFill>
          <a:blip r:embed="rId1"/>
          <a:stretch/>
        </p:blipFill>
        <p:spPr>
          <a:xfrm>
            <a:off x="1403280" y="1557360"/>
            <a:ext cx="727236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2268360" y="333360"/>
            <a:ext cx="41767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Кле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Строение клеща"/>
          <p:cNvPicPr/>
          <p:nvPr/>
        </p:nvPicPr>
        <p:blipFill>
          <a:blip r:embed="rId1"/>
          <a:stretch/>
        </p:blipFill>
        <p:spPr>
          <a:xfrm>
            <a:off x="971640" y="1557360"/>
            <a:ext cx="799308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Oval 5"/>
          <p:cNvSpPr/>
          <p:nvPr/>
        </p:nvSpPr>
        <p:spPr>
          <a:xfrm>
            <a:off x="2050920" y="260280"/>
            <a:ext cx="55454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роение клещ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Ктеноидная чешуя карпа"/>
          <p:cNvPicPr/>
          <p:nvPr/>
        </p:nvPicPr>
        <p:blipFill>
          <a:blip r:embed="rId1"/>
          <a:stretch/>
        </p:blipFill>
        <p:spPr>
          <a:xfrm>
            <a:off x="1187280" y="1557360"/>
            <a:ext cx="7561440" cy="5040360"/>
          </a:xfrm>
          <a:prstGeom prst="rect">
            <a:avLst/>
          </a:prstGeom>
          <a:ln w="0">
            <a:noFill/>
          </a:ln>
        </p:spPr>
      </p:pic>
      <p:sp>
        <p:nvSpPr>
          <p:cNvPr id="105" name="Oval 5"/>
          <p:cNvSpPr/>
          <p:nvPr/>
        </p:nvSpPr>
        <p:spPr>
          <a:xfrm>
            <a:off x="2195640" y="189000"/>
            <a:ext cx="532764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Чешуя карп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Контурное перо птицы"/>
          <p:cNvPicPr/>
          <p:nvPr/>
        </p:nvPicPr>
        <p:blipFill>
          <a:blip r:embed="rId1"/>
          <a:stretch/>
        </p:blipFill>
        <p:spPr>
          <a:xfrm>
            <a:off x="1116000" y="1557360"/>
            <a:ext cx="7559640" cy="5111640"/>
          </a:xfrm>
          <a:prstGeom prst="rect">
            <a:avLst/>
          </a:prstGeom>
          <a:ln w="0">
            <a:noFill/>
          </a:ln>
        </p:spPr>
      </p:pic>
      <p:sp>
        <p:nvSpPr>
          <p:cNvPr id="108" name="Oval 5"/>
          <p:cNvSpPr/>
          <p:nvPr/>
        </p:nvSpPr>
        <p:spPr>
          <a:xfrm>
            <a:off x="1619280" y="260280"/>
            <a:ext cx="56167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Контурное перо гу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пуховое перо птицы"/>
          <p:cNvPicPr/>
          <p:nvPr/>
        </p:nvPicPr>
        <p:blipFill>
          <a:blip r:embed="rId1"/>
          <a:stretch/>
        </p:blipFill>
        <p:spPr>
          <a:xfrm>
            <a:off x="971640" y="1484280"/>
            <a:ext cx="792144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Oval 5"/>
          <p:cNvSpPr/>
          <p:nvPr/>
        </p:nvSpPr>
        <p:spPr>
          <a:xfrm>
            <a:off x="1692360" y="476280"/>
            <a:ext cx="61927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Пуховое перо гу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13:30Z</dcterms:created>
  <dc:creator>I R I N K @</dc:creator>
  <dc:description/>
  <dc:language>en-US</dc:language>
  <cp:lastModifiedBy>RF</cp:lastModifiedBy>
  <dcterms:modified xsi:type="dcterms:W3CDTF">2019-12-07T14:59:50Z</dcterms:modified>
  <cp:revision>14</cp:revision>
  <dc:subject/>
  <dc:title>Использование цифрового микроскопа в преподавании курса 7 класс Биология Животные  </dc:title>
</cp:coreProperties>
</file>