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30.png" ContentType="image/png"/>
  <Override PartName="/ppt/media/image5.gif" ContentType="image/gi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4.gif" ContentType="image/gif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23D-D742-4642-A980-AF548D66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74C-47A0-47A2-8027-5979C54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9FB-BFF1-462B-B0C2-4FC3623E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573-BE69-4214-A4FA-8CC124DC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916-2432-4835-8121-2ADE47B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250-45E9-4BBD-B3B9-4B29654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DC7-C30F-4D14-8F96-CCAB261E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B2A-F8BA-428E-AB43-978987A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1A4-CD8B-4311-9BB2-EDB5ED9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69A-D182-4A2C-9DEF-A614932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559-A56B-4596-84B9-573D893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024-3F57-4DA8-8EBC-412D8EF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1717-10DE-496C-8421-EA3DFDC4C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1706400"/>
            <a:ext cx="6315120" cy="20116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865080" y="3664080"/>
            <a:ext cx="720576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B_Fly11"/>
          <p:cNvPicPr/>
          <p:nvPr/>
        </p:nvPicPr>
        <p:blipFill>
          <a:blip r:embed="rId4"/>
          <a:stretch/>
        </p:blipFill>
        <p:spPr>
          <a:xfrm rot="913200">
            <a:off x="1878120" y="1526760"/>
            <a:ext cx="1409760" cy="89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G:\КАРТИНКИ ДЛЯ ПРЕЗЕНТАЦИЙ\butterfly12.gif"/>
          <p:cNvPicPr/>
          <p:nvPr/>
        </p:nvPicPr>
        <p:blipFill>
          <a:blip r:embed="rId5"/>
          <a:stretch/>
        </p:blipFill>
        <p:spPr>
          <a:xfrm>
            <a:off x="7215120" y="3857760"/>
            <a:ext cx="127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0" y="42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 – страшный враг леса и сада. Любимый обед жука – нежный моло-дой  лис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й вред дереву наносит взросл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. Но не только он сам. Под зем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ёй живут личинки жука. Они грызут са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лодые корни дерева. Дерево плохо пи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ется  и быстро засых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B_Fly11"/>
          <p:cNvPicPr/>
          <p:nvPr/>
        </p:nvPicPr>
        <p:blipFill>
          <a:blip r:embed="rId2"/>
          <a:stretch/>
        </p:blipFill>
        <p:spPr>
          <a:xfrm rot="913200">
            <a:off x="2521080" y="5099040"/>
            <a:ext cx="14094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714920" y="571680"/>
            <a:ext cx="4100400" cy="307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869760" y="378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293080" y="371484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ого ж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338040" y="571680"/>
            <a:ext cx="40910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73080"/>
            <a:ext cx="58532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3"/>
          <a:stretch/>
        </p:blipFill>
        <p:spPr>
          <a:xfrm>
            <a:off x="384120" y="901800"/>
            <a:ext cx="826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76440" y="-189000"/>
            <a:ext cx="7669080" cy="490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B_Fly11"/>
          <p:cNvPicPr/>
          <p:nvPr/>
        </p:nvPicPr>
        <p:blipFill>
          <a:blip r:embed="rId3"/>
          <a:stretch/>
        </p:blipFill>
        <p:spPr>
          <a:xfrm rot="913200">
            <a:off x="7021440" y="3384360"/>
            <a:ext cx="14097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-182520"/>
            <a:ext cx="7066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-237960" y="719280"/>
            <a:ext cx="3871800" cy="39319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3316320" y="719280"/>
            <a:ext cx="537696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3316320" y="2219400"/>
            <a:ext cx="5808600" cy="1712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3103560" y="3651120"/>
            <a:ext cx="57848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0" descr="Рисунок18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1566720"/>
            <a:ext cx="8931240" cy="841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3"/>
          <a:stretch/>
        </p:blipFill>
        <p:spPr>
          <a:xfrm>
            <a:off x="-6480" y="706320"/>
            <a:ext cx="5511960" cy="731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4"/>
          <a:stretch/>
        </p:blipFill>
        <p:spPr>
          <a:xfrm>
            <a:off x="36360" y="2517840"/>
            <a:ext cx="8070840" cy="7794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8" descr=""/>
          <p:cNvPicPr/>
          <p:nvPr/>
        </p:nvPicPr>
        <p:blipFill>
          <a:blip r:embed="rId5"/>
          <a:stretch/>
        </p:blipFill>
        <p:spPr>
          <a:xfrm>
            <a:off x="23760" y="3376440"/>
            <a:ext cx="61452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9" descr=""/>
          <p:cNvPicPr/>
          <p:nvPr/>
        </p:nvPicPr>
        <p:blipFill>
          <a:blip r:embed="rId6"/>
          <a:stretch/>
        </p:blipFill>
        <p:spPr>
          <a:xfrm>
            <a:off x="512640" y="1090440"/>
            <a:ext cx="6723360" cy="835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0" descr=""/>
          <p:cNvPicPr/>
          <p:nvPr/>
        </p:nvPicPr>
        <p:blipFill>
          <a:blip r:embed="rId7"/>
          <a:stretch/>
        </p:blipFill>
        <p:spPr>
          <a:xfrm>
            <a:off x="517680" y="1944720"/>
            <a:ext cx="6303960" cy="8413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8"/>
          <a:stretch/>
        </p:blipFill>
        <p:spPr>
          <a:xfrm>
            <a:off x="1920960" y="2944800"/>
            <a:ext cx="5911920" cy="8413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2" descr=""/>
          <p:cNvPicPr/>
          <p:nvPr/>
        </p:nvPicPr>
        <p:blipFill>
          <a:blip r:embed="rId9"/>
          <a:stretch/>
        </p:blipFill>
        <p:spPr>
          <a:xfrm>
            <a:off x="189000" y="4376880"/>
            <a:ext cx="7699320" cy="8348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4" descr=""/>
          <p:cNvPicPr/>
          <p:nvPr/>
        </p:nvPicPr>
        <p:blipFill>
          <a:blip r:embed="rId10"/>
          <a:stretch/>
        </p:blipFill>
        <p:spPr>
          <a:xfrm>
            <a:off x="920880" y="122400"/>
            <a:ext cx="7253280" cy="742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5" descr=""/>
          <p:cNvPicPr/>
          <p:nvPr/>
        </p:nvPicPr>
        <p:blipFill>
          <a:blip r:embed="rId11"/>
          <a:stretch/>
        </p:blipFill>
        <p:spPr>
          <a:xfrm>
            <a:off x="19080" y="3943440"/>
            <a:ext cx="4241880" cy="780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2"/>
          <a:stretch/>
        </p:blipFill>
        <p:spPr>
          <a:xfrm>
            <a:off x="30240" y="4876920"/>
            <a:ext cx="6656400" cy="774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7" descr=""/>
          <p:cNvPicPr/>
          <p:nvPr/>
        </p:nvPicPr>
        <p:blipFill>
          <a:blip r:embed="rId13"/>
          <a:stretch/>
        </p:blipFill>
        <p:spPr>
          <a:xfrm>
            <a:off x="378000" y="5211720"/>
            <a:ext cx="6387840" cy="903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9" descr=""/>
          <p:cNvPicPr/>
          <p:nvPr/>
        </p:nvPicPr>
        <p:blipFill>
          <a:blip r:embed="rId14"/>
          <a:stretch/>
        </p:blipFill>
        <p:spPr>
          <a:xfrm>
            <a:off x="5699160" y="3395520"/>
            <a:ext cx="29638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1:11:59Z</dcterms:modified>
  <cp:revision>46</cp:revision>
  <dc:subject/>
  <dc:title>Слайд 1</dc:title>
</cp:coreProperties>
</file>