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6A0-B869-4403-86B9-910E5898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E14-5044-4BCD-BC95-A4AB9CBA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DFF-2E60-4BBB-9E6C-79B8000A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50F-B1C1-47DF-B893-F8EA9C98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149-71A3-4E30-9EC7-17D7BFA0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CE5-B57A-4C07-A172-DF5EF60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E92-0EF1-4E07-95D1-413F5986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A31-5A40-4645-8DCD-CC4F2BA0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1F0-FB61-4376-BC31-EA57956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A9C-1598-4644-87CA-5736C5E3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0E4-5F22-4379-A9E3-8358371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F54-FCCA-4F4F-A81D-4A93759F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2828-DA04-45DF-B897-EADC89579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238245512_frame-127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03320" y="304920"/>
            <a:ext cx="6316560" cy="15969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281160" y="1889280"/>
            <a:ext cx="57956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E:\Документы\Мои рисунки\фон\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25440" y="1285920"/>
            <a:ext cx="8593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тя и Илья учились в третьем классе. Мальч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и дружили. В воскресенье Витя пригласил товар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а в гости. Войдя в квартиру, Илья снял пальт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пку. Он аккуратно повесил их на вешалку. Мал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ик вежливо поздоровался с родными Вити. Поиг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ли друзья и пошли к Ил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 Илья швырнул грязные ботинки под шка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льто и шапку бросил бабушке и приказал пове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тя удивлённо наблюдал странную перемену в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упках др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1481040" y="182520"/>
            <a:ext cx="631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E:\Документы\Мои рисунки\фон\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1573200" y="360360"/>
            <a:ext cx="58388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3"/>
          <a:stretch/>
        </p:blipFill>
        <p:spPr>
          <a:xfrm>
            <a:off x="219240" y="1560600"/>
            <a:ext cx="89312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E:\Документы\Мои рисунки\фон\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1143000" y="121428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то в дружбу верит горячо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то рядом чувствует плечо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т никогда не упадёт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любой беде не пропадёт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если и споткнётся вдруг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 встать ему поможет друг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сегда в беде надёжный друг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му протянет ру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341280" y="182520"/>
            <a:ext cx="846792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4" descr=""/>
          <p:cNvPicPr/>
          <p:nvPr/>
        </p:nvPicPr>
        <p:blipFill>
          <a:blip r:embed="rId3"/>
          <a:stretch/>
        </p:blipFill>
        <p:spPr>
          <a:xfrm>
            <a:off x="317520" y="5657760"/>
            <a:ext cx="83390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E:\Документы\Мои рисунки\фон\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480960" y="182520"/>
            <a:ext cx="7871040" cy="1103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26880" y="128592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тя и Илья учились в третьем классе. Мальч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и дружили. В воскресенье Витя пригласил товар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а в гости. Войдя в квартиру, Илья снял пальт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пку. Он аккуратно повесил их на вешалку. Мал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ик вежливо поздоровался с родными Вити. Поиг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ли друзья и пошли к Ил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25440" y="3929040"/>
            <a:ext cx="859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 Илья швырнул грязные ботинки под шка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льто и шапку бросил бабушке и приказал пове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тя удивлённо наблюдал странную перемену в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упках др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E:\Документы\Мои рисунки\фон\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" descr=""/>
          <p:cNvPicPr/>
          <p:nvPr/>
        </p:nvPicPr>
        <p:blipFill>
          <a:blip r:embed="rId2"/>
          <a:stretch/>
        </p:blipFill>
        <p:spPr>
          <a:xfrm>
            <a:off x="1060560" y="42840"/>
            <a:ext cx="6924600" cy="19321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3"/>
          <a:stretch/>
        </p:blipFill>
        <p:spPr>
          <a:xfrm>
            <a:off x="585720" y="2530440"/>
            <a:ext cx="8120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E:\Документы\Мои рисунки\фон\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1189080" y="396720"/>
            <a:ext cx="6375240" cy="755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60280" y="1143000"/>
            <a:ext cx="123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7647120" y="1214280"/>
            <a:ext cx="48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1"/>
          <p:cNvSpPr/>
          <p:nvPr/>
        </p:nvSpPr>
        <p:spPr>
          <a:xfrm>
            <a:off x="7575840" y="1214280"/>
            <a:ext cx="5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361960" y="2714760"/>
            <a:ext cx="77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5"/>
          <p:cNvSpPr/>
          <p:nvPr/>
        </p:nvSpPr>
        <p:spPr>
          <a:xfrm>
            <a:off x="2861280" y="3429000"/>
            <a:ext cx="5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1"/>
          <p:cNvSpPr/>
          <p:nvPr/>
        </p:nvSpPr>
        <p:spPr>
          <a:xfrm>
            <a:off x="1717920" y="1928880"/>
            <a:ext cx="48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5"/>
          <p:cNvSpPr/>
          <p:nvPr/>
        </p:nvSpPr>
        <p:spPr>
          <a:xfrm>
            <a:off x="3646440" y="1214280"/>
            <a:ext cx="48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1"/>
          <p:cNvSpPr/>
          <p:nvPr/>
        </p:nvSpPr>
        <p:spPr>
          <a:xfrm>
            <a:off x="3932640" y="192888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2"/>
          <p:cNvSpPr/>
          <p:nvPr/>
        </p:nvSpPr>
        <p:spPr>
          <a:xfrm>
            <a:off x="1217520" y="1214280"/>
            <a:ext cx="48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9"/>
          <p:cNvSpPr/>
          <p:nvPr/>
        </p:nvSpPr>
        <p:spPr>
          <a:xfrm>
            <a:off x="536040" y="121428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л  я, в трет  ем, воскресен  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руз  я, в кла    е, а    уратн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дивлё     о, стра     ая, друж  л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оварищ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0"/>
          <p:cNvSpPr/>
          <p:nvPr/>
        </p:nvSpPr>
        <p:spPr>
          <a:xfrm>
            <a:off x="1146600" y="1214280"/>
            <a:ext cx="5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0"/>
          <p:cNvSpPr/>
          <p:nvPr/>
        </p:nvSpPr>
        <p:spPr>
          <a:xfrm>
            <a:off x="3575520" y="1214280"/>
            <a:ext cx="5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3"/>
          <p:cNvSpPr/>
          <p:nvPr/>
        </p:nvSpPr>
        <p:spPr>
          <a:xfrm>
            <a:off x="1718280" y="2000160"/>
            <a:ext cx="5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9"/>
          <p:cNvSpPr/>
          <p:nvPr/>
        </p:nvSpPr>
        <p:spPr>
          <a:xfrm>
            <a:off x="3933360" y="2000160"/>
            <a:ext cx="77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7"/>
          <p:cNvSpPr/>
          <p:nvPr/>
        </p:nvSpPr>
        <p:spPr>
          <a:xfrm>
            <a:off x="5433480" y="2000160"/>
            <a:ext cx="77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8"/>
          <p:cNvSpPr/>
          <p:nvPr/>
        </p:nvSpPr>
        <p:spPr>
          <a:xfrm>
            <a:off x="5357880" y="1928880"/>
            <a:ext cx="85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2"/>
          <p:cNvSpPr/>
          <p:nvPr/>
        </p:nvSpPr>
        <p:spPr>
          <a:xfrm>
            <a:off x="4862160" y="2714760"/>
            <a:ext cx="84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3"/>
          <p:cNvSpPr/>
          <p:nvPr/>
        </p:nvSpPr>
        <p:spPr>
          <a:xfrm>
            <a:off x="2433240" y="2714760"/>
            <a:ext cx="84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3"/>
          <p:cNvSpPr/>
          <p:nvPr/>
        </p:nvSpPr>
        <p:spPr>
          <a:xfrm>
            <a:off x="4791600" y="2714760"/>
            <a:ext cx="94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2"/>
          <p:cNvSpPr/>
          <p:nvPr/>
        </p:nvSpPr>
        <p:spPr>
          <a:xfrm>
            <a:off x="7790400" y="2714760"/>
            <a:ext cx="5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7"/>
          <p:cNvSpPr/>
          <p:nvPr/>
        </p:nvSpPr>
        <p:spPr>
          <a:xfrm>
            <a:off x="7790040" y="2643120"/>
            <a:ext cx="52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:\Документы\Мои рисунки\фон\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573120" y="804960"/>
            <a:ext cx="7918560" cy="90144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3" descr=""/>
          <p:cNvPicPr/>
          <p:nvPr/>
        </p:nvPicPr>
        <p:blipFill>
          <a:blip r:embed="rId3"/>
          <a:stretch/>
        </p:blipFill>
        <p:spPr>
          <a:xfrm>
            <a:off x="1158840" y="2382840"/>
            <a:ext cx="5815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 В. Яшкова</dc:creator>
  <dc:description/>
  <dc:language>en-US</dc:language>
  <cp:lastModifiedBy>ADMIN</cp:lastModifiedBy>
  <dcterms:modified xsi:type="dcterms:W3CDTF">2016-04-18T11:00:03Z</dcterms:modified>
  <cp:revision>26</cp:revision>
  <dc:subject/>
  <dc:title>Слайд 1</dc:title>
</cp:coreProperties>
</file>