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B78-0B23-4A4C-94E3-84E89339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1FA-652C-4A30-836E-28B7838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F6F-C4C8-4442-9384-3D5735BC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4E2-DFF4-4B69-AD3E-9B827745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F58-D08F-4559-803F-EC0BE595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127-8058-475A-A900-1348F31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FEF-0A1E-482F-B49E-FD28773D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A40-AFCF-4323-A340-4DE60B49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46A-FACE-482A-9E2F-CBF9D1F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033-2111-4E83-B3FD-1950FB4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70B-8A55-4FF4-8E1F-3D3C415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A6-53D2-41FB-B893-DC8C67D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88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822240" y="4734360"/>
            <a:ext cx="83995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26400" y="213804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2224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26400" y="4734360"/>
            <a:ext cx="40989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6228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960" y="213804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82224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6228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1960" y="4734360"/>
            <a:ext cx="270432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5480"/>
            <a:ext cx="9037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144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22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1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AEB6-CCAC-4684-B341-38B6F173D03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 rot="5400000">
            <a:off x="6457680" y="3486240"/>
            <a:ext cx="604836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 rot="5400000">
            <a:off x="4872960" y="2352600"/>
            <a:ext cx="400320" cy="10080360"/>
          </a:xfrm>
          <a:custGeom>
            <a:avLst/>
            <a:gdLst>
              <a:gd name="textAreaLeft" fmla="*/ 360 w 400320"/>
              <a:gd name="textAreaRight" fmla="*/ 399960 w 40032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543435">
                <a:moveTo>
                  <a:pt x="85" y="0"/>
                </a:moveTo>
                <a:arcTo wR="85" hR="85" stAng="16200000" swAng="-5400000"/>
                <a:lnTo>
                  <a:pt x="0" y="543350"/>
                </a:lnTo>
                <a:arcTo wR="85" hR="85" stAng="10800000" swAng="-5400000"/>
                <a:lnTo>
                  <a:pt x="21515" y="543435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 rot="5400000">
            <a:off x="4527360" y="-4460760"/>
            <a:ext cx="1091880" cy="10080360"/>
          </a:xfrm>
          <a:custGeom>
            <a:avLst/>
            <a:gdLst>
              <a:gd name="textAreaLeft" fmla="*/ 360 w 1091880"/>
              <a:gd name="textAreaRight" fmla="*/ 1091520 w 1091880"/>
              <a:gd name="textAreaTop" fmla="*/ 360 h 10080360"/>
              <a:gd name="textAreaBottom" fmla="*/ 10080000 h 10080360"/>
            </a:gdLst>
            <a:ahLst/>
            <a:rect l="textAreaLeft" t="textAreaTop" r="textAreaRight" b="textAreaBottom"/>
            <a:pathLst>
              <a:path w="21600" h="199355">
                <a:moveTo>
                  <a:pt x="31" y="0"/>
                </a:moveTo>
                <a:arcTo wR="31" hR="31" stAng="16200000" swAng="-5400000"/>
                <a:lnTo>
                  <a:pt x="0" y="199324"/>
                </a:lnTo>
                <a:arcTo wR="31" hR="31" stAng="10800000" swAng="-5400000"/>
                <a:lnTo>
                  <a:pt x="21569" y="199355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0160" y="7560"/>
            <a:ext cx="8870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345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299120" y="3633840"/>
            <a:ext cx="1008036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0" y="7054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 rot="16200000">
            <a:off x="8772480" y="-16848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 rot="16200000">
            <a:off x="877248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 rot="16200000">
            <a:off x="8772480" y="83916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 rot="16200000">
            <a:off x="877248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16200000">
            <a:off x="8772480" y="1847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16200000">
            <a:off x="877248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 rot="16200000">
            <a:off x="877248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 rot="16200000">
            <a:off x="877248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 rot="16200000">
            <a:off x="877248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 rot="16200000">
            <a:off x="877248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2"/>
          <p:cNvSpPr/>
          <p:nvPr/>
        </p:nvSpPr>
        <p:spPr>
          <a:xfrm rot="16200000">
            <a:off x="877248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3"/>
          <p:cNvSpPr/>
          <p:nvPr/>
        </p:nvSpPr>
        <p:spPr>
          <a:xfrm rot="16200000">
            <a:off x="877248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 rot="16200000">
            <a:off x="877248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74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57412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75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75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574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57412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75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75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1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44A3F-7727-4751-B7CB-7614A7A039B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244080"/>
            <a:ext cx="903744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5741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7412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8852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22240" y="2138040"/>
            <a:ext cx="83995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741240" y="673200"/>
            <a:ext cx="860760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80047"/>
                </a:solidFill>
                <a:latin typeface="Times New Roman"/>
                <a:ea typeface="Lucida Sans Unicode"/>
              </a:rPr>
              <a:t>Как развивать связную речь ребён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80047"/>
                </a:solidFill>
                <a:latin typeface="Times New Roman"/>
                <a:ea typeface="Lucida Sans Unicode"/>
              </a:rPr>
              <a:t>Консультация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436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2.Составление рассказа по картинке</a:t>
            </a:r>
            <a:br>
              <a:rPr sz="3200"/>
            </a:b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40000" y="2160360"/>
            <a:ext cx="431964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зима. На улице падал снежок. Миша решил отправиться на прогулку. Он взял с собой санки и лыжи. Сначала ему захотелось прокатиться на санках. Он воткнул лыжи в сугроб,сел на санки и поехал. У-ух,с ветерком! Хорошо гулять зимой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1128600" y="2100240"/>
            <a:ext cx="3422880" cy="4759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741240" y="744480"/>
            <a:ext cx="85932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ссказывание является наиболее сложным видом работ с картиной. Составляя рассказ о событиях, якобы происходящих с героями картины, ребёнок не только опирается на собственный опыт, но использует фантазию. При этом его речь должна быть содержательной, логичной, последовательной, связной, грамот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этому роль взрослого в обучении рассказыванию велика. Педагоги и родители должны понимать недостаточность знаний малыша и наличие некоторых трудностей, настроиться на общение, а не на поучение, должны быть готовы принять и обсудить любые ответы и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741240" y="625320"/>
            <a:ext cx="85996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5978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8080"/>
                </a:solidFill>
                <a:latin typeface="Arial"/>
              </a:rPr>
              <a:t>Рассказывание по серии сюжетных картинок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991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рослый просит разложить сюжетные картинки в логической последовательности, ответить на вопросы полным ответом и составить рассказ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5219640" y="2340000"/>
            <a:ext cx="419580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4640" y="539640"/>
            <a:ext cx="859500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Пересказ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950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85640" indent="-422280" algn="just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ересказу следует начинать с коротких сказок и рассказов,так как их ребёнок пересказывает увереннее. Не следует требовать от детей пересказать произведение сразу после его прочтения, дошкольников необходимо подготовить к этому виду деятельн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5640" indent="-422280" algn="just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Задать детям вопросы по содержанию текст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5640" indent="-422280" algn="just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ъяснить незнакомые слов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5640" indent="-422280" algn="just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оставить план пересказа или опорную схем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5640" indent="-422280" algn="just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85640"/>
                <a:tab algn="l" pos="590400"/>
                <a:tab algn="l" pos="1039680"/>
                <a:tab algn="l" pos="1488960"/>
                <a:tab algn="l" pos="1938240"/>
                <a:tab algn="l" pos="2387520"/>
                <a:tab algn="l" pos="2836800"/>
                <a:tab algn="l" pos="3286080"/>
                <a:tab algn="l" pos="3735360"/>
                <a:tab algn="l" pos="4184640"/>
                <a:tab algn="l" pos="4633920"/>
                <a:tab algn="l" pos="5083200"/>
                <a:tab algn="l" pos="5532480"/>
                <a:tab algn="l" pos="5981760"/>
                <a:tab algn="l" pos="6431040"/>
                <a:tab algn="l" pos="6880320"/>
                <a:tab algn="l" pos="7329600"/>
                <a:tab algn="l" pos="7778880"/>
                <a:tab algn="l" pos="8228160"/>
                <a:tab algn="l" pos="8677440"/>
                <a:tab algn="l" pos="9126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сказе часто ребёнку нужно подсказать в трудных местах. Вопросы поддерживают у детей уверенность в своих силах и не позволяют уклониться от основной мысли рассказ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4960"/>
            <a:ext cx="85978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8080"/>
                </a:solidFill>
                <a:latin typeface="Arial"/>
              </a:rPr>
              <a:t>Описа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исания нужно подобрать известные ребёнку предметы,игрушки,картинки: Мишутка,кукла,машинка, тарелка. При описании предмета ребёнок может опираться на следующие вопросы взрослого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ак называется предмет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Из чего он сделан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Какого он цвета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с ним можно делать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741240" y="625320"/>
            <a:ext cx="859644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пример: «Это кукла. Она пластмассовая. Куклу звать Алёнкой. У Алёны голубые глаза, белые волосы, красные щёчки. Она улыбается. На ней платье красного цвета в белую полоску. На ногах белые носочки и коричневые туфли. На голове белый бант. С куклой дети играют, кладут её спать, кормят, одевают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741240" y="625320"/>
            <a:ext cx="859644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526680"/>
            <a:ext cx="85950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Для составления описательных рассказов можно использовать опорные схемы.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741240" y="2879640"/>
            <a:ext cx="4119840" cy="3240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45120" y="2101320"/>
            <a:ext cx="419400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4000"/>
          </a:bodyPr>
          <a:p>
            <a:pPr marL="32220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рассказа о домашнем животном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Кто это?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Где живёт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Какого размера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Какого цвета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Какая у него шерсть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Какой хвост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Размер и форма ушей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Чем питается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Какую пользу имеет для человека и природы?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</a:rPr>
              <a:t>Творческое рассказывание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41240" y="2235240"/>
            <a:ext cx="8593200" cy="46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аиболее сложный для детей дошкольного возраста вид монологической речи. Подобные рассказы составляются на основе детского воображения. Возможность составлять творческие рассказы возникает у ребёнка только в старшем дошкольном возрасте, в 5-6 л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41240" y="700200"/>
            <a:ext cx="860292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Существуют разные варианты творческого рассказы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Придумывание завершения рассказа (воспитатель сообщает начало рассказа, его завязку, а события и героев дети придумывают са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Дети придумывают рассказ или сказку по плану воспита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Дети придумывают рассказ по теме,предложенной воспитателем (без план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3840" y="72072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оветы родителям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21880" y="1800360"/>
            <a:ext cx="841716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пользуйте каждую свободную минуту для беседы с ребёнком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мните,что основные собеседники для ребёнка в семье-мама,папа,бабушка и дедуш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ручайте старшим детям как можно больше разговаривать с ребёнком в свободное врем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741240" y="625320"/>
            <a:ext cx="86029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Связная ре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развёрнутое изложение определённого содержания, которое осуществляется логично, последовательно,точно, грамматически правильно и образ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741240" y="700200"/>
            <a:ext cx="860580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Приобретайте репродукции художественных картин,альбомы,картинки,рассматривайте их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5.Предложите ребёнку соревнование «Чья сказка лучше», «Чей рассказ интереснее» с участием всех членов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Записывайте в тетрадь или на магнитофон рассказы и сказки вашего ребёнка. Через 2-3 месяца прослушайте их вместе с ребёнком,проанализируйте,запишите н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741240" y="744480"/>
            <a:ext cx="86058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Желаем успе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741240" y="744480"/>
            <a:ext cx="85932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17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машнее зада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21880" y="2182320"/>
            <a:ext cx="8402760" cy="48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рочитать ребёнку сказку (русскую народную,авторскую  или зарубежную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Задать вопросы по сказке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Нарисовать иллюстрацию к сказке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Пересказать сказку, пересказ ребёнка записать от руки или набрать на компьютере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Иллюстрацию и пересказ принести воспитателям в группу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112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8080"/>
                </a:solidFill>
                <a:latin typeface="Arial"/>
              </a:rPr>
              <a:t>Связная речь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20360" y="2084040"/>
            <a:ext cx="41972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Диалогическа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зговор двух челове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сновная форма общения дошкольников. Важно учить ребёнка вести диалог,развивать умение слушать и понимать обращённую к нему речь,вступать в разговор,отвечать на вопросы и спрашивать самому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Arial"/>
              </a:rPr>
              <a:t>Монологическа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ообщение о том, что произошло,как развивались действие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исан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овесное изображение предмета речи,его признаков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азмышление о том, почему предмет такой, что он значит,полезен ли,почему им надо так пользоваться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741240" y="744480"/>
            <a:ext cx="85996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витие обеих форм связной речи играет ведущую роль в процессе речевого развития ребёнка. Связная речь вбирает в себя все достижения ребёнка в овладении родным языком, его звуковым строем, словарным составом, грамматическим стро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сихологи подчёркивают, что в связной речи отчётливо выступает тесная связь речевого и умственного воспитания детей. Ребёнок учится мыслить,учась говорить, но он также и совершенствует речь,учась мыслить. (Ф.А. Сохи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760320" y="720720"/>
            <a:ext cx="859968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вязная речь выполняет важнейшие социальные функции: помогает ребёнку устанавливать связи с окружающими людьми, определяет и регулирует нормы поведения в обществе, что является решающим условием для развития его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учение связной речи оказывает влияние и на эстетическое воспитание: пересказы литературных произведений, самостоятельные детские сочинения развивают образность и выразительность речи, обогащают художественно-речевой опыт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741240" y="625320"/>
            <a:ext cx="86011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741240" y="625320"/>
            <a:ext cx="85996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Исследователи отмечают,что элементы монологической речи появляются в высказываниях детей в 2-3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Уже с 4 лет детям становятся доступны простое описание предмета и повествование (рассказ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С 5-6 лет ребёнок начинает интенсивно овладевать монологической реч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На седьмом году жизни характерно короткое рассу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741240" y="625320"/>
            <a:ext cx="85996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Приёмы развития связн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1.Беседа по картинк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133960" y="2138400"/>
            <a:ext cx="4105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.Какое время года изображено на картинке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2.Кого ты видишь на картинке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3.Как одет мальчик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4.Что мальчик взял с собой на прогулку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5.Куда он поставил лыжи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6.Что делает мальчик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7.Какое у него настроение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8.Любишь ли ты кататься на санках и лыжах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1082520" y="1979640"/>
            <a:ext cx="35848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741240" y="744480"/>
            <a:ext cx="85932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мечательный педагог К.Д.Ушинский утверждал: « Дайте ребёнку картину, и он заговорит».С классиком трудно не согласиться. Картина- это прекрасная наглядность, на базе которой дети под руководством педагогов и родит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развивают наблюда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совершенствуют сопутствующие наблюдению психические процессы( мышление, воображение, внимание, память, восприят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пополняют запас знаний и свед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развивают 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3:05:09Z</dcterms:created>
  <dc:creator/>
  <dc:description/>
  <dc:language>en-US</dc:language>
  <cp:lastModifiedBy>1</cp:lastModifiedBy>
  <dcterms:modified xsi:type="dcterms:W3CDTF">2019-12-07T07:16:30Z</dcterms:modified>
  <cp:revision>2</cp:revision>
  <dc:subject/>
  <dc:title>Презентация PowerPoint</dc:title>
</cp:coreProperties>
</file>