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53A-79F8-4F9A-9AD8-C8DF21DC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136-1D94-4986-8FA5-FFCF6B39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1A7-1F20-4157-8904-20EC1235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02A-D96A-4DC5-AE30-6B159A33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9690-2DCB-4ED7-AEB8-ACCAE4E1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EED1-73E0-40BE-82F2-8DFEB6EA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0C3D-7C16-4096-8416-3E78CF7A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3315-EBEC-436E-8AB8-DAEA6435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94F8-5DBD-459A-8E8D-36644B39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ECB5-78DD-419D-B3D5-B5734CFA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65E7-8A9E-4B1B-B367-71710D4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F2C-A93B-4849-9D5E-96E98036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3C14-856E-476A-955A-A323CE6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7093-52AB-4D37-AA06-1B447DD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6385-86A8-4B74-B5C9-B22A12E5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D0B6-1D10-41C0-877A-5F897F17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7569-74B9-4032-A65E-2B7A4285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CD84-206A-400B-9261-4C44BEA5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D004E-FED3-4E24-9DA1-E9F745D4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72A3A-7145-48A5-A729-C5F9F0B8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76C6-6B07-4C5C-AFD7-C3AE8AE0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899A-A2D2-4B3D-8D88-D744DB35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24E-E26B-4CFB-8B96-20B61A39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161B-2403-416E-887D-83088F48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0029-50C2-4DC0-9328-41A2DB63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D464-22E0-44B2-9C62-BB1DB3DA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9182-577E-448C-B5B9-5E0A347C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A2CF-880B-401C-B4F1-E2FCEE83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E831-A7C9-4A47-BCF8-73D0FBF6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BA2F2-CF85-4541-BF9F-8BC7C398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18033-9E94-4405-B93A-59440D2C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B6B22-FBA6-4242-B509-F7E58AE8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C47E-3354-46D6-8528-807752E5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FC7-6ED5-4F34-A12E-AE7406C5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0477-8B1D-479E-A570-07908ABC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77D2C-FC1E-463D-B2EC-AA7D71FA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959B9-E6E3-4192-94E7-F0156980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257C-3BBA-428D-8ABF-35FD32A5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23540-CE7F-4F0D-929C-5C3F6E40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7C3D6-7653-439E-9D01-857D9133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04A66-A62D-4707-8DB3-0844510F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723B-D948-4370-9122-C848B668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E30A2-0DA6-4DDE-A1EF-14C2CD98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20A-FBAA-41C7-9350-83AD61D6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AB0-0442-4F69-AADE-6378123E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FC1-7D70-4907-9447-6617C1B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AAC-6E4D-4495-BA1E-AD86F3A5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0FA-2654-416E-9D43-F86206B0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5A9B0-E15C-42EE-B870-DB9E9A0A2058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48855-F251-4246-95A0-F1EE1CF15322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56A1A-EE41-49BC-BD69-5310A9BB10D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4D310-78CF-4A8C-B5A7-5D2C60AC6F8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2770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ссный час на тему: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Безопасность в сети Интерне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477040" y="5157360"/>
            <a:ext cx="3528720" cy="11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ронкина Мария Викторовн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БОУ Чашниковская СОШ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Рисунок 3" descr=""/>
          <p:cNvPicPr/>
          <p:nvPr/>
        </p:nvPicPr>
        <p:blipFill>
          <a:blip r:embed="rId1"/>
          <a:stretch/>
        </p:blipFill>
        <p:spPr>
          <a:xfrm>
            <a:off x="468360" y="1870200"/>
            <a:ext cx="4894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252360" y="691920"/>
            <a:ext cx="91454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зопасность в Интернете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Picture 4" descr="C:\Users\Чуяшовы\Searches\Desktop\zashhitite-detej-ot-vrednogo-vliyaniya-smi.jpg"/>
          <p:cNvPicPr/>
          <p:nvPr/>
        </p:nvPicPr>
        <p:blipFill>
          <a:blip r:embed="rId1"/>
          <a:stretch/>
        </p:blipFill>
        <p:spPr>
          <a:xfrm>
            <a:off x="1476360" y="2060640"/>
            <a:ext cx="62326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7892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Что такое Интернет для вас?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Какие угрозы в могут ожидать вас при работе в сети Интернет? </a:t>
            </a:r>
            <a:br>
              <a:rPr sz="49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8" name="Picture 2" descr="C:\Users\Чуяшовы\Searches\Desktop\img19.jpg"/>
          <p:cNvPicPr/>
          <p:nvPr/>
        </p:nvPicPr>
        <p:blipFill>
          <a:blip r:embed="rId1"/>
          <a:stretch/>
        </p:blipFill>
        <p:spPr>
          <a:xfrm>
            <a:off x="2484360" y="306864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Интернет (польза)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Средство для поиска информации;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Место, где можно играть;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Большой магазин;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Источник учебной информации;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Средство для поиска друзей, место общения и др.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такое Интернет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Picture 2" descr="C:\Users\Чуяшовы\Searches\Desktop\internet-censorship.jpg"/>
          <p:cNvPicPr/>
          <p:nvPr/>
        </p:nvPicPr>
        <p:blipFill>
          <a:blip r:embed="rId1"/>
          <a:stretch/>
        </p:blipFill>
        <p:spPr>
          <a:xfrm>
            <a:off x="1692360" y="1628640"/>
            <a:ext cx="6143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064720" cy="61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ные правила безопасности при работе в сети Интернет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Будьте осторожны при общении с незнакомыми людьми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Нельзя сообщать свои личные данные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Установите антивирус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НЕ запускайте неизвестные файлы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НЕ открывайте письма от незнакомцев.</a:t>
            </a:r>
            <a:br>
              <a:rPr sz="4900"/>
            </a:br>
            <a:br>
              <a:rPr sz="4900"/>
            </a:br>
            <a:br>
              <a:rPr sz="49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Плюсы Интернета»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Минусы Интернет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Здоровье и Интернет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Время и Интернет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Игры и Интернет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бразование и Интернет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2" descr="C:\Users\Чуяшовы\Searches\Desktop\202.ht1_.gif"/>
          <p:cNvPicPr/>
          <p:nvPr/>
        </p:nvPicPr>
        <p:blipFill>
          <a:blip r:embed="rId1"/>
          <a:stretch/>
        </p:blipFill>
        <p:spPr>
          <a:xfrm>
            <a:off x="6156360" y="4149720"/>
            <a:ext cx="2797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!!!</a:t>
            </a: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Picture 2" descr="C:\Users\Чуяшовы\Searches\Desktop\урок математики в 5 классе\смайлик 2.jpg"/>
          <p:cNvPicPr/>
          <p:nvPr/>
        </p:nvPicPr>
        <p:blipFill>
          <a:blip r:embed="rId1"/>
          <a:stretch/>
        </p:blipFill>
        <p:spPr>
          <a:xfrm>
            <a:off x="1908000" y="1989000"/>
            <a:ext cx="589788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14:19:42Z</dcterms:created>
  <dc:creator>IRONMANN (AKA SHAMAN)</dc:creator>
  <dc:description/>
  <dc:language>en-US</dc:language>
  <cp:lastModifiedBy>Admin</cp:lastModifiedBy>
  <dcterms:modified xsi:type="dcterms:W3CDTF">2019-12-07T19:46:50Z</dcterms:modified>
  <cp:revision>27</cp:revision>
  <dc:subject/>
  <dc:title>Классный час «Буратино в Интернете»</dc:title>
</cp:coreProperties>
</file>