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5.wmf" ContentType="image/x-wmf"/>
  <Override PartName="/ppt/media/image4.jpeg" ContentType="image/jpeg"/>
  <Override PartName="/ppt/media/image6.gif" ContentType="image/gif"/>
  <Override PartName="/ppt/media/image9.wmf" ContentType="image/x-wmf"/>
  <Override PartName="/ppt/media/applause.wav" ContentType="audio/x-wav"/>
  <Override PartName="/ppt/media/image7.wmf" ContentType="image/x-wm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134-4A63-499B-891F-213274E4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33E-B87A-4D75-925C-33724550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BE0-FECA-4747-A6AE-81F6FC9B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EE5-8FE3-479D-A386-C170904A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067-F526-4FB8-8FEC-429DA9E5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3D7-11E9-417C-A64D-D8FA13DC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39C-6698-4776-AD36-67748820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D1D-78BC-472A-A309-BDC0DE29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FA8-1D40-4A99-A7A5-14CFCF4D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E45-3932-4E62-B6F3-B12F9CF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1ED-1494-46D9-9D88-E57CED3E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87B-D3ED-4B5A-B58A-491D1F05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4AE1-EE2F-4BB9-924C-D87515FDB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5"/>
          <p:cNvGrpSpPr/>
          <p:nvPr/>
        </p:nvGrpSpPr>
        <p:grpSpPr>
          <a:xfrm>
            <a:off x="165240" y="176040"/>
            <a:ext cx="8813520" cy="6505920"/>
            <a:chOff x="165240" y="176040"/>
            <a:chExt cx="8813520" cy="6505920"/>
          </a:xfrm>
        </p:grpSpPr>
        <p:pic>
          <p:nvPicPr>
            <p:cNvPr id="42" name="Rectangle 5" descr=""/>
            <p:cNvPicPr/>
            <p:nvPr/>
          </p:nvPicPr>
          <p:blipFill>
            <a:blip r:embed="rId1"/>
            <a:stretch/>
          </p:blipFill>
          <p:spPr>
            <a:xfrm>
              <a:off x="165240" y="176040"/>
              <a:ext cx="88135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WordArt 6"/>
          <p:cNvSpPr txBox="1"/>
          <p:nvPr/>
        </p:nvSpPr>
        <p:spPr>
          <a:xfrm>
            <a:off x="1116000" y="692280"/>
            <a:ext cx="7056360" cy="54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75f06c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komp37"/>
          <p:cNvPicPr/>
          <p:nvPr/>
        </p:nvPicPr>
        <p:blipFill>
          <a:blip r:embed="rId1"/>
          <a:stretch/>
        </p:blipFill>
        <p:spPr>
          <a:xfrm>
            <a:off x="324000" y="4687920"/>
            <a:ext cx="2016000" cy="1846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401400" y="476280"/>
            <a:ext cx="84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Ученик напечатал слова с парной согласной в корн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В каких словах он допустил ошиб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1403280" y="3213000"/>
            <a:ext cx="2303640" cy="1295640"/>
          </a:xfrm>
          <a:prstGeom prst="cloudCallout">
            <a:avLst>
              <a:gd name="adj1" fmla="val -34976"/>
              <a:gd name="adj2" fmla="val 6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1403280" y="3357720"/>
            <a:ext cx="2808360" cy="1079280"/>
          </a:xfrm>
          <a:prstGeom prst="cloudCallout">
            <a:avLst>
              <a:gd name="adj1" fmla="val -48305"/>
              <a:gd name="adj2" fmla="val 74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1042920" y="3573360"/>
            <a:ext cx="3095640" cy="898560"/>
          </a:xfrm>
          <a:prstGeom prst="cloudCallout">
            <a:avLst>
              <a:gd name="adj1" fmla="val -46000"/>
              <a:gd name="adj2" fmla="val 96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ё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1979640" y="3429000"/>
            <a:ext cx="2305080" cy="936720"/>
          </a:xfrm>
          <a:prstGeom prst="cloudCallout">
            <a:avLst>
              <a:gd name="adj1" fmla="val -98898"/>
              <a:gd name="adj2" fmla="val 98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п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1258920" y="3429000"/>
            <a:ext cx="2879640" cy="865080"/>
          </a:xfrm>
          <a:prstGeom prst="cloudCallout">
            <a:avLst>
              <a:gd name="adj1" fmla="val -59314"/>
              <a:gd name="adj2" fmla="val 113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900000" y="3213000"/>
            <a:ext cx="3529080" cy="1008000"/>
          </a:xfrm>
          <a:prstGeom prst="cloudCallout">
            <a:avLst>
              <a:gd name="adj1" fmla="val -48379"/>
              <a:gd name="adj2" fmla="val 112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в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826920" y="3357720"/>
            <a:ext cx="3311640" cy="936360"/>
          </a:xfrm>
          <a:prstGeom prst="cloudCallout">
            <a:avLst>
              <a:gd name="adj1" fmla="val -42041"/>
              <a:gd name="adj2" fmla="val 102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3"/>
          <p:cNvSpPr/>
          <p:nvPr/>
        </p:nvSpPr>
        <p:spPr>
          <a:xfrm>
            <a:off x="4211640" y="1484280"/>
            <a:ext cx="2374920" cy="825480"/>
          </a:xfrm>
          <a:prstGeom prst="cloudCallout">
            <a:avLst>
              <a:gd name="adj1" fmla="val -47592"/>
              <a:gd name="adj2" fmla="val 64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4500720" y="1484280"/>
            <a:ext cx="170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ё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4"/>
          <p:cNvSpPr/>
          <p:nvPr/>
        </p:nvSpPr>
        <p:spPr>
          <a:xfrm>
            <a:off x="6372360" y="3141720"/>
            <a:ext cx="2376360" cy="1008000"/>
          </a:xfrm>
          <a:prstGeom prst="cloudCallout">
            <a:avLst>
              <a:gd name="adj1" fmla="val -83000"/>
              <a:gd name="adj2" fmla="val 75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5076720" y="4581360"/>
            <a:ext cx="3816360" cy="1008360"/>
          </a:xfrm>
          <a:prstGeom prst="cloudCallout">
            <a:avLst>
              <a:gd name="adj1" fmla="val -64393"/>
              <a:gd name="adj2" fmla="val 44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0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01064 C -0.07153 -0.03423 -0.06406 -0.07911 -0.04306 -0.12514 C -0.02187 -0.17071 -0.02222 -0.23872 0.04809 -0.26393 C 0.1184 -0.28915 0.29254 -0.2674 0.37917 -0.27596 C 0.46528 -0.28475 0.51597 -0.30002 0.56719 -0.31483 E">
                                      <p:cBhvr>
                                        <p:cTn id="791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66713E-006 C 0.02066 -0.05551 0.0415 -0.1108 0.07257 -0.14272 C 0.10365 -0.17441 0.13994 -0.19408 0.18594 -0.19107 C 0.23195 -0.18783 0.30313 -0.12815 0.34896 -0.12375 C 0.3948 -0.11913 0.42761 -0.1418 0.46077 -0.16424 E">
                                      <p:cBhvr>
                                        <p:cTn id="80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8635E-006 C 0.08941 -0.02314 0.17934 -0.0458 0.21146 -0.08698 C 0.24375 -0.12839 0.18125 -0.20865 0.19254 -0.24867 C 0.20382 -0.28892 0.2415 -0.30858 0.27969 -0.32778 E">
                                      <p:cBhvr>
                                        <p:cTn id="80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5251 C -0.02899 0.07472 0.0132 0.09669 0.06077 0.10433 C 0.10851 0.11266 0.15226 0.10687 0.21476 0.1004 C 0.27726 0.09392 0.38855 0.08652 0.43681 0.06547 C 0.4849 0.04418 0.49445 0.00856 0.504 -0.02637 E">
                                      <p:cBhvr>
                                        <p:cTn id="81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24 -0.12214 -0.02847 -0.24428 -0.0342 -0.29309 E">
                                      <p:cBhvr>
                                        <p:cTn id="82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944 0.01782 0.03889 0.03586 0.07413 0.0768 C 0.10937 0.11775 0.14774 0.22647 0.2118 0.24613 C 0.27587 0.26579 0.36736 0.22994 0.45885 0.19431 E">
                                      <p:cBhvr>
                                        <p:cTn id="83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4 0.01319 C -0.0283 0.01157 -0.00122 0.00995 0.03437 0.01458 C 0.06996 0.0192 0.12656 0.04951 0.15885 0.04141 C 0.19097 0.03331 0.22673 -0.00532 0.2276 -0.034 C 0.22847 -0.06269 0.19566 -0.09692 0.16319 -0.13116 E">
                                      <p:cBhvr>
                                        <p:cTn id="84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900000" y="765000"/>
            <a:ext cx="75596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так, что надо сделать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чтобы грамотно написат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арную согласную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в корне слова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8feff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985680" y="2421000"/>
            <a:ext cx="7172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описание парных соглас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корне слов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7" name="Picture 6" descr="21m2"/>
          <p:cNvPicPr/>
          <p:nvPr/>
        </p:nvPicPr>
        <p:blipFill>
          <a:blip r:embed="rId1"/>
          <a:stretch/>
        </p:blipFill>
        <p:spPr>
          <a:xfrm>
            <a:off x="7164360" y="4581360"/>
            <a:ext cx="1525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8feff9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Копия (1) ____005"/>
          <p:cNvPicPr/>
          <p:nvPr/>
        </p:nvPicPr>
        <p:blipFill>
          <a:blip r:embed="rId1"/>
          <a:stretch/>
        </p:blipFill>
        <p:spPr>
          <a:xfrm>
            <a:off x="324000" y="333360"/>
            <a:ext cx="2274840" cy="170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____013 (2)"/>
          <p:cNvPicPr/>
          <p:nvPr/>
        </p:nvPicPr>
        <p:blipFill>
          <a:blip r:embed="rId2"/>
          <a:stretch/>
        </p:blipFill>
        <p:spPr>
          <a:xfrm>
            <a:off x="6516720" y="333360"/>
            <a:ext cx="2316240" cy="1736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1118160" y="2421000"/>
            <a:ext cx="138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486520" y="2205000"/>
            <a:ext cx="61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484360" y="3068640"/>
            <a:ext cx="64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486160" y="29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341800" y="2421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005800" y="2421000"/>
            <a:ext cx="138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229440" y="2421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6590160" y="2421000"/>
            <a:ext cx="77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>
            <a:off x="3203640" y="2085840"/>
            <a:ext cx="3384360" cy="13431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74120" y="4149720"/>
            <a:ext cx="807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проверить парную согласную в корне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до изменить слово так, чтобы после этой пар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гласной стояла глас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395280" y="4005360"/>
            <a:ext cx="8353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253440" y="5661000"/>
            <a:ext cx="85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 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т 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8feff9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34400" y="404640"/>
            <a:ext cx="773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ли подобрать родственное сло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котором после парного согласной стоит гла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620360" y="1484280"/>
            <a:ext cx="55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, 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к, 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, гри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897280" y="3613320"/>
            <a:ext cx="36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тренируем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4cef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FD00438_"/>
          <p:cNvPicPr/>
          <p:nvPr/>
        </p:nvPicPr>
        <p:blipFill>
          <a:blip r:embed="rId1"/>
          <a:stretch/>
        </p:blipFill>
        <p:spPr>
          <a:xfrm>
            <a:off x="3132000" y="404640"/>
            <a:ext cx="3168720" cy="2097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951480" y="2676600"/>
            <a:ext cx="17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у/с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345280" y="2604960"/>
            <a:ext cx="18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у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5365080" y="3284640"/>
            <a:ext cx="201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у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365440" y="4005360"/>
            <a:ext cx="24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у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302880" y="2871720"/>
            <a:ext cx="66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mouse"/>
          <p:cNvPicPr/>
          <p:nvPr/>
        </p:nvPicPr>
        <p:blipFill>
          <a:blip r:embed="rId2"/>
          <a:stretch/>
        </p:blipFill>
        <p:spPr>
          <a:xfrm>
            <a:off x="2627280" y="450864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6"/>
          <p:cNvSpPr/>
          <p:nvPr/>
        </p:nvSpPr>
        <p:spPr>
          <a:xfrm>
            <a:off x="5365440" y="4653000"/>
            <a:ext cx="19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у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-0.05945 C -0.07292 -0.06986 -0.11302 -0.08027 -0.14792 -0.10017 C -0.18281 -0.12006 -0.18959 -0.17812 -0.24202 -0.17858 C -0.29445 -0.17905 -0.42552 -0.1159 -0.46215 -0.1034 E">
                                      <p:cBhvr>
                                        <p:cTn id="20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bef8ba"/>
              </a:gs>
              <a:gs pos="50000">
                <a:srgbClr val="ffffff"/>
              </a:gs>
              <a:gs pos="100000">
                <a:srgbClr val="bef8b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OBJ058"/>
          <p:cNvPicPr/>
          <p:nvPr/>
        </p:nvPicPr>
        <p:blipFill>
          <a:blip r:embed="rId1"/>
          <a:stretch/>
        </p:blipFill>
        <p:spPr>
          <a:xfrm>
            <a:off x="2484360" y="620640"/>
            <a:ext cx="3168720" cy="5616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664560" y="2747880"/>
            <a:ext cx="144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050920" y="3141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09800" y="242100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981440" y="2924280"/>
            <a:ext cx="4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301800" y="476280"/>
            <a:ext cx="197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5941080" y="1341360"/>
            <a:ext cx="26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тро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157080" y="2205000"/>
            <a:ext cx="22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6012720" y="3141720"/>
            <a:ext cx="25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5600880" y="407664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ян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805800" y="3068640"/>
            <a:ext cx="83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mouse"/>
          <p:cNvPicPr/>
          <p:nvPr/>
        </p:nvPicPr>
        <p:blipFill>
          <a:blip r:embed="rId2"/>
          <a:stretch/>
        </p:blipFill>
        <p:spPr>
          <a:xfrm>
            <a:off x="1258920" y="465300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3308 C 0.03681 -0.12029 0.05799 -0.20749 0.07344 -0.2526 C 0.08889 -0.29771 0.11164 -0.26741 0.10886 -0.30419 C 0.10608 -0.34097 0.10313 -0.43997 0.05695 -0.47351 C 0.01077 -0.50705 -0.08472 -0.50081 -0.1677 -0.50497 C -0.25069 -0.50914 -0.38072 -0.53296 -0.44062 -0.49873 C -0.50052 -0.46449 -0.51111 -0.36456 -0.52656 -0.29956 C -0.54201 -0.23456 -0.53784 -0.17141 -0.5335 -0.10826 E">
                                      <p:cBhvr>
                                        <p:cTn id="29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8feff9"/>
              </a:gs>
              <a:gs pos="50000">
                <a:srgbClr val="ffffff"/>
              </a:gs>
              <a:gs pos="100000">
                <a:srgbClr val="8feff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80" descr="FD00369_"/>
          <p:cNvPicPr/>
          <p:nvPr/>
        </p:nvPicPr>
        <p:blipFill>
          <a:blip r:embed="rId1"/>
          <a:stretch/>
        </p:blipFill>
        <p:spPr>
          <a:xfrm>
            <a:off x="2987640" y="692280"/>
            <a:ext cx="269892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82"/>
          <p:cNvSpPr/>
          <p:nvPr/>
        </p:nvSpPr>
        <p:spPr>
          <a:xfrm>
            <a:off x="396360" y="2708280"/>
            <a:ext cx="206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3"/>
          <p:cNvSpPr/>
          <p:nvPr/>
        </p:nvSpPr>
        <p:spPr>
          <a:xfrm>
            <a:off x="2487600" y="2492280"/>
            <a:ext cx="4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84"/>
          <p:cNvSpPr/>
          <p:nvPr/>
        </p:nvSpPr>
        <p:spPr>
          <a:xfrm>
            <a:off x="2411280" y="314172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85"/>
          <p:cNvSpPr/>
          <p:nvPr/>
        </p:nvSpPr>
        <p:spPr>
          <a:xfrm>
            <a:off x="2485800" y="2924280"/>
            <a:ext cx="4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6"/>
          <p:cNvSpPr/>
          <p:nvPr/>
        </p:nvSpPr>
        <p:spPr>
          <a:xfrm>
            <a:off x="5727240" y="2276640"/>
            <a:ext cx="30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ногра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87"/>
          <p:cNvSpPr/>
          <p:nvPr/>
        </p:nvSpPr>
        <p:spPr>
          <a:xfrm>
            <a:off x="5942520" y="3213000"/>
            <a:ext cx="26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88"/>
          <p:cNvSpPr/>
          <p:nvPr/>
        </p:nvSpPr>
        <p:spPr>
          <a:xfrm>
            <a:off x="5798160" y="414972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89"/>
          <p:cNvSpPr/>
          <p:nvPr/>
        </p:nvSpPr>
        <p:spPr>
          <a:xfrm>
            <a:off x="5798160" y="1413000"/>
            <a:ext cx="29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иногра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90"/>
          <p:cNvSpPr/>
          <p:nvPr/>
        </p:nvSpPr>
        <p:spPr>
          <a:xfrm>
            <a:off x="7526520" y="447984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91" descr="mouse"/>
          <p:cNvPicPr/>
          <p:nvPr/>
        </p:nvPicPr>
        <p:blipFill>
          <a:blip r:embed="rId2"/>
          <a:stretch/>
        </p:blipFill>
        <p:spPr>
          <a:xfrm>
            <a:off x="1258920" y="465300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14273 C 0.01615 -0.18737 0.03525 -0.23202 0.04202 -0.27273 C 0.04896 -0.31321 0.03264 -0.34722 0.03837 -0.38562 C 0.04427 -0.42448 0.10643 -0.46681 0.07639 -0.50613 C 0.04636 -0.545 -0.071 -0.5945 -0.14097 -0.62041 C -0.21093 -0.64608 -0.27934 -0.66112 -0.34375 -0.66112 C -0.40798 -0.66112 -0.48107 -0.65418 -0.52673 -0.62041 C -0.57222 -0.5864 -0.61215 -0.5022 -0.61718 -0.45733 C -0.6217 -0.41222 -0.56371 -0.3803 -0.5559 -0.35184 C -0.54843 -0.32339 -0.56024 -0.30488 -0.57187 -0.28661 E">
                                      <p:cBhvr>
                                        <p:cTn id="37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OBJ010"/>
          <p:cNvPicPr/>
          <p:nvPr/>
        </p:nvPicPr>
        <p:blipFill>
          <a:blip r:embed="rId1"/>
          <a:stretch/>
        </p:blipFill>
        <p:spPr>
          <a:xfrm>
            <a:off x="250920" y="189000"/>
            <a:ext cx="4672080" cy="4824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2197080" y="5445000"/>
            <a:ext cx="9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061080" y="5229360"/>
            <a:ext cx="5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061080" y="566100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3132000" y="587700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493800" y="5445000"/>
            <a:ext cx="69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49440" y="765000"/>
            <a:ext cx="32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кни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582160" y="1773360"/>
            <a:ext cx="23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653800" y="2781360"/>
            <a:ext cx="22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5633640" y="3828960"/>
            <a:ext cx="23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353640" y="4621320"/>
            <a:ext cx="5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mouse"/>
          <p:cNvPicPr/>
          <p:nvPr/>
        </p:nvPicPr>
        <p:blipFill>
          <a:blip r:embed="rId2"/>
          <a:stretch/>
        </p:blipFill>
        <p:spPr>
          <a:xfrm>
            <a:off x="7020000" y="479736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7009 C 0.00729 -0.11381 0.0151 -0.15707 0.01701 -0.20542 C 0.01892 -0.25399 0.01371 -0.322 0.01111 -0.36248 C 0.0085 -0.40343 -0.01545 -0.42309 0.00173 -0.44969 C 0.01892 -0.47652 0.09687 -0.49804 0.11475 -0.52441 C 0.13264 -0.55078 0.14965 -0.58548 0.10885 -0.60699 C 0.06805 -0.6285 -0.08125 -0.68656 -0.13004 -0.65348 C -0.17882 -0.62017 -0.17761 -0.51192 -0.1842 -0.40759 C -0.1908 -0.30373 -0.15035 -0.10502 -0.16997 -0.02961 C -0.18959 0.04557 -0.27066 0.03655 -0.30174 0.04487 C -0.33282 0.05366 -0.34775 0.00902 -0.35712 0.02151 C -0.3665 0.03423 -0.3625 0.07726 -0.35834 0.12144 E">
                                      <p:cBhvr>
                                        <p:cTn id="46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117880" y="47628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73440" y="1557360"/>
            <a:ext cx="11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412720" y="1557360"/>
            <a:ext cx="6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2050920" y="2133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757800" y="2565360"/>
            <a:ext cx="130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412720" y="2565360"/>
            <a:ext cx="6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900720" y="3500280"/>
            <a:ext cx="10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269800" y="3500280"/>
            <a:ext cx="6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1117080" y="4437000"/>
            <a:ext cx="6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981440" y="4437000"/>
            <a:ext cx="9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828720" y="5300640"/>
            <a:ext cx="121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341080" y="5300640"/>
            <a:ext cx="6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1908000" y="4005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050920" y="306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1692360" y="4941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1979640" y="5877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22"/>
          <p:cNvSpPr txBox="1"/>
          <p:nvPr/>
        </p:nvSpPr>
        <p:spPr>
          <a:xfrm>
            <a:off x="6300720" y="227664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2" name="WordArt 23"/>
          <p:cNvSpPr txBox="1"/>
          <p:nvPr/>
        </p:nvSpPr>
        <p:spPr>
          <a:xfrm>
            <a:off x="5435640" y="48690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3" name="WordArt 24"/>
          <p:cNvSpPr txBox="1"/>
          <p:nvPr/>
        </p:nvSpPr>
        <p:spPr>
          <a:xfrm>
            <a:off x="5364000" y="14130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WordArt 25"/>
          <p:cNvSpPr txBox="1"/>
          <p:nvPr/>
        </p:nvSpPr>
        <p:spPr>
          <a:xfrm>
            <a:off x="8028000" y="551664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5" name="WordArt 26"/>
          <p:cNvSpPr txBox="1"/>
          <p:nvPr/>
        </p:nvSpPr>
        <p:spPr>
          <a:xfrm>
            <a:off x="6588000" y="5013360"/>
            <a:ext cx="2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6" name="WordArt 27"/>
          <p:cNvSpPr txBox="1"/>
          <p:nvPr/>
        </p:nvSpPr>
        <p:spPr>
          <a:xfrm>
            <a:off x="5292720" y="3213000"/>
            <a:ext cx="2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7" name="WordArt 28"/>
          <p:cNvSpPr txBox="1"/>
          <p:nvPr/>
        </p:nvSpPr>
        <p:spPr>
          <a:xfrm>
            <a:off x="7596360" y="3789360"/>
            <a:ext cx="28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8" name="WordArt 29"/>
          <p:cNvSpPr txBox="1"/>
          <p:nvPr/>
        </p:nvSpPr>
        <p:spPr>
          <a:xfrm>
            <a:off x="6372360" y="3573360"/>
            <a:ext cx="28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9" name="WordArt 30"/>
          <p:cNvSpPr txBox="1"/>
          <p:nvPr/>
        </p:nvSpPr>
        <p:spPr>
          <a:xfrm>
            <a:off x="8172360" y="24210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" name="WordArt 31"/>
          <p:cNvSpPr txBox="1"/>
          <p:nvPr/>
        </p:nvSpPr>
        <p:spPr>
          <a:xfrm>
            <a:off x="7524720" y="14130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3566160" y="1557360"/>
            <a:ext cx="15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5726160" y="1557360"/>
            <a:ext cx="25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ь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3567240" y="2565360"/>
            <a:ext cx="183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5798880" y="2565360"/>
            <a:ext cx="25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3637080" y="3500280"/>
            <a:ext cx="197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7"/>
          <p:cNvSpPr/>
          <p:nvPr/>
        </p:nvSpPr>
        <p:spPr>
          <a:xfrm>
            <a:off x="5868360" y="3500280"/>
            <a:ext cx="22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8"/>
          <p:cNvSpPr/>
          <p:nvPr/>
        </p:nvSpPr>
        <p:spPr>
          <a:xfrm>
            <a:off x="3780720" y="443700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9"/>
          <p:cNvSpPr/>
          <p:nvPr/>
        </p:nvSpPr>
        <p:spPr>
          <a:xfrm>
            <a:off x="6012720" y="4437000"/>
            <a:ext cx="19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0"/>
          <p:cNvSpPr/>
          <p:nvPr/>
        </p:nvSpPr>
        <p:spPr>
          <a:xfrm>
            <a:off x="3709800" y="5300640"/>
            <a:ext cx="16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1"/>
          <p:cNvSpPr/>
          <p:nvPr/>
        </p:nvSpPr>
        <p:spPr>
          <a:xfrm>
            <a:off x="6137280" y="526896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6.22484E-006 C -0.00312 0.00209 -0.00608 0.0044 -0.02465 -0.02359 C -0.04323 -0.05158 -0.09687 -0.10409 -0.11181 -0.1677 C -0.12674 -0.23131 -0.09601 -0.33818 -0.11406 -0.40457 C -0.13212 -0.47096 -0.18802 -0.5399 -0.21996 -0.56604 C -0.25191 -0.59217 -0.28142 -0.57668 -0.3059 -0.56118 C -0.33038 -0.54568 -0.34878 -0.50959 -0.36701 -0.47351 E">
                                      <p:cBhvr>
                                        <p:cTn id="63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023 C -0.02466 -0.031 -0.04913 -0.06177 -0.06945 -0.06431 C -0.08993 -0.06685 -0.10452 -0.05089 -0.1217 -0.0155 C -0.13889 0.01966 -0.14896 0.12306 -0.17257 0.14827 C -0.19636 0.17326 -0.24028 0.13879 -0.2632 0.13555 C -0.28611 0.13231 -0.29532 0.12584 -0.31042 0.12907 C -0.32535 0.13254 -0.34532 0.14596 -0.35382 0.15452 C -0.36216 0.16308 -0.36181 0.1721 -0.36129 0.18135 E">
                                      <p:cBhvr>
                                        <p:cTn id="64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0.04927 C -0.07952 0.06639 -0.15018 0.08351 -0.2125 0.07264 C -0.27448 0.06176 -0.33299 0.04557 -0.38177 -0.01665 C -0.43056 -0.07888 -0.47136 -0.24589 -0.50539 -0.30025 C -0.53941 -0.35461 -0.56077 -0.33911 -0.58542 -0.34258 C -0.61007 -0.34605 -0.6408 -0.33102 -0.65365 -0.32061 C -0.6665 -0.3102 -0.66476 -0.29516 -0.66302 -0.2799 E">
                                      <p:cBhvr>
                                        <p:cTn id="64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1688 C -0.01562 0.01526 -0.03125 0.01411 -0.05312 -0.0236 C -0.07483 -0.06084 -0.09635 -0.18876 -0.13056 -0.20727 C -0.16458 -0.22531 -0.22292 -0.17303 -0.25816 -0.13371 C -0.2934 -0.09438 -0.31528 -0.00533 -0.34184 0.02891 C -0.36823 0.06338 -0.39097 0.06708 -0.41667 0.07286 C -0.44236 0.07888 -0.48125 0.05297 -0.4967 0.06407 C -0.51181 0.07517 -0.51059 0.10733 -0.50903 0.13948 E">
                                      <p:cBhvr>
                                        <p:cTn id="65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04303 C -0.02829 -0.05783 -0.04322 -0.07264 -0.06388 -0.06177 C -0.08454 -0.0509 -0.12152 -0.02314 -0.1368 0.02266 C -0.15208 0.06847 -0.13576 0.17603 -0.15555 0.21397 C -0.17534 0.2519 -0.22256 0.24196 -0.25555 0.25005 C -0.28854 0.25815 -0.33628 0.25052 -0.35329 0.26254 C -0.37031 0.27457 -0.36423 0.2984 -0.35798 0.32223 E">
                                      <p:cBhvr>
                                        <p:cTn id="65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4:46:50Z</dcterms:created>
  <dc:creator>Пользователь</dc:creator>
  <dc:description/>
  <dc:language>en-US</dc:language>
  <cp:lastModifiedBy>ADMIN</cp:lastModifiedBy>
  <dcterms:modified xsi:type="dcterms:W3CDTF">2019-12-07T07:50:55Z</dcterms:modified>
  <cp:revision>7</cp:revision>
  <dc:subject/>
  <dc:title>Слайд 1</dc:title>
</cp:coreProperties>
</file>