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6930-63B1-4407-B320-2E0401EF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9898-AB7E-4E3A-AB87-9F3325DB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7815-88BA-4B9B-9C5E-73A822FF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BE74-6F40-446A-BE7E-670E0829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CA9B-8BC7-4398-A60F-56B2BA76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A972-0119-45DF-8B4F-453969EC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4A9D-211D-433C-8BBE-6E55A133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D03B-16FF-4E88-99CF-0B89C315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CD55-79B7-4B7A-BAB1-087643A3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8981-70B6-4FC4-A356-71A2D2D9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FB6A-1B46-4DAC-AF4E-12E6E442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4711-BE4A-4FCA-9506-EA3407C1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6CEC-239D-465D-B609-3DE6D8AC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18A7-8E07-4432-ACCB-F1CFE2F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CA40-394E-4AE3-B4D0-2236C485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645B-A9E6-433F-B1B0-CCB5FF40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D0CB-C0CB-4857-A9A0-27BA7B67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8AB3-0C3F-47EB-942E-9BD11A8F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97E4-77EF-473A-ADC0-83F59366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0955-8E30-40B1-B0CB-C752B0CF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43CB-4FBF-4311-84C9-C44F46AE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6384-5E47-41E0-B4F6-848EEE3C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EEB6-E916-4744-B91D-B388565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CF58-EB3B-4A5A-8514-E484634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E56E-5383-4DCB-9888-92FF2FB643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0313-017C-47BD-897E-0403DEE957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Презентация по</a:t>
            </a:r>
            <a:br>
              <a:rPr sz="54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биологии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ищеварение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шечник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оугольник 5"/>
          <p:cNvSpPr/>
          <p:nvPr/>
        </p:nvSpPr>
        <p:spPr>
          <a:xfrm>
            <a:off x="3924360" y="530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: Учитель биологии Гимазетдинова А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62» г. Магнитогор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ищевар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, в ходе которого поглощенная пища переводится в форму, пригодную для использования организм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щеварительная система выполняет  четыре основные функции:  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орную, моторную, всасывательную   и выделительную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щеварение происходит в процессе перемещения пищи по органам, составляющим пищеварительный трак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1" descr="Image27"/>
          <p:cNvPicPr/>
          <p:nvPr/>
        </p:nvPicPr>
        <p:blipFill>
          <a:blip r:embed="rId4"/>
          <a:stretch/>
        </p:blipFill>
        <p:spPr>
          <a:xfrm>
            <a:off x="4937040" y="1600200"/>
            <a:ext cx="3882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Тонкий кишечник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онкая кишка состоит из трех отделов - двенадцатиперстной, тощей и подвздошной кишок. Именно здесь поступающая из желудка пища расщепляется и всасывается в кров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нкая кишка-это составная часть пищеварительного тракта, соединяющая желудок с толстым кишечник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а представляет собой мягкую извилистую трубку из мышечной и слизистой оболочек, плотными кольцами уложенную в брюшной полости. Общая длина тонкой кишки составляет около 6 м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6" descr="p0066"/>
          <p:cNvPicPr/>
          <p:nvPr/>
        </p:nvPicPr>
        <p:blipFill>
          <a:blip r:embed="rId4"/>
          <a:stretch/>
        </p:blipFill>
        <p:spPr>
          <a:xfrm>
            <a:off x="5118120" y="1600200"/>
            <a:ext cx="3097080" cy="21906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" descr="472"/>
          <p:cNvPicPr/>
          <p:nvPr/>
        </p:nvPicPr>
        <p:blipFill>
          <a:blip r:embed="rId5"/>
          <a:stretch/>
        </p:blipFill>
        <p:spPr>
          <a:xfrm>
            <a:off x="5148360" y="4076640"/>
            <a:ext cx="309564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олстая киш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лстая киш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лстый кишечни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человека — это нижняя, часть пищеварительного тракта, а именно нижняя часть кишечника, в которой происходит в основном всасывание воды и формирование из пищевой кашицы (химуса) оформленного кал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лстая кишка названа толстой за то, что её стенки толще стенок тонкой кишки за счет большей толщины мышечного и соединительнотканного слоев, а также за то, что диаметр ее внутреннего просвета, или полости, также больше диаметра внутреннего просвета тонкой киш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5" descr="1094-1"/>
          <p:cNvPicPr/>
          <p:nvPr/>
        </p:nvPicPr>
        <p:blipFill>
          <a:blip r:embed="rId3"/>
          <a:stretch/>
        </p:blipFill>
        <p:spPr>
          <a:xfrm>
            <a:off x="4643280" y="1989000"/>
            <a:ext cx="40388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88" dur="250" autoRev="1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Пищеварение в толстом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Кишечн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упающие в кишечник продукты желудочного пищеварения смешиваются с секретом кишечных стенок и двумя щелочными жидкостями – соком поджелудочной железы (панкреатическим соком) и желчью, которые выделяются в кишечник в области сфинктера привратника, отделяющего желудок от тонкого кишечн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дновременно под влиянием ферментов панкреатического и кишечного сока начинается последняя стадия процесса пищеварени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крет поджелудочной железы содержит высокоактивные ферменты – амилазу, протеазы (трипсин и химотрипсин) и липазу, которые расщепляют крахмал, белки и жиры, уцелевшие после слюнной и желудочной фаз пищевар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5" descr="kishechnik"/>
          <p:cNvPicPr/>
          <p:nvPr/>
        </p:nvPicPr>
        <p:blipFill>
          <a:blip r:embed="rId4"/>
          <a:stretch/>
        </p:blipFill>
        <p:spPr>
          <a:xfrm>
            <a:off x="5003640" y="2205000"/>
            <a:ext cx="374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Пищеварение в тонком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кишечн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щеварение в тонком кишечник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это заключительный этап пищеварения, в результате - гидролиз пищевых продуктов до конечных вещест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щеварение осуществляется под действием кишечного сока, содержащего 3 группы фер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создается щелочная среда, но в дистальных отделах за счет деятельности микрофлоры может быть кислая сре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имо полостного осуществляется пристеночное пищеварение. Происходят основные процессы всасы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6" descr="piwevod"/>
          <p:cNvPicPr/>
          <p:nvPr/>
        </p:nvPicPr>
        <p:blipFill>
          <a:blip r:embed="rId5"/>
          <a:stretch/>
        </p:blipFill>
        <p:spPr>
          <a:xfrm>
            <a:off x="6060960" y="1600200"/>
            <a:ext cx="1824120" cy="219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241_item_pict_map"/>
          <p:cNvPicPr/>
          <p:nvPr/>
        </p:nvPicPr>
        <p:blipFill>
          <a:blip r:embed="rId6"/>
          <a:stretch/>
        </p:blipFill>
        <p:spPr>
          <a:xfrm>
            <a:off x="5021280" y="3943440"/>
            <a:ext cx="32925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1:52:59Z</dcterms:created>
  <dc:creator>technikom</dc:creator>
  <dc:description/>
  <dc:language>en-US</dc:language>
  <cp:lastModifiedBy>RF</cp:lastModifiedBy>
  <dcterms:modified xsi:type="dcterms:W3CDTF">2019-12-07T15:12:03Z</dcterms:modified>
  <cp:revision>3</cp:revision>
  <dc:subject/>
  <dc:title>Презентация по биологии</dc:title>
</cp:coreProperties>
</file>