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04F2-F6D5-4707-A5CB-15ADEA34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E28BE-F98A-489A-B7D9-02817DD8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72339-5F69-415C-B41D-918DABD8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274D6-87FD-428F-AD6B-16A8A18F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E483-0BDD-4C88-A97C-FB8A6947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A4FE-A907-4C3C-AA66-E195B0B3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9E5B-250C-4FBC-B404-B87F5816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6729-1F16-44A4-B23F-DB8AC305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8F70-D879-48D7-8AAB-874D2D1A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19BB-E565-4ED0-9475-6520F0A8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D42F-9C57-47AE-8FF8-680DE42A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48997-74BC-4167-AFCF-EC14A501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594D-10A6-487C-B850-EC72D4E0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1BB8-FC73-4A0C-9BB7-33755BA6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7752-7093-47EC-AE78-2A57EECE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3FAD-A102-4EA4-8B85-1654E8F6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2418-6856-4BE8-9345-072E44E4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E8133-CD1C-4D91-B8C9-240198D6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0B302-7C7B-4B2B-9945-E5ACC142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B82D-6A95-4432-BF4E-94FD165B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5381E-6685-4E7C-98FA-C40A5A7C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BBE0D-355A-4381-8CEE-45AF5900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83356-ECDB-435D-A753-9BDE442D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D3534-1E94-42D8-9AA4-013707AF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F40C-B208-4215-AB49-10EED5E5C4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EDC1-0BCD-4B5B-8B5C-0A76CCF010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Русские народные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Музыкальные инструменты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743200" y="558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полнила: Федотова Юлия Николаев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узыкальный руководитель ГБДОУ №1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осковского района города Санкт-Петербург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 сороками имеет связь его название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ладеть им может каждый человек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меющий хоть малое призванье!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рещот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69138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И щи хлебают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И «Барыню» играю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Лож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3320" y="2133720"/>
            <a:ext cx="4011480" cy="4390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140360" y="2133720"/>
            <a:ext cx="4743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н круглый, маленький и тоже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 барабан, обтянут кож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а только вот вдобавок 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еталлом звонким обрамлё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Бубе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Архив Частного клуба Алекса Экслера Powered by Invision Power Board"/>
          <p:cNvPicPr/>
          <p:nvPr/>
        </p:nvPicPr>
        <p:blipFill>
          <a:blip r:embed="rId1"/>
          <a:stretch/>
        </p:blipFill>
        <p:spPr>
          <a:xfrm>
            <a:off x="1258920" y="1484280"/>
            <a:ext cx="6985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руки ты ее возьмешь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о растянешь, то сожмешь!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вонкая, нарядная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усская, двухрядная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играет, только тронь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 зовут ее?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армош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" descr="караченцев - Самое интересное в блогах"/>
          <p:cNvPicPr/>
          <p:nvPr/>
        </p:nvPicPr>
        <p:blipFill>
          <a:blip r:embed="rId1"/>
          <a:stretch/>
        </p:blipFill>
        <p:spPr>
          <a:xfrm>
            <a:off x="1116000" y="2133720"/>
            <a:ext cx="691344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144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А  Садко  на  них  играл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И  душевно  напевал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еребрал  он  много  струн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ышел  из  моря  Нептун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43640" y="1773360"/>
            <a:ext cx="2232000" cy="3528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63640" y="4000680"/>
            <a:ext cx="5715000" cy="2857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усл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686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1989000"/>
            <a:ext cx="34956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 неё есть три струны 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х рукой щипать должны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жно под неё  плясать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 по-русски присед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Балалай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4235400" cy="47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риложу к губам я трубку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лилась по лесу трель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Инструмент тот очень хрупкий                           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Называется……………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вире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4032360" cy="2808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788000" y="2492280"/>
            <a:ext cx="381636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ы собрали хоровод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ригласили,  весь нар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А в кругу  наш пастуш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Дует весело в ……………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Рожо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5219640" cy="439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219640" y="1773360"/>
            <a:ext cx="36226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7T12:38:27Z</dcterms:created>
  <dc:creator>Юля</dc:creator>
  <dc:description/>
  <dc:language>en-US</dc:language>
  <cp:lastModifiedBy>Юля</cp:lastModifiedBy>
  <dcterms:modified xsi:type="dcterms:W3CDTF">2015-01-17T13:46:23Z</dcterms:modified>
  <cp:revision>2</cp:revision>
  <dc:subject/>
  <dc:title>Русские народные Музыкальные инструменты</dc:title>
</cp:coreProperties>
</file>