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1D2-D039-4F46-8DEB-BD5ECD5C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A60-CB57-4357-9D36-DE08431F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7EC-B52B-47C0-A3CA-69B02B25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A4A-69BF-4C4A-A16C-A56DFEA3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B90C-B519-41BD-93C2-7876F64F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3760-DDD3-48A7-9EF9-FD9C6A41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7D48-0732-424E-B9A7-D3C8B51B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B6BA-B9AB-4DBB-8CAC-2028D224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9B90-3A88-45E3-A02F-E370895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4E2E-A501-4A57-8AA0-06257EC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84E3-7426-4E47-9F23-3AA53397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280-C054-42F0-BE56-6FBFC4F6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691B-7A20-43A7-8B67-92CA1643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4160-76E2-4291-8B3F-9F7B004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532D-DE84-44CA-A9C6-B8AA2A83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92C3-F9C7-4453-A7F7-4B4EBE6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A23C-1343-48B2-97E0-4E340FCF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C79-0C18-470A-A810-EF3BD2D9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24E-47B0-42D9-9A9C-3AA94088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6FA-8266-4A0E-95BE-07CF6B79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EAA-B31C-40DA-AD5E-D529D302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539-CDC2-4AA0-B7A0-63FD040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CA7-4C9A-4F7E-8CBF-D448EA0E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3D3-2FF3-4C54-8181-BEDD5DD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718-DEA4-4107-AE86-E72D7066F6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3693-FCB7-4C3B-B396-9EE4F58B91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нкт- Петербург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ентацию подготовил воспитатель ГБДОУ № 3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лова И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ентация предназначена для проведения НОД и тематических  мероприят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ячий остр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зайчий остров"/>
          <p:cNvPicPr/>
          <p:nvPr/>
        </p:nvPicPr>
        <p:blipFill>
          <a:blip r:embed="rId1"/>
          <a:stretch/>
        </p:blipFill>
        <p:spPr>
          <a:xfrm>
            <a:off x="1403280" y="1341360"/>
            <a:ext cx="64818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дмиралтейство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39667753349784c695eac2"/>
          <p:cNvPicPr/>
          <p:nvPr/>
        </p:nvPicPr>
        <p:blipFill>
          <a:blip r:embed="rId1"/>
          <a:stretch/>
        </p:blipFill>
        <p:spPr>
          <a:xfrm>
            <a:off x="971640" y="1197000"/>
            <a:ext cx="6048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ебяжья канав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бяжья канавк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бяжья канавк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много людей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бяжья канавка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де нет лебедей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и улетел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да же, куда?.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м не сказал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этом вода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С. Скаченк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лебяжья конавка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вро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емлет притихший северный город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ое небо над голо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тебе снится крейсер Авро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час когда утро встает над 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тебе снится крейсер Авро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час когда утро встает над 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жет ты снова в тучах мохнаты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пышки орудий видишь вда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как прежде в черных бушлат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озно шагают твои патру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емлет притихший северный город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ое небо над голо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тебе снится крейсер Авро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час когда утро встает над 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тебе снится крейсер Аврор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час когда утро встает над 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жет ты снова в тучах мохнаты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пышки орудий видишь вда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как прежде в черных бушлат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озно шагают твои патру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iCA041IAA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етний с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гунное круже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это что за кружев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дны там впереди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решетке-чуду поскор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ближе подойд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в сказке замерли цветы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лшебник, кто же он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вным-давно все это спле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чугуна Фельтон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В. Блейков)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6" descr="решетка летнего сада"/>
          <p:cNvPicPr/>
          <p:nvPr/>
        </p:nvPicPr>
        <p:blipFill>
          <a:blip r:embed="rId1"/>
          <a:stretch/>
        </p:blipFill>
        <p:spPr>
          <a:xfrm>
            <a:off x="0" y="1484280"/>
            <a:ext cx="46432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в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наменитая Нев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красавицы Нев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жерелье из листв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гранитов самых лучш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шито платье на век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совсем не белоручк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наменитая ре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ржи, лодки, пароход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себе несет Нев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 трубе водопроводн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оже плещется Нева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(М. Борисова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7" descr="разведеный мост"/>
          <p:cNvPicPr/>
          <p:nvPr/>
        </p:nvPicPr>
        <p:blipFill>
          <a:blip r:embed="rId1"/>
          <a:stretch/>
        </p:blipFill>
        <p:spPr>
          <a:xfrm>
            <a:off x="0" y="1484280"/>
            <a:ext cx="4932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рмитаж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имний дворец у Невы, посмотри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ли когда-то в нем наши цар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у а сейчас в нём огромный музей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есь – "Эрмитаж", гордость Родины всей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Ю. Юди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эрмитаж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финкс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ека несчетные прош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о не сомкнули свои ве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северном краю Зем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 львы с глазами челов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гордых берегах Нев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и останутся навечно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 полулюди, полульв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ленённые бесчеловеч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м наводненья не страшн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что волненья и страдан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дремлют на брегах Нев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гипта мудрого создан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Артём Сокол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iCAPK4T88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аакиевский собо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аакиевский собор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площадке смотров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увает ветер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бо вровень с голов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но – все на свете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ный всадник, Летний сад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лощади, проспекты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рмитаж и зоосад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кверы, монументы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встать на колоннад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 видно, как на карте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(Ю. Юдин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исаакиевский"/>
          <p:cNvPicPr/>
          <p:nvPr/>
        </p:nvPicPr>
        <p:blipFill>
          <a:blip r:embed="rId1"/>
          <a:stretch/>
        </p:blipFill>
        <p:spPr>
          <a:xfrm>
            <a:off x="0" y="1557360"/>
            <a:ext cx="4516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ничков мос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 по лугам и росам не скакат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озяину уже их не позват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стыли кони, не стучат копыт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х пьедестал из красного гранит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укротит их время, не обгони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движенье миг, на век застыли кон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кажется помчаться всё ж готов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же три века растоптали их подковы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аничков мост"/>
          <p:cNvPicPr/>
          <p:nvPr/>
        </p:nvPicPr>
        <p:blipFill>
          <a:blip r:embed="rId1"/>
          <a:stretch/>
        </p:blipFill>
        <p:spPr>
          <a:xfrm>
            <a:off x="0" y="1413000"/>
            <a:ext cx="4932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 детей с историей гор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го достопримечательностя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адиция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нтеграция образовательных областей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муник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лаг Санкт- Петербур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4" descr="флаг"/>
          <p:cNvPicPr/>
          <p:nvPr/>
        </p:nvPicPr>
        <p:blipFill>
          <a:blip r:embed="rId1"/>
          <a:stretch/>
        </p:blipFill>
        <p:spPr>
          <a:xfrm>
            <a:off x="395280" y="1197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ерб Санкт- Петербур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царя Петра творень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род славы, город-сад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аблей заморских флаги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доль Невы дворцов парад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В. Степан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герб санкт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амятник Петру 1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памятник царю Пет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царскому кон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тографируют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двести раз на дн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арь много славных дел сверш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конь неоднократн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о на подвиги воз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ривозил обрат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ednii_vsadnik"/>
          <p:cNvPicPr/>
          <p:nvPr/>
        </p:nvPicPr>
        <p:blipFill>
          <a:blip r:embed="rId1"/>
          <a:stretch/>
        </p:blipFill>
        <p:spPr>
          <a:xfrm>
            <a:off x="0" y="1341360"/>
            <a:ext cx="4643280" cy="53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тропавловкая креп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болоту Петр ше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тров заячий наше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 собрал рабочий лю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остроил крепость ту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пость новая сто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ушками врагу гроз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Петропавловская крепость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ная пуш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еляет в полдень пушк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рывается в ды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гда стреляет пушк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страшно никому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умит волна реч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крепостной ст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пушка ведь ручна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а не для вой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ропавловка не сп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гел город наш хран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шка полдень возвещ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нь. 12 Каждый зн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7" descr="пушка"/>
          <p:cNvPicPr/>
          <p:nvPr/>
        </p:nvPicPr>
        <p:blipFill>
          <a:blip r:embed="rId1"/>
          <a:stretch/>
        </p:blipFill>
        <p:spPr>
          <a:xfrm>
            <a:off x="0" y="1557360"/>
            <a:ext cx="46432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Шпиль Адмиралтейств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ленький корабли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городе огромном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ебе над Невою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ем и просторном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ленький корабли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соко плывёт –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символ город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есь рождался флот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С. Скаченк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кораблик"/>
          <p:cNvPicPr/>
          <p:nvPr/>
        </p:nvPicPr>
        <p:blipFill>
          <a:blip r:embed="rId1"/>
          <a:stretch/>
        </p:blipFill>
        <p:spPr>
          <a:xfrm>
            <a:off x="0" y="1413000"/>
            <a:ext cx="4716360" cy="51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5:03:08Z</dcterms:created>
  <dc:creator>123</dc:creator>
  <dc:description/>
  <dc:language>en-US</dc:language>
  <cp:lastModifiedBy>Пользователь</cp:lastModifiedBy>
  <dcterms:modified xsi:type="dcterms:W3CDTF">2019-12-07T14:14:06Z</dcterms:modified>
  <cp:revision>5</cp:revision>
  <dc:subject/>
  <dc:title>Санкт- Петербург</dc:title>
</cp:coreProperties>
</file>