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440-06FB-492E-A823-5B9A2CC1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D79-4C29-4D03-8696-9030E262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3FD-30DE-4F6B-932F-E3DAFFCF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CE8-AAD6-46DA-A177-43873FB1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A99-34D8-428A-B78D-BB347A16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106-8C6A-4A25-AAB9-3BB62CF8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293-7A5C-45E7-9311-27D93378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2C2-F59E-41CC-AB7A-0C7AF44F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458-7665-47A6-AFD0-2A2978FE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66E-D65E-4F77-918D-E5AAF9A0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2AC-D042-45AE-A5DE-35CF44BB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1C1-B041-4883-AEEF-8D59741D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015F-D0FD-48BC-B49B-0D9B83EB7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336680"/>
            <a:ext cx="84582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Monotype Corsiva"/>
              </a:rPr>
              <a:t>Урок –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Monotype Corsiva"/>
              </a:rPr>
              <a:t>творческая мастерска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Times New Roman"/>
              </a:rPr>
              <a:t>Законы мастерской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амый главный.</a:t>
            </a:r>
            <a:r>
              <a:rPr b="0" i="1" lang="en-US" sz="32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 Все, что ты делаешь, правильно и хорошо.</a:t>
            </a:r>
            <a:r>
              <a:rPr b="0" i="1" lang="en-US" sz="32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Каждый обязательно должен выполнять все, о чем попросит мастер.</a:t>
            </a:r>
            <a:r>
              <a:rPr b="0" i="1" lang="en-US" sz="32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Один говорит – все слушают. Обязательно высказываться, когда просит мастер.</a:t>
            </a:r>
            <a:r>
              <a:rPr b="0" i="1" lang="en-US" sz="32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Не задавать вопросов! Как понял, так и делай. Все правильно!</a:t>
            </a:r>
            <a:r>
              <a:rPr b="0" i="1" lang="en-US" sz="32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Обязательно записывать то, что понравилось у других. Добирай материал.</a:t>
            </a:r>
            <a:r>
              <a:rPr b="0" i="1" lang="en-US" sz="32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C</a:t>
            </a:r>
            <a:r>
              <a:rPr b="1" lang="ru-RU" sz="6000" spc="-1" strike="noStrike">
                <a:solidFill>
                  <a:srgbClr val="ffff00"/>
                </a:solidFill>
                <a:latin typeface="Monotype Corsiva"/>
              </a:rPr>
              <a:t>казка – это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3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05968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– тема или предмет (одно существительное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– описание предмета (2 прилагательных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– 3 глагола, характеризующие действия предме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– фраза из 4 значимых слов, выражающая отношение автора к предме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– синоним, обобщающий или расширяющий смысл темы или предмета (одно слово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8:56:31Z</dcterms:created>
  <dc:creator>****</dc:creator>
  <dc:description/>
  <dc:language>en-US</dc:language>
  <cp:lastModifiedBy>1</cp:lastModifiedBy>
  <dcterms:modified xsi:type="dcterms:W3CDTF">2011-10-05T20:32:52Z</dcterms:modified>
  <cp:revision>6</cp:revision>
  <dc:subject/>
  <dc:title>Презентация PowerPoint</dc:title>
</cp:coreProperties>
</file>