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E58C-ACE9-47C9-8FEC-1F9AA5A4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4DAF-A9D2-492A-92D4-46058764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8570-5526-4D1A-8904-7D139A3D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7F9-1CD3-4E2C-80C6-031780D5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F967-44D1-4B18-9238-68D62329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137C-3407-4D1F-A065-78E09E96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A5F4-EA10-4C84-A494-343B43EE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5311-D9EC-48E3-A1EB-56A4CEFE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5470-2C50-4382-AD9D-8DC0E805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D17B-80E4-4FBD-9AE4-AE92F14A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D6A0-942C-41FD-82BF-A7390DFC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5A1D-35B8-4285-B3B4-97773ADC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7C38-95F1-4999-899B-59F35F73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81D4-F176-45C5-A09D-3A403434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267D-9CF4-4DEA-A1B8-B1E1D4AF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9AC9-0ED8-470D-A748-27BAAFC7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1BC7-ECEB-4832-BA35-99695D01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A37A-3558-48A0-80FB-C6FABE89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E9AA-A873-4573-B989-82E01DA4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F77D-FFC8-4A68-B500-8DE7E294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4320-4275-4E2F-924E-DD470A1A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CF3-B4A1-43EE-96E2-7EC45D6E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5DA4-2052-4443-8600-89834155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7CFC-5B40-4434-B360-44C368EB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4EEC-94DC-4D6F-8845-2E17265F30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A37F-454D-4BD6-9062-4F06C21C3CF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3"/>
          <p:cNvSpPr txBox="1"/>
          <p:nvPr/>
        </p:nvSpPr>
        <p:spPr>
          <a:xfrm>
            <a:off x="0" y="0"/>
            <a:ext cx="9144000" cy="39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28440">
                  <a:solidFill>
                    <a:srgbClr val="ff0033"/>
                  </a:solidFill>
                  <a:miter/>
                </a:ln>
                <a:solidFill>
                  <a:srgbClr val="ff00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Скелет</a:t>
            </a:r>
            <a:endParaRPr b="1" i="1" lang="en-US" sz="5400" spc="1" strike="noStrike">
              <a:ln w="28440">
                <a:solidFill>
                  <a:srgbClr val="ff0033"/>
                </a:solidFill>
                <a:miter/>
              </a:ln>
              <a:solidFill>
                <a:srgbClr val="ff00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28440">
                  <a:solidFill>
                    <a:srgbClr val="ff0033"/>
                  </a:solidFill>
                  <a:miter/>
                </a:ln>
                <a:solidFill>
                  <a:srgbClr val="ff00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человека</a:t>
            </a:r>
            <a:endParaRPr b="1" i="1" lang="en-US" sz="5400" spc="1" strike="noStrike">
              <a:ln w="28440">
                <a:solidFill>
                  <a:srgbClr val="ff0033"/>
                </a:solidFill>
                <a:miter/>
              </a:ln>
              <a:solidFill>
                <a:srgbClr val="ff00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4356000" y="4653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зентацию подготовила: Учитель биологии Гимазетдинова А.Ф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У «СОШ №62» г. Магнитогорс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0" y="4724280"/>
            <a:ext cx="392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ояс верхних и нижних конечносте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50920" y="304920"/>
            <a:ext cx="87138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добавочный скелет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 rot="5400000">
            <a:off x="-21960" y="2550960"/>
            <a:ext cx="2808360" cy="820800"/>
          </a:xfrm>
          <a:prstGeom prst="rightArrow">
            <a:avLst>
              <a:gd name="adj1" fmla="val 50000"/>
              <a:gd name="adj2" fmla="val 85537"/>
            </a:avLst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0" y="4724280"/>
            <a:ext cx="338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ояс верхних и нижних конечносте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4"/>
          <p:cNvSpPr/>
          <p:nvPr/>
        </p:nvSpPr>
        <p:spPr>
          <a:xfrm rot="5400000">
            <a:off x="-218880" y="2458800"/>
            <a:ext cx="2912760" cy="820800"/>
          </a:xfrm>
          <a:prstGeom prst="rightArrow">
            <a:avLst>
              <a:gd name="adj1" fmla="val 50000"/>
              <a:gd name="adj2" fmla="val 88717"/>
            </a:avLst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0" y="228600"/>
            <a:ext cx="914400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добавочный скелет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10"/>
          <p:cNvSpPr/>
          <p:nvPr/>
        </p:nvSpPr>
        <p:spPr>
          <a:xfrm rot="5400000">
            <a:off x="3434400" y="1686600"/>
            <a:ext cx="1368360" cy="820800"/>
          </a:xfrm>
          <a:prstGeom prst="rightArrow">
            <a:avLst>
              <a:gd name="adj1" fmla="val 50000"/>
              <a:gd name="adj2" fmla="val 41678"/>
            </a:avLst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556000" y="2852640"/>
            <a:ext cx="338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Свободные верхние конечност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4724280"/>
            <a:ext cx="363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ояс верхних и нижних конечносте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484360" y="2637000"/>
            <a:ext cx="302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Свободные верхние конечност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 rot="5400000">
            <a:off x="-453240" y="2478960"/>
            <a:ext cx="3167280" cy="892080"/>
          </a:xfrm>
          <a:prstGeom prst="rightArrow">
            <a:avLst>
              <a:gd name="adj1" fmla="val 50000"/>
              <a:gd name="adj2" fmla="val 88761"/>
            </a:avLst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 rot="5400000">
            <a:off x="3108960" y="1578600"/>
            <a:ext cx="1297080" cy="676080"/>
          </a:xfrm>
          <a:prstGeom prst="rightArrow">
            <a:avLst>
              <a:gd name="adj1" fmla="val 50000"/>
              <a:gd name="adj2" fmla="val 47963"/>
            </a:avLst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304920" y="228600"/>
            <a:ext cx="837072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добавочный скелет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5292720" y="4724280"/>
            <a:ext cx="385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Свободные нижние конечност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11"/>
          <p:cNvSpPr/>
          <p:nvPr/>
        </p:nvSpPr>
        <p:spPr>
          <a:xfrm rot="5400000">
            <a:off x="5902200" y="2387520"/>
            <a:ext cx="2913120" cy="820800"/>
          </a:xfrm>
          <a:prstGeom prst="rightArrow">
            <a:avLst>
              <a:gd name="adj1" fmla="val 50000"/>
              <a:gd name="adj2" fmla="val 88728"/>
            </a:avLst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5" name="Picture 4" descr="OCR0204"/>
          <p:cNvPicPr/>
          <p:nvPr/>
        </p:nvPicPr>
        <p:blipFill>
          <a:blip r:embed="rId1"/>
          <a:stretch/>
        </p:blipFill>
        <p:spPr>
          <a:xfrm>
            <a:off x="1835280" y="189000"/>
            <a:ext cx="52578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7" name="Picture 4" descr="OCR0205"/>
          <p:cNvPicPr/>
          <p:nvPr/>
        </p:nvPicPr>
        <p:blipFill>
          <a:blip r:embed="rId1"/>
          <a:stretch/>
        </p:blipFill>
        <p:spPr>
          <a:xfrm>
            <a:off x="1908000" y="0"/>
            <a:ext cx="568836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90800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1" name="Picture 4" descr="OCR0206"/>
          <p:cNvPicPr/>
          <p:nvPr/>
        </p:nvPicPr>
        <p:blipFill>
          <a:blip r:embed="rId1"/>
          <a:stretch/>
        </p:blipFill>
        <p:spPr>
          <a:xfrm>
            <a:off x="1908000" y="0"/>
            <a:ext cx="54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3" name="Picture 4" descr="a_n_01_07_miedni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5" name="Picture 4" descr="a_n_01_07_miednica"/>
          <p:cNvPicPr/>
          <p:nvPr/>
        </p:nvPicPr>
        <p:blipFill>
          <a:blip r:embed="rId1"/>
          <a:stretch/>
        </p:blipFill>
        <p:spPr>
          <a:xfrm>
            <a:off x="2700360" y="3284640"/>
            <a:ext cx="3706920" cy="3573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L02_p08_02"/>
          <p:cNvPicPr/>
          <p:nvPr/>
        </p:nvPicPr>
        <p:blipFill>
          <a:blip r:embed="rId2"/>
          <a:stretch/>
        </p:blipFill>
        <p:spPr>
          <a:xfrm>
            <a:off x="6070680" y="0"/>
            <a:ext cx="3073320" cy="3573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L02_p08_01"/>
          <p:cNvPicPr/>
          <p:nvPr/>
        </p:nvPicPr>
        <p:blipFill>
          <a:blip r:embed="rId3"/>
          <a:stretch/>
        </p:blipFill>
        <p:spPr>
          <a:xfrm>
            <a:off x="0" y="0"/>
            <a:ext cx="3203640" cy="3284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OCR0206"/>
          <p:cNvPicPr/>
          <p:nvPr/>
        </p:nvPicPr>
        <p:blipFill>
          <a:blip r:embed="rId4"/>
          <a:stretch/>
        </p:blipFill>
        <p:spPr>
          <a:xfrm>
            <a:off x="3203640" y="0"/>
            <a:ext cx="2881080" cy="3284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OCR0204"/>
          <p:cNvPicPr/>
          <p:nvPr/>
        </p:nvPicPr>
        <p:blipFill>
          <a:blip r:embed="rId5"/>
          <a:stretch/>
        </p:blipFill>
        <p:spPr>
          <a:xfrm>
            <a:off x="0" y="3284640"/>
            <a:ext cx="2700360" cy="3573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9" descr=""/>
          <p:cNvPicPr/>
          <p:nvPr/>
        </p:nvPicPr>
        <p:blipFill>
          <a:blip r:embed="rId6"/>
          <a:stretch/>
        </p:blipFill>
        <p:spPr>
          <a:xfrm>
            <a:off x="6300720" y="3284640"/>
            <a:ext cx="2843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1" name="Picture 4" descr="L02_p08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3" name="Picture 4" descr="L02_p08_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5" name="Picture 4" descr="L02_p08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4"/>
          <p:cNvSpPr/>
          <p:nvPr/>
        </p:nvSpPr>
        <p:spPr>
          <a:xfrm>
            <a:off x="684360" y="0"/>
            <a:ext cx="10062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скелет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Group 23"/>
          <p:cNvGrpSpPr/>
          <p:nvPr/>
        </p:nvGrpSpPr>
        <p:grpSpPr>
          <a:xfrm>
            <a:off x="2195640" y="907920"/>
            <a:ext cx="6697080" cy="1568160"/>
            <a:chOff x="2195640" y="907920"/>
            <a:chExt cx="6697080" cy="1568160"/>
          </a:xfrm>
        </p:grpSpPr>
        <p:sp>
          <p:nvSpPr>
            <p:cNvPr id="98" name="Text Box 17"/>
            <p:cNvSpPr/>
            <p:nvPr/>
          </p:nvSpPr>
          <p:spPr>
            <a:xfrm>
              <a:off x="3824280" y="907920"/>
              <a:ext cx="5068440" cy="15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800" spc="-1" strike="noStrike">
                  <a:solidFill>
                    <a:srgbClr val="ffff00"/>
                  </a:solidFill>
                  <a:latin typeface="Times New Roman"/>
                </a:rPr>
                <a:t>осевой</a:t>
              </a:r>
              <a:endParaRPr b="0" lang="en-US" sz="8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AutoShape 18"/>
            <p:cNvSpPr/>
            <p:nvPr/>
          </p:nvSpPr>
          <p:spPr>
            <a:xfrm>
              <a:off x="2195640" y="1269720"/>
              <a:ext cx="1924560" cy="1070280"/>
            </a:xfrm>
            <a:prstGeom prst="rightArrow">
              <a:avLst>
                <a:gd name="adj1" fmla="val 50000"/>
                <a:gd name="adj2" fmla="val 44955"/>
              </a:avLst>
            </a:prstGeom>
            <a:solidFill>
              <a:srgbClr val="ff0000"/>
            </a:solidFill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50920" y="404640"/>
            <a:ext cx="9144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</a:rPr>
              <a:t>скелет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Group 9"/>
          <p:cNvGrpSpPr/>
          <p:nvPr/>
        </p:nvGrpSpPr>
        <p:grpSpPr>
          <a:xfrm>
            <a:off x="1187280" y="4149720"/>
            <a:ext cx="7667280" cy="1584000"/>
            <a:chOff x="1187280" y="4149720"/>
            <a:chExt cx="7667280" cy="1584000"/>
          </a:xfrm>
        </p:grpSpPr>
        <p:sp>
          <p:nvSpPr>
            <p:cNvPr id="102" name="Text Box 4"/>
            <p:cNvSpPr/>
            <p:nvPr/>
          </p:nvSpPr>
          <p:spPr>
            <a:xfrm>
              <a:off x="3981960" y="4149720"/>
              <a:ext cx="4872600" cy="15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ff00"/>
                  </a:solidFill>
                  <a:latin typeface="Times New Roman"/>
                </a:rPr>
                <a:t>добавочный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AutoShape 7"/>
            <p:cNvSpPr/>
            <p:nvPr/>
          </p:nvSpPr>
          <p:spPr>
            <a:xfrm>
              <a:off x="1187280" y="4618800"/>
              <a:ext cx="2523600" cy="1099440"/>
            </a:xfrm>
            <a:prstGeom prst="rightArrow">
              <a:avLst>
                <a:gd name="adj1" fmla="val 50000"/>
                <a:gd name="adj2" fmla="val 57384"/>
              </a:avLst>
            </a:prstGeom>
            <a:solidFill>
              <a:srgbClr val="ff0000"/>
            </a:solidFill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Group 11"/>
          <p:cNvGrpSpPr/>
          <p:nvPr/>
        </p:nvGrpSpPr>
        <p:grpSpPr>
          <a:xfrm>
            <a:off x="1187280" y="907920"/>
            <a:ext cx="7705440" cy="1568160"/>
            <a:chOff x="1187280" y="907920"/>
            <a:chExt cx="7705440" cy="1568160"/>
          </a:xfrm>
        </p:grpSpPr>
        <p:sp>
          <p:nvSpPr>
            <p:cNvPr id="105" name="Text Box 12"/>
            <p:cNvSpPr/>
            <p:nvPr/>
          </p:nvSpPr>
          <p:spPr>
            <a:xfrm>
              <a:off x="3061440" y="907920"/>
              <a:ext cx="5831280" cy="15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800" spc="-1" strike="noStrike">
                  <a:solidFill>
                    <a:srgbClr val="ffff00"/>
                  </a:solidFill>
                  <a:latin typeface="Times New Roman"/>
                </a:rPr>
                <a:t>осевой</a:t>
              </a:r>
              <a:endParaRPr b="0" lang="en-US" sz="8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AutoShape 13"/>
            <p:cNvSpPr/>
            <p:nvPr/>
          </p:nvSpPr>
          <p:spPr>
            <a:xfrm>
              <a:off x="1187280" y="1269720"/>
              <a:ext cx="2214360" cy="1070280"/>
            </a:xfrm>
            <a:prstGeom prst="rightArrow">
              <a:avLst>
                <a:gd name="adj1" fmla="val 50000"/>
                <a:gd name="adj2" fmla="val 51724"/>
              </a:avLst>
            </a:prstGeom>
            <a:solidFill>
              <a:srgbClr val="ff0000"/>
            </a:solidFill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24000" y="0"/>
            <a:ext cx="86184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осевой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352680" y="1143000"/>
            <a:ext cx="5594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Скелет головы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1187280" y="1341360"/>
            <a:ext cx="1905120" cy="676440"/>
          </a:xfrm>
          <a:prstGeom prst="rightArrow">
            <a:avLst>
              <a:gd name="adj1" fmla="val 50000"/>
              <a:gd name="adj2" fmla="val 70410"/>
            </a:avLst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24000" y="0"/>
            <a:ext cx="9334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осевой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564000" y="3789360"/>
            <a:ext cx="51847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Скеле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туловища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1332000" y="4581360"/>
            <a:ext cx="1981080" cy="676440"/>
          </a:xfrm>
          <a:prstGeom prst="rightArrow">
            <a:avLst>
              <a:gd name="adj1" fmla="val 50000"/>
              <a:gd name="adj2" fmla="val 73217"/>
            </a:avLst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1332000" y="1341360"/>
            <a:ext cx="1904760" cy="676440"/>
          </a:xfrm>
          <a:prstGeom prst="rightArrow">
            <a:avLst>
              <a:gd name="adj1" fmla="val 50000"/>
              <a:gd name="adj2" fmla="val 70396"/>
            </a:avLst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352680" y="1143000"/>
            <a:ext cx="5594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Скелет головы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1:34:55Z</dcterms:created>
  <dc:creator>Лена</dc:creator>
  <dc:description/>
  <dc:language>en-US</dc:language>
  <cp:lastModifiedBy>RF</cp:lastModifiedBy>
  <dcterms:modified xsi:type="dcterms:W3CDTF">2019-12-07T15:05:45Z</dcterms:modified>
  <cp:revision>32</cp:revision>
  <dc:subject/>
  <dc:title>Презентация PowerPoint</dc:title>
</cp:coreProperties>
</file>