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1A1-7371-4619-AF0C-B5B66589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34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510720"/>
            <a:ext cx="5334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2B4-96F7-4273-933C-A3B24ED1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4260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51072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42600" y="351072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644-D175-4316-8C5F-C3BDA89E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12720" y="160020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15960" y="160020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51072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12720" y="351072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15960" y="351072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2CA-61F6-4978-BCA4-AA380E22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B35A-1E06-4170-8AFC-1C1F27EB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D99E-E3FA-400C-9DB6-F693FA4F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7CC8-9BD6-4226-A5A6-64296DD5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2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2600" y="1600200"/>
            <a:ext cx="2602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47F8-F669-4505-9B47-A964F683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3852-6B92-4EAC-9499-778C9F45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8887-A0E3-4278-AE28-BB38B07C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42600" y="1600200"/>
            <a:ext cx="2602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51072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ED61-9021-41CB-B421-8EC0EADB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C52-E699-4919-8268-32C9A74B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2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4260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42600" y="351072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1DCD-046E-439B-9F49-FC80F5BA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4260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510720"/>
            <a:ext cx="5334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9A0F-14E9-4D23-9288-1213335F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34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510720"/>
            <a:ext cx="5334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0945-3ACE-45F3-8393-48D98446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260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51072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42600" y="351072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178A-2272-49E1-A088-D2734B13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12720" y="160020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15960" y="160020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51072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12720" y="351072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215960" y="3510720"/>
            <a:ext cx="171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3445-B4A2-4CB6-823F-2DB708AC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A64-0AA4-480E-963D-9B89FADB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2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42600" y="1600200"/>
            <a:ext cx="2602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0F4-6309-4F81-BB38-356BE3F2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791-3E64-477B-896A-A960E579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8A8-7B2B-4744-A664-3D671B77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42600" y="1600200"/>
            <a:ext cx="2602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51072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801-FF3C-4DF3-A17B-96E7EA0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2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4260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42600" y="351072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31E-2890-4E99-A9BD-2B61540A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42600" y="1600200"/>
            <a:ext cx="2602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510720"/>
            <a:ext cx="5334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AA3-06AC-42A1-BD8E-E68F24B0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Горизонтальный свиток 10"/>
          <p:cNvSpPr/>
          <p:nvPr/>
        </p:nvSpPr>
        <p:spPr>
          <a:xfrm>
            <a:off x="533520" y="609480"/>
            <a:ext cx="5486400" cy="57150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http://li-web.ru/"/>
          <p:cNvPicPr/>
          <p:nvPr/>
        </p:nvPicPr>
        <p:blipFill>
          <a:blip r:embed="rId3"/>
          <a:stretch/>
        </p:blipFill>
        <p:spPr>
          <a:xfrm>
            <a:off x="6238800" y="0"/>
            <a:ext cx="2905200" cy="476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09120" y="160020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8794-927B-414A-95C5-7C2BD7022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bd97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http://li-web.ru/"/>
          <p:cNvPicPr/>
          <p:nvPr/>
        </p:nvPicPr>
        <p:blipFill>
          <a:blip r:embed="rId2"/>
          <a:stretch/>
        </p:blipFill>
        <p:spPr>
          <a:xfrm>
            <a:off x="7391520" y="4191120"/>
            <a:ext cx="175248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09120" y="160020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E0BC-AA5D-431A-92E6-1C69DDE4C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1904760"/>
            <a:ext cx="4267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умки для души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ну очень хороши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сумка1.jpg"/>
          <p:cNvPicPr/>
          <p:nvPr/>
        </p:nvPicPr>
        <p:blipFill>
          <a:blip r:embed="rId1"/>
          <a:stretch/>
        </p:blipFill>
        <p:spPr>
          <a:xfrm>
            <a:off x="1628640" y="0"/>
            <a:ext cx="588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сумка2.jpg"/>
          <p:cNvPicPr/>
          <p:nvPr/>
        </p:nvPicPr>
        <p:blipFill>
          <a:blip r:embed="rId1"/>
          <a:stretch/>
        </p:blipFill>
        <p:spPr>
          <a:xfrm>
            <a:off x="1477800" y="0"/>
            <a:ext cx="618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пользованы фото  со страниц сайтов интерне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1680" y="4876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зентация составле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ителем технологии  высшей катег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БОУ СОШ пгт. Уруша Амурской области Куприяновой Ольгой Васильевной, 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4.jpg"/>
          <p:cNvPicPr/>
          <p:nvPr/>
        </p:nvPicPr>
        <p:blipFill>
          <a:blip r:embed="rId1"/>
          <a:stretch/>
        </p:blipFill>
        <p:spPr>
          <a:xfrm>
            <a:off x="11430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29img_2828.jpg"/>
          <p:cNvPicPr/>
          <p:nvPr/>
        </p:nvPicPr>
        <p:blipFill>
          <a:blip r:embed="rId1"/>
          <a:srcRect l="7421" t="0" r="7770" b="8750"/>
          <a:stretch/>
        </p:blipFill>
        <p:spPr>
          <a:xfrm>
            <a:off x="304920" y="228600"/>
            <a:ext cx="7014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3456.jpg"/>
          <p:cNvPicPr/>
          <p:nvPr/>
        </p:nvPicPr>
        <p:blipFill>
          <a:blip r:embed="rId1"/>
          <a:stretch/>
        </p:blipFill>
        <p:spPr>
          <a:xfrm>
            <a:off x="228600" y="228600"/>
            <a:ext cx="7237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p1290964_3.jpg"/>
          <p:cNvPicPr/>
          <p:nvPr/>
        </p:nvPicPr>
        <p:blipFill>
          <a:blip r:embed="rId1"/>
          <a:stretch/>
        </p:blipFill>
        <p:spPr>
          <a:xfrm>
            <a:off x="0" y="609480"/>
            <a:ext cx="7213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апп.jpg"/>
          <p:cNvPicPr/>
          <p:nvPr/>
        </p:nvPicPr>
        <p:blipFill>
          <a:blip r:embed="rId1"/>
          <a:srcRect l="11112" t="0" r="12227" b="0"/>
          <a:stretch/>
        </p:blipFill>
        <p:spPr>
          <a:xfrm>
            <a:off x="9907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пррт.jpg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тьл.jpg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5" descr="сумка.jpg"/>
          <p:cNvPicPr/>
          <p:nvPr/>
        </p:nvPicPr>
        <p:blipFill>
          <a:blip r:embed="rId1"/>
          <a:stretch/>
        </p:blipFill>
        <p:spPr>
          <a:xfrm>
            <a:off x="16002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Olga</cp:lastModifiedBy>
  <dcterms:modified xsi:type="dcterms:W3CDTF">2019-12-07T12:25:05Z</dcterms:modified>
  <cp:revision>12</cp:revision>
  <dc:subject/>
  <dc:title>Слайд 1</dc:title>
</cp:coreProperties>
</file>