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8C84-1A2C-4017-965F-021B2371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559-A102-4C4F-A54B-CD05B979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6CE-E8C7-4D35-9379-1C76E8A1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930C-0B10-4080-8743-7ED2A7BB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638C-824D-4D6C-A346-00F41F8C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ED0E-27F0-41F7-A0BA-07106CF8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E800-E1CB-40B3-B0DA-53512224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9E9B-BBB2-4591-80A0-C2702BC8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06B3-29D1-4A09-B774-9FD91FEB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6B23-3442-43BA-A490-2FBB61E6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0D55-F306-420E-A682-1A48612A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5B7A-5D82-47E6-A581-FCA8C377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455B-0ABD-4AFF-A854-9D1E4CCA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06DF-5A0D-4D46-BBE9-BDB6DD85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0D2E-0F1B-4DE1-8FBA-8EA75D10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9F07-E755-4A68-ADCF-338F8C57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E22D-28AD-445C-A21D-1B05B4B6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6D97-ACF4-4AD7-AB6B-913B3A29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351-2A4E-4FBB-BEBD-B6B8C944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73A3-E73F-460F-A8E1-E53BCAEC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2FC-681A-4C39-B1AC-5E3D11DE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F3F-044A-424B-BDCD-6EC85E06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DC7D-0CE1-4655-BF2D-368A09CB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166-52CE-480F-ADF1-6242D90F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AED6-1AE5-48DA-874A-228DF3BDB2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981F-0E77-4A17-BD17-CC5D2A2F5B2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Троянская программ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6400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роянская программ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539640" y="2421000"/>
            <a:ext cx="8101080" cy="3887640"/>
          </a:xfrm>
          <a:prstGeom prst="horizontalScroll">
            <a:avLst>
              <a:gd name="adj" fmla="val 125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редоносная программ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торая выполняет несанкционированную пользовател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дачу управ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мпьютером удаленно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льзовател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так же действие по удалению, модификаци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боры и пересылки информации третьим лиц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1765440" y="385920"/>
            <a:ext cx="5540400" cy="5540040"/>
            <a:chOff x="1765440" y="385920"/>
            <a:chExt cx="5540400" cy="5540040"/>
          </a:xfrm>
        </p:grpSpPr>
        <p:sp>
          <p:nvSpPr>
            <p:cNvPr id="390" name="_s17423"/>
            <p:cNvSpPr/>
            <p:nvPr/>
          </p:nvSpPr>
          <p:spPr>
            <a:xfrm flipH="1">
              <a:off x="3149280" y="3156120"/>
              <a:ext cx="693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_s17422"/>
            <p:cNvSpPr/>
            <p:nvPr/>
          </p:nvSpPr>
          <p:spPr>
            <a:xfrm>
              <a:off x="1765440" y="2463840"/>
              <a:ext cx="1384200" cy="138420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Инсталлятор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_s17421"/>
            <p:cNvSpPr/>
            <p:nvPr/>
          </p:nvSpPr>
          <p:spPr>
            <a:xfrm>
              <a:off x="4535640" y="3848040"/>
              <a:ext cx="0" cy="693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_s17420"/>
            <p:cNvSpPr/>
            <p:nvPr/>
          </p:nvSpPr>
          <p:spPr>
            <a:xfrm>
              <a:off x="3843360" y="4541760"/>
              <a:ext cx="1384200" cy="138420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Утилиты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Удаленн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администриров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_s17419"/>
            <p:cNvSpPr/>
            <p:nvPr/>
          </p:nvSpPr>
          <p:spPr>
            <a:xfrm>
              <a:off x="5227560" y="3156120"/>
              <a:ext cx="693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_s17418"/>
            <p:cNvSpPr/>
            <p:nvPr/>
          </p:nvSpPr>
          <p:spPr>
            <a:xfrm>
              <a:off x="5921280" y="2463840"/>
              <a:ext cx="1384560" cy="138420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Шпион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_s17417"/>
            <p:cNvSpPr/>
            <p:nvPr/>
          </p:nvSpPr>
          <p:spPr>
            <a:xfrm flipV="1">
              <a:off x="4535640" y="1769760"/>
              <a:ext cx="0" cy="693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_s17416"/>
            <p:cNvSpPr/>
            <p:nvPr/>
          </p:nvSpPr>
          <p:spPr>
            <a:xfrm>
              <a:off x="3843360" y="385920"/>
              <a:ext cx="1384200" cy="138420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Ворующ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информацию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_s17415"/>
            <p:cNvSpPr/>
            <p:nvPr/>
          </p:nvSpPr>
          <p:spPr>
            <a:xfrm>
              <a:off x="3843360" y="2463840"/>
              <a:ext cx="1384200" cy="138420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Троянска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Garamond"/>
                </a:rPr>
                <a:t>программ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роянская программа удаленного администрирова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1187280" y="2205000"/>
            <a:ext cx="7488360" cy="36003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1068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оянские программы этого класса являются утилиты удаленного администрирования компьютера в сети. Утилита скрытого управления позволяют принимать или отсылать файлы, запускать или уничтожать их, выводить сообщения, стирать информацию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 запуске троянец устанавливает себя в системе и за тем следит за ней, при этом пользователю не выдается никаких сообщений о действии программы. Троянские программы данного типа являются одним из самых опасных видов вредоносного программного обеспеч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роянские программы ворующие информацию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кие программы воруют различную информацию с зараженного компьюте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запуске они ищут файлы хранящие конфиденциальную информацию о пользователе и отсылают ее по указанному в коде троянца электронному адрес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оянцы данного типа так же сообщают информацию о зараженном компьюте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роянские программы инсталляторы вредоносных програм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оянские программы этого класса скрыто инсталлируют другие вредоносные программы и используются для «подсовывания» на компьютер жертву вирусов или других троянских програм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4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роянские программы шпионы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анные троянцы осуществляют электронный шпионаж за пользователем зараженного компьютера: вводимая с клавиатуры информация, снимки экрана, список активных приложений и действий с ними сохраняются в каком-либо файле на диске и периодически отправляются злоумышленника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оянские программы этого типа часто используются для кражи информации пользователей различных систем онлайновых платежей и банковских систе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8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289080" y="203040"/>
            <a:ext cx="8495640" cy="5830920"/>
            <a:chOff x="289080" y="203040"/>
            <a:chExt cx="8495640" cy="5830920"/>
          </a:xfrm>
        </p:grpSpPr>
        <p:cxnSp>
          <p:nvCxnSpPr>
            <p:cNvPr id="409" name="_s32789"/>
            <p:cNvCxnSpPr>
              <a:stCxn id="410" idx="0"/>
              <a:endCxn id="411" idx="2"/>
            </p:cNvCxnSpPr>
            <p:nvPr/>
          </p:nvCxnSpPr>
          <p:spPr>
            <a:xfrm flipV="1" rot="16200000">
              <a:off x="5702040" y="1368720"/>
              <a:ext cx="1166760" cy="349884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2" name="_s32785"/>
            <p:cNvCxnSpPr>
              <a:stCxn id="413" idx="0"/>
              <a:endCxn id="411" idx="2"/>
            </p:cNvCxnSpPr>
            <p:nvPr/>
          </p:nvCxnSpPr>
          <p:spPr>
            <a:xfrm flipV="1" rot="16200000">
              <a:off x="4827600" y="2243160"/>
              <a:ext cx="1166760" cy="174960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4" name="_s32783"/>
            <p:cNvCxnSpPr>
              <a:stCxn id="415" idx="0"/>
              <a:endCxn id="411" idx="2"/>
            </p:cNvCxnSpPr>
            <p:nvPr/>
          </p:nvCxnSpPr>
          <p:spPr>
            <a:xfrm flipV="1">
              <a:off x="4536720" y="2534760"/>
              <a:ext cx="2160" cy="1166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6" name="_s32781"/>
            <p:cNvCxnSpPr>
              <a:stCxn id="417" idx="0"/>
              <a:endCxn id="411" idx="2"/>
            </p:cNvCxnSpPr>
            <p:nvPr/>
          </p:nvCxnSpPr>
          <p:spPr>
            <a:xfrm flipH="1" flipV="1" rot="5400000">
              <a:off x="3079080" y="2243520"/>
              <a:ext cx="1166760" cy="174960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8" name="_s32780"/>
            <p:cNvCxnSpPr>
              <a:stCxn id="419" idx="0"/>
              <a:endCxn id="411" idx="2"/>
            </p:cNvCxnSpPr>
            <p:nvPr/>
          </p:nvCxnSpPr>
          <p:spPr>
            <a:xfrm flipH="1" flipV="1" rot="5400000">
              <a:off x="2204280" y="1368720"/>
              <a:ext cx="1166760" cy="349884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11" name="_s32775"/>
            <p:cNvSpPr/>
            <p:nvPr/>
          </p:nvSpPr>
          <p:spPr>
            <a:xfrm>
              <a:off x="3787200" y="203040"/>
              <a:ext cx="1499040" cy="2332440"/>
            </a:xfrm>
            <a:custGeom>
              <a:avLst/>
              <a:gdLst>
                <a:gd name="textAreaLeft" fmla="*/ 73080 w 1499040"/>
                <a:gd name="textAreaRight" fmla="*/ 1425960 w 1499040"/>
                <a:gd name="textAreaTop" fmla="*/ 73080 h 2332440"/>
                <a:gd name="textAreaBottom" fmla="*/ 2259360 h 2332440"/>
              </a:gdLst>
              <a:ahLst/>
              <a:rect l="textAreaLeft" t="textAreaTop" r="textAreaRight" b="textAreaBottom"/>
              <a:pathLst>
                <a:path w="21600" h="33606">
                  <a:moveTo>
                    <a:pt x="3600" y="0"/>
                  </a:moveTo>
                  <a:arcTo wR="3600" hR="3600" stAng="16200000" swAng="-5400000"/>
                  <a:lnTo>
                    <a:pt x="0" y="30006"/>
                  </a:lnTo>
                  <a:arcTo wR="3600" hR="3600" stAng="10800000" swAng="-5400000"/>
                  <a:lnTo>
                    <a:pt x="18000" y="33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Защита от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троянских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программ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_s32777"/>
            <p:cNvSpPr/>
            <p:nvPr/>
          </p:nvSpPr>
          <p:spPr>
            <a:xfrm>
              <a:off x="289080" y="3701520"/>
              <a:ext cx="1499040" cy="2332440"/>
            </a:xfrm>
            <a:custGeom>
              <a:avLst/>
              <a:gdLst>
                <a:gd name="textAreaLeft" fmla="*/ 73080 w 1499040"/>
                <a:gd name="textAreaRight" fmla="*/ 1425960 w 1499040"/>
                <a:gd name="textAreaTop" fmla="*/ 73080 h 2332440"/>
                <a:gd name="textAreaBottom" fmla="*/ 2259360 h 2332440"/>
              </a:gdLst>
              <a:ahLst/>
              <a:rect l="textAreaLeft" t="textAreaTop" r="textAreaRight" b="textAreaBottom"/>
              <a:pathLst>
                <a:path w="21600" h="33606">
                  <a:moveTo>
                    <a:pt x="3600" y="0"/>
                  </a:moveTo>
                  <a:arcTo wR="3600" hR="3600" stAng="16200000" swAng="-5400000"/>
                  <a:lnTo>
                    <a:pt x="0" y="30006"/>
                  </a:lnTo>
                  <a:arcTo wR="3600" hR="3600" stAng="10800000" swAng="-5400000"/>
                  <a:lnTo>
                    <a:pt x="18000" y="33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ahoma"/>
                </a:rPr>
                <a:t>1.Запустить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ahoma"/>
                </a:rPr>
                <a:t>программу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300" spc="-1" strike="noStrike">
                  <a:solidFill>
                    <a:srgbClr val="ffffff"/>
                  </a:solidFill>
                  <a:latin typeface="Tahoma"/>
                </a:rPr>
                <a:t>восстановлени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300" spc="-1" strike="noStrike">
                  <a:solidFill>
                    <a:srgbClr val="ffffff"/>
                  </a:solidFill>
                  <a:latin typeface="Tahoma"/>
                </a:rPr>
                <a:t>системы </a:t>
              </a: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CCleaner</a:t>
              </a:r>
              <a:r>
                <a:rPr b="0" lang="ru-RU" sz="13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ahoma"/>
                </a:rPr>
                <a:t>В левой части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ahoma"/>
                </a:rPr>
                <a:t>Окна приложения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ahoma"/>
                </a:rPr>
                <a:t>Щелкнуть по кнопке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300" spc="-1" strike="noStrike">
                  <a:solidFill>
                    <a:srgbClr val="ffffff"/>
                  </a:solidFill>
                  <a:latin typeface="Tahoma"/>
                </a:rPr>
                <a:t>НЕПОЛАДКИ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_s32778"/>
            <p:cNvSpPr/>
            <p:nvPr/>
          </p:nvSpPr>
          <p:spPr>
            <a:xfrm>
              <a:off x="2037960" y="3701520"/>
              <a:ext cx="1499040" cy="2332440"/>
            </a:xfrm>
            <a:custGeom>
              <a:avLst/>
              <a:gdLst>
                <a:gd name="textAreaLeft" fmla="*/ 73080 w 1499040"/>
                <a:gd name="textAreaRight" fmla="*/ 1425960 w 1499040"/>
                <a:gd name="textAreaTop" fmla="*/ 73080 h 2332440"/>
                <a:gd name="textAreaBottom" fmla="*/ 2259360 h 2332440"/>
              </a:gdLst>
              <a:ahLst/>
              <a:rect l="textAreaLeft" t="textAreaTop" r="textAreaRight" b="textAreaBottom"/>
              <a:pathLst>
                <a:path w="21600" h="33606">
                  <a:moveTo>
                    <a:pt x="3600" y="0"/>
                  </a:moveTo>
                  <a:arcTo wR="3600" hR="3600" stAng="16200000" swAng="-5400000"/>
                  <a:lnTo>
                    <a:pt x="0" y="30006"/>
                  </a:lnTo>
                  <a:arcTo wR="3600" hR="3600" stAng="10800000" swAng="-5400000"/>
                  <a:lnTo>
                    <a:pt x="18000" y="33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383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2.В списке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ffffff"/>
                  </a:solidFill>
                  <a:latin typeface="Tahoma"/>
                </a:rPr>
                <a:t>НАСТРОЙКА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ffffff"/>
                  </a:solidFill>
                  <a:latin typeface="Tahoma"/>
                </a:rPr>
                <a:t>ПОИСКА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i="1" lang="en-US" sz="1300" spc="-1" strike="noStrike">
                  <a:solidFill>
                    <a:srgbClr val="ffffff"/>
                  </a:solidFill>
                  <a:latin typeface="Tahoma"/>
                </a:rPr>
                <a:t>НЕПОЛАДОК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Отметить нужные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пункты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_s32782"/>
            <p:cNvSpPr/>
            <p:nvPr/>
          </p:nvSpPr>
          <p:spPr>
            <a:xfrm>
              <a:off x="3787200" y="3701520"/>
              <a:ext cx="1499040" cy="2332440"/>
            </a:xfrm>
            <a:custGeom>
              <a:avLst/>
              <a:gdLst>
                <a:gd name="textAreaLeft" fmla="*/ 73080 w 1499040"/>
                <a:gd name="textAreaRight" fmla="*/ 1425960 w 1499040"/>
                <a:gd name="textAreaTop" fmla="*/ 73080 h 2332440"/>
                <a:gd name="textAreaBottom" fmla="*/ 2259360 h 2332440"/>
              </a:gdLst>
              <a:ahLst/>
              <a:rect l="textAreaLeft" t="textAreaTop" r="textAreaRight" b="textAreaBottom"/>
              <a:pathLst>
                <a:path w="21600" h="33606">
                  <a:moveTo>
                    <a:pt x="3600" y="0"/>
                  </a:moveTo>
                  <a:arcTo wR="3600" hR="3600" stAng="16200000" swAng="-5400000"/>
                  <a:lnTo>
                    <a:pt x="0" y="30006"/>
                  </a:lnTo>
                  <a:arcTo wR="3600" hR="3600" stAng="10800000" swAng="-5400000"/>
                  <a:lnTo>
                    <a:pt x="18000" y="33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2b609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.Щелкнуть по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кнопк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i="1" lang="en-US" sz="1300" spc="-1" strike="noStrike">
                  <a:solidFill>
                    <a:srgbClr val="ffffff"/>
                  </a:solidFill>
                  <a:latin typeface="Tahoma"/>
                </a:rPr>
                <a:t>ПОИСК ПРОБЛЕМ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В правой 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части окна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Будут показаны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Проблемы реестра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И соответствующи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Записи реестра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_s32784"/>
            <p:cNvSpPr/>
            <p:nvPr/>
          </p:nvSpPr>
          <p:spPr>
            <a:xfrm>
              <a:off x="5536440" y="3701520"/>
              <a:ext cx="1499040" cy="2332440"/>
            </a:xfrm>
            <a:custGeom>
              <a:avLst/>
              <a:gdLst>
                <a:gd name="textAreaLeft" fmla="*/ 73080 w 1499040"/>
                <a:gd name="textAreaRight" fmla="*/ 1425960 w 1499040"/>
                <a:gd name="textAreaTop" fmla="*/ 73080 h 2332440"/>
                <a:gd name="textAreaBottom" fmla="*/ 2259360 h 2332440"/>
              </a:gdLst>
              <a:ahLst/>
              <a:rect l="textAreaLeft" t="textAreaTop" r="textAreaRight" b="textAreaBottom"/>
              <a:pathLst>
                <a:path w="21600" h="33606">
                  <a:moveTo>
                    <a:pt x="3600" y="0"/>
                  </a:moveTo>
                  <a:arcTo wR="3600" hR="3600" stAng="16200000" swAng="-5400000"/>
                  <a:lnTo>
                    <a:pt x="0" y="30006"/>
                  </a:lnTo>
                  <a:arcTo wR="3600" hR="3600" stAng="10800000" swAng="-5400000"/>
                  <a:lnTo>
                    <a:pt x="18000" y="33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fa9b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4.Отметить нужные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записи и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щелкнуть по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кнопк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ffffff"/>
                  </a:solidFill>
                  <a:latin typeface="Tahoma"/>
                </a:rPr>
                <a:t>ИСПРАВИТЬ 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ffffff"/>
                  </a:solidFill>
                  <a:latin typeface="Tahoma"/>
                </a:rPr>
                <a:t>ОТМЕЧЕННЫЕ</a:t>
              </a: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_s32788"/>
            <p:cNvSpPr/>
            <p:nvPr/>
          </p:nvSpPr>
          <p:spPr>
            <a:xfrm>
              <a:off x="7285680" y="3701520"/>
              <a:ext cx="1499040" cy="2332440"/>
            </a:xfrm>
            <a:custGeom>
              <a:avLst/>
              <a:gdLst>
                <a:gd name="textAreaLeft" fmla="*/ 73080 w 1499040"/>
                <a:gd name="textAreaRight" fmla="*/ 1425960 w 1499040"/>
                <a:gd name="textAreaTop" fmla="*/ 73080 h 2332440"/>
                <a:gd name="textAreaBottom" fmla="*/ 2259360 h 2332440"/>
              </a:gdLst>
              <a:ahLst/>
              <a:rect l="textAreaLeft" t="textAreaTop" r="textAreaRight" b="textAreaBottom"/>
              <a:pathLst>
                <a:path w="21600" h="33606">
                  <a:moveTo>
                    <a:pt x="3600" y="0"/>
                  </a:moveTo>
                  <a:arcTo wR="3600" hR="3600" stAng="16200000" swAng="-5400000"/>
                  <a:lnTo>
                    <a:pt x="0" y="30006"/>
                  </a:lnTo>
                  <a:arcTo wR="3600" hR="3600" stAng="10800000" swAng="-5400000"/>
                  <a:lnTo>
                    <a:pt x="18000" y="33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5b41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5.Произойдет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исправление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Выбранных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записей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Системного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реестра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24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8:17:26Z</dcterms:created>
  <dc:creator>Школа</dc:creator>
  <dc:description/>
  <dc:language>en-US</dc:language>
  <cp:lastModifiedBy>Школа</cp:lastModifiedBy>
  <dcterms:modified xsi:type="dcterms:W3CDTF">2010-09-29T09:31:12Z</dcterms:modified>
  <cp:revision>2</cp:revision>
  <dc:subject/>
  <dc:title>Троянская программа</dc:title>
</cp:coreProperties>
</file>