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F16-EA6D-4983-8C2E-6344CFB4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C6B-F4DA-44CE-81DC-3BBA7C3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AF2-07F7-4C22-BCEC-D40F9297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E7D-361F-42D4-A2A8-5E35698C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42E3-F9C3-4D2B-92EA-E39D8BE9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71C96-A6D4-4AA4-9F0C-D75E72A3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41B89-60EA-4920-84CC-E5AF1B7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C48C0-4C62-4FBA-96BF-AF3128D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7F7CE-3C13-4E42-885A-7FB2DD82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77CAB-1614-48EC-BDDB-34F5CBC3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D9055-0FED-4672-90CD-3F9B8F5B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E55-9147-4B3F-97A6-D5451BBB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8E8F0-E2FC-4CF4-AEBB-46942705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989E6-022B-42AC-B9C6-617E73A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B8D9A-A64B-4B1E-84B5-E603898B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74FD4-C294-4299-828C-320B5C79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AD2F0-0A49-417C-9342-5FD906BB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F37-A130-4ED9-BB04-2CB02E77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9BD-EB03-4571-96FE-0AC8E2EF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071-7486-42C7-A256-EC842356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D0F-421E-488A-8E84-996C79EE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0D0-692C-496F-81C9-6AEC5F63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755-4155-49ED-81FA-BFEEE01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161-D140-4166-AAC8-478AD1A0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826-9166-46DC-9217-4CD3BB893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8F78-A7B3-485B-A38C-414B241599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Влияние кислорода  на организм чело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1640" y="2491920"/>
            <a:ext cx="759276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Автор: Цыбжитова Ая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ученица 2 «г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МАОУ Иволгинская С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Tahoma"/>
              </a:rPr>
              <a:t>Руководитель: Эмдэйн К.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С.Иволгин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2017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Диаграмма 23"/>
          <p:cNvGraphicFramePr/>
          <p:nvPr/>
        </p:nvGraphicFramePr>
        <p:xfrm>
          <a:off x="395280" y="1989000"/>
          <a:ext cx="842472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Диаграмма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8424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9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8920" y="2276640"/>
            <a:ext cx="5473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Диаграмма 24"/>
          <p:cNvGraphicFramePr/>
          <p:nvPr/>
        </p:nvGraphicFramePr>
        <p:xfrm>
          <a:off x="684360" y="1341360"/>
          <a:ext cx="770400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Диаграмма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704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920" y="2420640"/>
            <a:ext cx="54007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755640" y="1989000"/>
          <a:ext cx="770400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70400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205000"/>
            <a:ext cx="5472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Диаграмма 26"/>
          <p:cNvGraphicFramePr/>
          <p:nvPr/>
        </p:nvGraphicFramePr>
        <p:xfrm>
          <a:off x="971640" y="1484280"/>
          <a:ext cx="7200720" cy="39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Диаграмма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84280"/>
                    <a:ext cx="720072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зультаты  анкетиро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92360" y="2491920"/>
            <a:ext cx="5472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Диаграмма 27"/>
          <p:cNvGraphicFramePr/>
          <p:nvPr/>
        </p:nvGraphicFramePr>
        <p:xfrm>
          <a:off x="684360" y="1700280"/>
          <a:ext cx="7416720" cy="39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Диаграмма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416720" cy="39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Измерение содержания кислоро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Я провела измерение  насыщения крови кислородом учащихся во время учебного процесса   аппаратом пульсоксиметром до уроков и после уро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4" descr="AirBrush_20161115190015.jpg"/>
          <p:cNvPicPr/>
          <p:nvPr/>
        </p:nvPicPr>
        <p:blipFill>
          <a:blip r:embed="rId1"/>
          <a:stretch/>
        </p:blipFill>
        <p:spPr>
          <a:xfrm>
            <a:off x="4859280" y="1413000"/>
            <a:ext cx="2820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Измерение содержания кисл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Содержимое 6" descr="AirBrush_20161115190130.jpg"/>
          <p:cNvPicPr/>
          <p:nvPr/>
        </p:nvPicPr>
        <p:blipFill>
          <a:blip r:embed="rId1"/>
          <a:stretch/>
        </p:blipFill>
        <p:spPr>
          <a:xfrm>
            <a:off x="539640" y="1844640"/>
            <a:ext cx="30178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7" descr="AirBrush_20161115190405.jpg"/>
          <p:cNvPicPr/>
          <p:nvPr/>
        </p:nvPicPr>
        <p:blipFill>
          <a:blip r:embed="rId2"/>
          <a:stretch/>
        </p:blipFill>
        <p:spPr>
          <a:xfrm>
            <a:off x="4067280" y="2133720"/>
            <a:ext cx="482580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5840" y="1857240"/>
          <a:ext cx="8318520" cy="2076480"/>
        </p:xfrm>
        <a:graphic>
          <a:graphicData uri="http://schemas.openxmlformats.org/drawingml/2006/table">
            <a:tbl>
              <a:tblPr/>
              <a:tblGrid>
                <a:gridCol w="1703160"/>
                <a:gridCol w="1746360"/>
                <a:gridCol w="1079640"/>
                <a:gridCol w="1554120"/>
                <a:gridCol w="1117440"/>
                <a:gridCol w="1117800"/>
              </a:tblGrid>
              <a:tr h="420840"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ровень насыщения кислород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уль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880" rIns="92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2880" marR="9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  <a:ea typeface="Calibri"/>
              </a:rPr>
              <a:t>Показатели  исследования  и частоты пульса       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первая нед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4292640"/>
          <a:ext cx="8425080" cy="2457360"/>
        </p:xfrm>
        <a:graphic>
          <a:graphicData uri="http://schemas.openxmlformats.org/drawingml/2006/table">
            <a:tbl>
              <a:tblPr/>
              <a:tblGrid>
                <a:gridCol w="1727280"/>
                <a:gridCol w="1768680"/>
                <a:gridCol w="1091880"/>
                <a:gridCol w="1575000"/>
                <a:gridCol w="1130400"/>
                <a:gridCol w="11318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ровень насыщения кислородом после уро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уль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Измерение содержания кисл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Содержимое 6" descr="AirBrush_20161115190100.jpg"/>
          <p:cNvPicPr/>
          <p:nvPr/>
        </p:nvPicPr>
        <p:blipFill>
          <a:blip r:embed="rId1"/>
          <a:stretch/>
        </p:blipFill>
        <p:spPr>
          <a:xfrm>
            <a:off x="706320" y="1905120"/>
            <a:ext cx="354024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7" descr="AirBrush_20161115190254.jpg"/>
          <p:cNvPicPr/>
          <p:nvPr/>
        </p:nvPicPr>
        <p:blipFill>
          <a:blip r:embed="rId2"/>
          <a:stretch/>
        </p:blipFill>
        <p:spPr>
          <a:xfrm>
            <a:off x="5011560" y="1905120"/>
            <a:ext cx="3311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Измерение содержания кисл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Содержимое 6" descr="AirBrush_20161115190215.jpg"/>
          <p:cNvPicPr/>
          <p:nvPr/>
        </p:nvPicPr>
        <p:blipFill>
          <a:blip r:embed="rId1"/>
          <a:stretch/>
        </p:blipFill>
        <p:spPr>
          <a:xfrm>
            <a:off x="395280" y="1989000"/>
            <a:ext cx="3968640" cy="280836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7" descr="AirBrush_20161115190336.jpg"/>
          <p:cNvPicPr/>
          <p:nvPr/>
        </p:nvPicPr>
        <p:blipFill>
          <a:blip r:embed="rId2"/>
          <a:stretch/>
        </p:blipFill>
        <p:spPr>
          <a:xfrm>
            <a:off x="4648320" y="2282760"/>
            <a:ext cx="403848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Цель исследования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изучение  влияния кислорода на учащихся  2 «Г» класса в  помещениях Иволгинской школы  на их самочувствие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imes New Roman"/>
                <a:ea typeface="Calibri"/>
              </a:rPr>
              <a:t>Показатели  исследования  и частоты пульса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Calibri"/>
              </a:rPr>
              <a:t>ВТОРАЯ НЕД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905120"/>
          <a:ext cx="8507520" cy="4546440"/>
        </p:xfrm>
        <a:graphic>
          <a:graphicData uri="http://schemas.openxmlformats.org/drawingml/2006/table">
            <a:tbl>
              <a:tblPr/>
              <a:tblGrid>
                <a:gridCol w="1743120"/>
                <a:gridCol w="1787400"/>
                <a:gridCol w="1103400"/>
                <a:gridCol w="1585800"/>
                <a:gridCol w="1146240"/>
                <a:gridCol w="1141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ровень насыщения кислородом до уро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уль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ровень насыщения кислородом после уро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уль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Уровень насыщения крови кислородом учащихся во время учебного процесса  Иволгинской шко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428760" y="2143080"/>
          <a:ext cx="80308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43080"/>
                    <a:ext cx="80308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Частота пульса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учащихся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2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Г Иволгинской школы во врем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учебного процесс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астота  пульса незначительно меняется в процессе учебного процесса, данные показатели в пределах нормы, частота пульса у детей 8-10 лет составляет 68-108 ударов в минуту.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539640" y="4221000"/>
          <a:ext cx="8372520" cy="24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221000"/>
                    <a:ext cx="83725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ывод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Содержание кислорода в воздухе помещений сказывается  на  самочувствии  и работоспособности 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Обязательно надо на переменах проветривать кабинеты, чтобы наполнить свежим кислородом поме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Надо разводить комнатные растения, которые вырабатывают чистый кислор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Надо почаще выходить на улицу и просто подышать свежим воздух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Tahoma"/>
              </a:rPr>
              <a:t>Мое кредо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ahoma"/>
              </a:rPr>
              <a:t>В здоровом тел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ahoma"/>
              </a:rPr>
              <a:t>-здоровый дух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18440" cy="12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0" lang="ru-RU" sz="4800" spc="-1" strike="noStrike">
                <a:solidFill>
                  <a:srgbClr val="7030a0"/>
                </a:solidFill>
                <a:latin typeface="Tahoma"/>
              </a:rPr>
              <a:t>Благодарю за внимани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бъектом исследования является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кислор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едметом исследования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влияние кислорода  на организм чело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Рассмотреть процесс дыхания у человек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Рассмотреть последствия нехватки кислорода для организма человек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Составить анкету и провести анкетирование одноклассников по изменению самочувствия в течение учебного д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Измерить насыщения крови кислородом, измерить частоту пульса учащихся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Актуальнос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мы можем прожить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                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без пищи около месяц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                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</a:rPr>
              <a:t>без воды – около 7 дне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без кислорода  - всего три минут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и человек умира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Характеристика кисло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341360"/>
            <a:ext cx="5761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Когда появляемся на свет, первое, что мы делаем,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это вдох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Жизнь человека полностью зависит от дыхания, от воздух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Дыхание- такая же функция нашего организма, как кровообращение или пищевар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Кислород- самый важный химический элемент в теле человека. Его главная функция состоит в питании и очищении кле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372360" y="1928880"/>
            <a:ext cx="25207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следствия нехватки кислорода для организма челов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головные бо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снижение работоспособ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ухудшение памяти и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сон становится прерывистым, беспокойн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появляется дневная сонлив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увеличивается риск заболеваний с нарушением давления, нарушений ритма серд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нкетиро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Как вы считаете, в кабинетах школы душно:     Да                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Нужно ли проветривать кабинеты на переменах?     Да         Нет        Не в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Бывает ли у вас плохое самочувствие в конце учебного дня:     головные боли, сонливость?       Да         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4. Где вам комфортнее заниматьс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В кабинете, где есть комнатные рас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В кабинете, где нет комнатных растени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5. Вам более комфортно если в кабине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Прохлад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Теп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Жар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Холод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6:39:46Z</dcterms:created>
  <dc:creator>Customer</dc:creator>
  <dc:description/>
  <dc:language>en-US</dc:language>
  <cp:lastModifiedBy>Дарима Эмдэйн</cp:lastModifiedBy>
  <dcterms:modified xsi:type="dcterms:W3CDTF">2019-12-07T13:07:02Z</dcterms:modified>
  <cp:revision>56</cp:revision>
  <dc:subject/>
  <dc:title>Dkbzybt jkgjkj </dc:title>
</cp:coreProperties>
</file>