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917-F048-47D9-85DC-18879F14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397-4A18-4793-AEB4-45C70DF5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492-F8F2-471B-B53D-C50CB6C1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9B2-FF32-41E3-A797-DDC49A58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35CEC-8FEB-4414-901A-09435C7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3D16-CC90-4303-A1FC-3E5FDE6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08FEF-3BFB-4A36-BC66-DA4B5B1D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5DA4C-6FF7-4907-B7A1-0F3FBA5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7EB53-1CB4-44BE-B651-7FD5E704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A902-CC10-4E44-8B12-30EE7621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EFDFA-2B8F-43E3-92BF-6499B7D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9AA-4B45-4533-844B-71B2FA7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B1C2-C082-495C-AAC3-8CB9F7F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AD122-202F-4411-AFB9-F3C71EE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C094E-3BF7-4D3D-A17D-9DF5431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84F4A-6DD2-4B91-A1F5-1B1BBB1A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151E-8968-4BA6-B44F-8B6E64F7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1B1-A8AD-4DDD-B80F-E71FB9C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603-7C58-46B5-BEA9-8C49C1F1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201-DCAE-4BE4-BFEC-78E5D09E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7CA-DE4A-49CE-8B75-5BC3E41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68E-5EC3-4733-9CF4-CD63AE9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B66-1283-4E9C-95F3-586D775E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D3F-BE53-4697-BD7B-FAAF45F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B029-CE70-41BB-9C78-64BF0387E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3F00-1BB9-4013-B9DD-5EB1316E7E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лияние кислорода  на организм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1640" y="2491920"/>
            <a:ext cx="759276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Автор: Цыбжитова Ая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ученица 2 «г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МАОУ Иволгинская С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уководитель: Эмдэйн К.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С.Иволги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2017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Диаграмма 23"/>
          <p:cNvGraphicFramePr/>
          <p:nvPr/>
        </p:nvGraphicFramePr>
        <p:xfrm>
          <a:off x="395280" y="1989000"/>
          <a:ext cx="8424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Диаграмма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424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9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8920" y="2276640"/>
            <a:ext cx="5473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Диаграмма 24"/>
          <p:cNvGraphicFramePr/>
          <p:nvPr/>
        </p:nvGraphicFramePr>
        <p:xfrm>
          <a:off x="684360" y="1341360"/>
          <a:ext cx="770400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Диаграмма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704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920" y="2420640"/>
            <a:ext cx="5400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755640" y="1989000"/>
          <a:ext cx="770400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040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205000"/>
            <a:ext cx="5472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Диаграмма 26"/>
          <p:cNvGraphicFramePr/>
          <p:nvPr/>
        </p:nvGraphicFramePr>
        <p:xfrm>
          <a:off x="971640" y="1484280"/>
          <a:ext cx="7200720" cy="39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Диаграмма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072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360" y="2491920"/>
            <a:ext cx="5472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Диаграмма 27"/>
          <p:cNvGraphicFramePr/>
          <p:nvPr/>
        </p:nvGraphicFramePr>
        <p:xfrm>
          <a:off x="684360" y="1700280"/>
          <a:ext cx="7416720" cy="39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Диаграмма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41672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Я провела измерение  насыщения крови кислородом учащихся во время учебного процесса   аппаратом пульсоксиметром до уроков и после уро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4" descr="AirBrush_20161115190015.jpg"/>
          <p:cNvPicPr/>
          <p:nvPr/>
        </p:nvPicPr>
        <p:blipFill>
          <a:blip r:embed="rId1"/>
          <a:stretch/>
        </p:blipFill>
        <p:spPr>
          <a:xfrm>
            <a:off x="4859280" y="1413000"/>
            <a:ext cx="282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Содержимое 6" descr="AirBrush_20161115190130.jpg"/>
          <p:cNvPicPr/>
          <p:nvPr/>
        </p:nvPicPr>
        <p:blipFill>
          <a:blip r:embed="rId1"/>
          <a:stretch/>
        </p:blipFill>
        <p:spPr>
          <a:xfrm>
            <a:off x="539640" y="1844640"/>
            <a:ext cx="3017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7" descr="AirBrush_20161115190405.jpg"/>
          <p:cNvPicPr/>
          <p:nvPr/>
        </p:nvPicPr>
        <p:blipFill>
          <a:blip r:embed="rId2"/>
          <a:stretch/>
        </p:blipFill>
        <p:spPr>
          <a:xfrm>
            <a:off x="4067280" y="2133720"/>
            <a:ext cx="48258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5840" y="1857240"/>
          <a:ext cx="8318520" cy="2076480"/>
        </p:xfrm>
        <a:graphic>
          <a:graphicData uri="http://schemas.openxmlformats.org/drawingml/2006/table">
            <a:tbl>
              <a:tblPr/>
              <a:tblGrid>
                <a:gridCol w="1703160"/>
                <a:gridCol w="1746360"/>
                <a:gridCol w="1079640"/>
                <a:gridCol w="1554120"/>
                <a:gridCol w="1117440"/>
                <a:gridCol w="1117800"/>
              </a:tblGrid>
              <a:tr h="420840"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  <a:ea typeface="Calibri"/>
              </a:rPr>
              <a:t>Показатели  исследования  и частоты пульса     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рвая нед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4292640"/>
          <a:ext cx="8425080" cy="2457360"/>
        </p:xfrm>
        <a:graphic>
          <a:graphicData uri="http://schemas.openxmlformats.org/drawingml/2006/table">
            <a:tbl>
              <a:tblPr/>
              <a:tblGrid>
                <a:gridCol w="1727280"/>
                <a:gridCol w="1768680"/>
                <a:gridCol w="1091880"/>
                <a:gridCol w="1575000"/>
                <a:gridCol w="1130400"/>
                <a:gridCol w="11318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после уро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Содержимое 6" descr="AirBrush_20161115190100.jpg"/>
          <p:cNvPicPr/>
          <p:nvPr/>
        </p:nvPicPr>
        <p:blipFill>
          <a:blip r:embed="rId1"/>
          <a:stretch/>
        </p:blipFill>
        <p:spPr>
          <a:xfrm>
            <a:off x="706320" y="1905120"/>
            <a:ext cx="354024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7" descr="AirBrush_20161115190254.jpg"/>
          <p:cNvPicPr/>
          <p:nvPr/>
        </p:nvPicPr>
        <p:blipFill>
          <a:blip r:embed="rId2"/>
          <a:stretch/>
        </p:blipFill>
        <p:spPr>
          <a:xfrm>
            <a:off x="5011560" y="1905120"/>
            <a:ext cx="331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Содержимое 6" descr="AirBrush_20161115190215.jpg"/>
          <p:cNvPicPr/>
          <p:nvPr/>
        </p:nvPicPr>
        <p:blipFill>
          <a:blip r:embed="rId1"/>
          <a:stretch/>
        </p:blipFill>
        <p:spPr>
          <a:xfrm>
            <a:off x="395280" y="1989000"/>
            <a:ext cx="3968640" cy="280836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7" descr="AirBrush_20161115190336.jpg"/>
          <p:cNvPicPr/>
          <p:nvPr/>
        </p:nvPicPr>
        <p:blipFill>
          <a:blip r:embed="rId2"/>
          <a:stretch/>
        </p:blipFill>
        <p:spPr>
          <a:xfrm>
            <a:off x="4648320" y="2282760"/>
            <a:ext cx="4038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изучение  влияния кислорода на учащихся  2 «Г» класса в  помещениях Иволгинской школы  на их самочувстви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imes New Roman"/>
                <a:ea typeface="Calibri"/>
              </a:rPr>
              <a:t>Показатели  исследования  и частоты пульса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ВТОРАЯ НЕД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05120"/>
          <a:ext cx="8507520" cy="4546440"/>
        </p:xfrm>
        <a:graphic>
          <a:graphicData uri="http://schemas.openxmlformats.org/drawingml/2006/table">
            <a:tbl>
              <a:tblPr/>
              <a:tblGrid>
                <a:gridCol w="1743120"/>
                <a:gridCol w="1787400"/>
                <a:gridCol w="1103400"/>
                <a:gridCol w="1585800"/>
                <a:gridCol w="1146240"/>
                <a:gridCol w="1141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до уро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после уро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Уровень насыщения крови кислородом учащихся во время учебного процесса  Иволгинской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428760" y="2143080"/>
          <a:ext cx="80308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43080"/>
                    <a:ext cx="80308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астота пульс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чащихся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2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Г Иволгинской школы во врем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чебного процесс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астота  пульса незначительно меняется в процессе учебного процесса, данные показатели в пределах нормы, частота пульса у детей 8-10 лет составляет 68-108 ударов в минуту.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539640" y="4221000"/>
          <a:ext cx="8372520" cy="24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221000"/>
                    <a:ext cx="83725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ывод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Содержание кислорода в воздухе помещений сказывается  на  самочувствии  и работоспособности 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Обязательно надо на переменах проветривать кабинеты, чтобы наполнить свежим кислородом поме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Надо разводить комнатные растения, которые вырабатывают чистый кислор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Надо почаще выходить на улицу и просто подышать свежим воздух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Tahoma"/>
              </a:rPr>
              <a:t>Мое кредо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ahoma"/>
              </a:rPr>
              <a:t>В здоровом тел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ahoma"/>
              </a:rPr>
              <a:t>-здоровый дух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1844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0" lang="ru-RU" sz="4800" spc="-1" strike="noStrike">
                <a:solidFill>
                  <a:srgbClr val="7030a0"/>
                </a:solidFill>
                <a:latin typeface="Tahoma"/>
              </a:rPr>
              <a:t>Благодарю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бъектом исследования является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кислор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едметом исследования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влияние кислорода  на организм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Рассмотреть процесс дыхания у челове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Рассмотреть последствия нехватки кислорода для организма челове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Составить анкету и провести анкетирование одноклассников по изменению самочувствия в течение учебного д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Измерить насыщения крови кислородом, измерить частоту пульса учащихся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мы можем прожи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              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без пищи около меся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              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без воды – около 7 дн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без кислорода  - всего три минут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и человек умира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Характеристика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341360"/>
            <a:ext cx="576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Когда появляемся на свет, первое, что мы делаем,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это вдох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Жизнь человека полностью зависит от дыхания, от воздух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Дыхание- такая же функция нашего организма, как кровообращение или пищевар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Кислород- самый важный химический элемент в теле человека. Его главная функция состоит в питании и очищении кле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372360" y="1928880"/>
            <a:ext cx="2520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следствия нехватки кислорода для организма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головные бо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снижение работоспособ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ухудшение памяти и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сон становится прерывистым, беспокой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появляется дневная сонлив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увеличивается риск заболеваний с нарушением давления, нарушений ритма серд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иро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Как вы считаете, в кабинетах школы душно:     Да             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Нужно ли проветривать кабинеты на переменах?     Да         Нет        Не в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Бывает ли у вас плохое самочувствие в конце учебного дня:     головные боли, сонливость?       Да      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. Где вам комфортнее занимать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В кабинете, где есть комнатные рас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В кабинете, где нет комнатных растени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5. Вам более комфортно если в кабине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Прохлад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Теп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Жар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Холод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6:39:46Z</dcterms:created>
  <dc:creator>Customer</dc:creator>
  <dc:description/>
  <dc:language>en-US</dc:language>
  <cp:lastModifiedBy>Дарима Эмдэйн</cp:lastModifiedBy>
  <dcterms:modified xsi:type="dcterms:W3CDTF">2019-12-07T13:07:02Z</dcterms:modified>
  <cp:revision>56</cp:revision>
  <dc:subject/>
  <dc:title>Dkbzybt jkgjkj </dc:title>
</cp:coreProperties>
</file>