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BDD-F490-47F4-9359-3BB32A2B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A2F-D84E-4C70-97C2-9742BFE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AC4-3B4B-4709-A527-4E1BE158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6F3-2D14-438F-BC4E-009F5FF2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95B-3D7F-4A9C-892F-BBA0F1B5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DA-CA0F-4C26-B6D2-1C7C44E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D23-DADC-4D22-8D35-E04E29DB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ABA-DA9F-4CAE-BA92-A00070E0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77D-918A-4DF7-A83D-FB7079FC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251-E866-4719-AF6F-274C590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4F0-74B2-41A7-9D3A-DFCB0A5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5A0-63AE-40BC-B701-5BBCACF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D0C-3333-47A6-8C1E-B346CD774DDF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CFE-76A6-4EDF-BC7A-45CB56DA21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560" y="2666520"/>
            <a:ext cx="870588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роектная работа: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«Петуния – царица сада»</a:t>
            </a:r>
            <a:br>
              <a:rPr sz="4800"/>
            </a:br>
            <a:br>
              <a:rPr sz="4800"/>
            </a:b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Выполнил: Тугушев Амир Жамилевич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ученик 1Б класс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Овал 11"/>
          <p:cNvGrpSpPr/>
          <p:nvPr/>
        </p:nvGrpSpPr>
        <p:grpSpPr>
          <a:xfrm>
            <a:off x="3822840" y="573120"/>
            <a:ext cx="901440" cy="907920"/>
            <a:chOff x="3822840" y="573120"/>
            <a:chExt cx="901440" cy="907920"/>
          </a:xfrm>
        </p:grpSpPr>
        <p:pic>
          <p:nvPicPr>
            <p:cNvPr id="51" name="Овал 11" descr=""/>
            <p:cNvPicPr/>
            <p:nvPr/>
          </p:nvPicPr>
          <p:blipFill>
            <a:blip r:embed="rId1"/>
            <a:stretch/>
          </p:blipFill>
          <p:spPr>
            <a:xfrm>
              <a:off x="3822840" y="573120"/>
              <a:ext cx="901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Овал 20"/>
          <p:cNvGrpSpPr/>
          <p:nvPr/>
        </p:nvGrpSpPr>
        <p:grpSpPr>
          <a:xfrm>
            <a:off x="1103400" y="927000"/>
            <a:ext cx="901440" cy="908280"/>
            <a:chOff x="1103400" y="927000"/>
            <a:chExt cx="901440" cy="908280"/>
          </a:xfrm>
        </p:grpSpPr>
        <p:pic>
          <p:nvPicPr>
            <p:cNvPr id="62" name="Овал 20" descr=""/>
            <p:cNvPicPr/>
            <p:nvPr/>
          </p:nvPicPr>
          <p:blipFill>
            <a:blip r:embed="rId2"/>
            <a:stretch/>
          </p:blipFill>
          <p:spPr>
            <a:xfrm>
              <a:off x="1103400" y="927000"/>
              <a:ext cx="9014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Овал 29"/>
          <p:cNvGrpSpPr/>
          <p:nvPr/>
        </p:nvGrpSpPr>
        <p:grpSpPr>
          <a:xfrm>
            <a:off x="7796160" y="1536840"/>
            <a:ext cx="903240" cy="907920"/>
            <a:chOff x="7796160" y="1536840"/>
            <a:chExt cx="903240" cy="907920"/>
          </a:xfrm>
        </p:grpSpPr>
        <p:pic>
          <p:nvPicPr>
            <p:cNvPr id="73" name="Овал 29" descr=""/>
            <p:cNvPicPr/>
            <p:nvPr/>
          </p:nvPicPr>
          <p:blipFill>
            <a:blip r:embed="rId3"/>
            <a:stretch/>
          </p:blipFill>
          <p:spPr>
            <a:xfrm>
              <a:off x="7796160" y="1536840"/>
              <a:ext cx="9032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Овал 83"/>
          <p:cNvGrpSpPr/>
          <p:nvPr/>
        </p:nvGrpSpPr>
        <p:grpSpPr>
          <a:xfrm>
            <a:off x="6010200" y="603360"/>
            <a:ext cx="903240" cy="907920"/>
            <a:chOff x="6010200" y="603360"/>
            <a:chExt cx="903240" cy="907920"/>
          </a:xfrm>
        </p:grpSpPr>
        <p:pic>
          <p:nvPicPr>
            <p:cNvPr id="129" name="Овал 83" descr=""/>
            <p:cNvPicPr/>
            <p:nvPr/>
          </p:nvPicPr>
          <p:blipFill>
            <a:blip r:embed="rId4"/>
            <a:stretch/>
          </p:blipFill>
          <p:spPr>
            <a:xfrm>
              <a:off x="6010200" y="603360"/>
              <a:ext cx="9032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Овал 93"/>
          <p:cNvGrpSpPr/>
          <p:nvPr/>
        </p:nvGrpSpPr>
        <p:grpSpPr>
          <a:xfrm>
            <a:off x="225360" y="2322360"/>
            <a:ext cx="901800" cy="908280"/>
            <a:chOff x="225360" y="2322360"/>
            <a:chExt cx="901800" cy="908280"/>
          </a:xfrm>
        </p:grpSpPr>
        <p:pic>
          <p:nvPicPr>
            <p:cNvPr id="141" name="Овал 93" descr=""/>
            <p:cNvPicPr/>
            <p:nvPr/>
          </p:nvPicPr>
          <p:blipFill>
            <a:blip r:embed="rId5"/>
            <a:stretch/>
          </p:blipFill>
          <p:spPr>
            <a:xfrm>
              <a:off x="225360" y="2322360"/>
              <a:ext cx="9018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Овал 122"/>
          <p:cNvGrpSpPr/>
          <p:nvPr/>
        </p:nvGrpSpPr>
        <p:grpSpPr>
          <a:xfrm>
            <a:off x="2511360" y="390600"/>
            <a:ext cx="542880" cy="554040"/>
            <a:chOff x="2511360" y="390600"/>
            <a:chExt cx="542880" cy="554040"/>
          </a:xfrm>
        </p:grpSpPr>
        <p:pic>
          <p:nvPicPr>
            <p:cNvPr id="17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0600"/>
              <a:ext cx="542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Овал 123"/>
          <p:cNvGrpSpPr/>
          <p:nvPr/>
        </p:nvGrpSpPr>
        <p:grpSpPr>
          <a:xfrm>
            <a:off x="5084640" y="1249200"/>
            <a:ext cx="541440" cy="549360"/>
            <a:chOff x="5084640" y="1249200"/>
            <a:chExt cx="541440" cy="549360"/>
          </a:xfrm>
        </p:grpSpPr>
        <p:pic>
          <p:nvPicPr>
            <p:cNvPr id="17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49200"/>
              <a:ext cx="541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Овал 124"/>
          <p:cNvGrpSpPr/>
          <p:nvPr/>
        </p:nvGrpSpPr>
        <p:grpSpPr>
          <a:xfrm>
            <a:off x="152280" y="1249200"/>
            <a:ext cx="542880" cy="549360"/>
            <a:chOff x="152280" y="1249200"/>
            <a:chExt cx="542880" cy="549360"/>
          </a:xfrm>
        </p:grpSpPr>
        <p:pic>
          <p:nvPicPr>
            <p:cNvPr id="17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428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Овал 125"/>
          <p:cNvGrpSpPr/>
          <p:nvPr/>
        </p:nvGrpSpPr>
        <p:grpSpPr>
          <a:xfrm>
            <a:off x="8510760" y="390600"/>
            <a:ext cx="547560" cy="554040"/>
            <a:chOff x="8510760" y="390600"/>
            <a:chExt cx="547560" cy="554040"/>
          </a:xfrm>
        </p:grpSpPr>
        <p:pic>
          <p:nvPicPr>
            <p:cNvPr id="18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47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Овал 126"/>
          <p:cNvGrpSpPr/>
          <p:nvPr/>
        </p:nvGrpSpPr>
        <p:grpSpPr>
          <a:xfrm>
            <a:off x="7156440" y="1036800"/>
            <a:ext cx="542880" cy="547560"/>
            <a:chOff x="7156440" y="1036800"/>
            <a:chExt cx="542880" cy="547560"/>
          </a:xfrm>
        </p:grpSpPr>
        <p:pic>
          <p:nvPicPr>
            <p:cNvPr id="18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428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Овал 127"/>
          <p:cNvGrpSpPr/>
          <p:nvPr/>
        </p:nvGrpSpPr>
        <p:grpSpPr>
          <a:xfrm>
            <a:off x="3651120" y="1749600"/>
            <a:ext cx="549360" cy="549000"/>
            <a:chOff x="3651120" y="1749600"/>
            <a:chExt cx="549360" cy="549000"/>
          </a:xfrm>
        </p:grpSpPr>
        <p:pic>
          <p:nvPicPr>
            <p:cNvPr id="18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5424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 меня получилось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635E-0752-4934-A2ED-9A22F9F6BC15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B0E-F8E5-459F-8F3F-83A08AB17D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Helvetica Neue"/>
              </a:rPr>
              <a:t>Достигнут конечный результат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727b0"/>
                </a:solidFill>
                <a:latin typeface="Helvetica Neue"/>
              </a:rPr>
              <a:t>2. Это занятие укрепило мое здоровь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4040"/>
                </a:solidFill>
                <a:latin typeface="Helvetica Neue"/>
              </a:rPr>
              <a:t>3. Я получил огромное удовольствие от самой работ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ажность исследовательской работы для ме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Теперь я знаю  как посадить и правильно ухаживать за петуниям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Я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убедился в том, что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ЕСЛИ ПОСТАРАТЬСЯ - ВСЁ ВСЕГДА ПОЛУЧА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BBC8-BB02-48A7-893B-856E6A0028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EFE-F7B7-4835-B523-BB37C8394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560" y="0"/>
            <a:ext cx="853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Цветы, как люди, на добро щедры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И щедро нежность людям отдавая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Они цветут, сердца отогревая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Как маленькие тёплые костр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974E-77C2-4467-842B-16A7829BC251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A5E9-C6BD-4B22-BE4A-2FA860AD36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лан работы над проектом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552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Найти источники знаний для ответа на проблемный вопрос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Собрать информацию о растениях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Узнать способы ухода за  растением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Определить способы размножения растений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Times New Roman"/>
              </a:rPr>
              <a:t>Выяснить значение  растений для нас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начиналось как-то та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A964-A9FE-4830-AAFE-9B8E63BAA57C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9544-98A2-42DE-B087-5B59860779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F:\DCIM\100NIKON\DSCN0781.JPG"/>
          <p:cNvPicPr/>
          <p:nvPr/>
        </p:nvPicPr>
        <p:blipFill>
          <a:blip r:embed="rId1"/>
          <a:stretch/>
        </p:blipFill>
        <p:spPr>
          <a:xfrm>
            <a:off x="1714680" y="1428840"/>
            <a:ext cx="5295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то любят мои раст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ССЕЯННЫЙ СОЛНЕЧНЫЙ СВЕТ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mic Sans MS"/>
              </a:rPr>
              <a:t>УМЕРЕННУЮ ТЕМПЕРАТУРУ ВОЗДУХА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ПОЛИВ С ВЕСНЫ ДО ОСЕНИ ДВА РАЗА В НЕДЕЛЮ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ЧАСТОЕ ОПРЫСКИВАНИЕ ЛИСТЬЕ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РЫХЛЕНИЕ ВЕРХНЕГО СЛОЯ ПОЧВ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A5DE-3F58-4186-A6AB-640376DB7FF8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5FDF-7B51-4931-BF24-153B6C8922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ледующий эта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D53A-FA8A-4D79-89B4-396EED1FF890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975-3614-4873-8A79-A76F1FC1D8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F:\DCIM\100NIKON\DSCN0783.JPG"/>
          <p:cNvPicPr/>
          <p:nvPr/>
        </p:nvPicPr>
        <p:blipFill>
          <a:blip r:embed="rId1"/>
          <a:stretch/>
        </p:blipFill>
        <p:spPr>
          <a:xfrm>
            <a:off x="1214280" y="1428840"/>
            <a:ext cx="5796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1A8-59C5-40C6-BEC7-24304F344F51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7B5-AD2F-4076-B6F1-720708AEB3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F:\DCIM\100NIKON\DSCN0784.JPG"/>
          <p:cNvPicPr/>
          <p:nvPr/>
        </p:nvPicPr>
        <p:blipFill>
          <a:blip r:embed="rId1"/>
          <a:stretch/>
        </p:blipFill>
        <p:spPr>
          <a:xfrm>
            <a:off x="857160" y="285840"/>
            <a:ext cx="6643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406-D3BD-4ADE-8B69-9B1CFB559689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214C-694D-4D3B-B35C-AA5E0254A1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C:\Users\Рушания\Desktop\kak-virastit-rassadu-petunii-4.jpg"/>
          <p:cNvPicPr/>
          <p:nvPr/>
        </p:nvPicPr>
        <p:blipFill>
          <a:blip r:embed="rId1"/>
          <a:stretch/>
        </p:blipFill>
        <p:spPr>
          <a:xfrm>
            <a:off x="142920" y="357120"/>
            <a:ext cx="850104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279-9A34-4563-8938-9C34E4555AB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164-A6C7-48EE-B53F-FB299CDAA3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C:\Users\Рушания\Desktop\1e87b9.jpg"/>
          <p:cNvPicPr/>
          <p:nvPr/>
        </p:nvPicPr>
        <p:blipFill>
          <a:blip r:embed="rId1"/>
          <a:stretch/>
        </p:blipFill>
        <p:spPr>
          <a:xfrm>
            <a:off x="1214280" y="285840"/>
            <a:ext cx="73584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alibri"/>
              </a:rPr>
              <a:t>Результат раб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ab74d5"/>
                </a:solidFill>
                <a:latin typeface="Calibri"/>
              </a:rPr>
              <a:t>Я научилс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Helvetica Neue"/>
              </a:rPr>
              <a:t>Правильно сеять семена, наблюдать за ростом и развитием петун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7f7f00"/>
                </a:solidFill>
                <a:latin typeface="Helvetica Neue"/>
              </a:rPr>
              <a:t>2. Выращивать здоровую и крепкую рассаду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Helvetica Neue"/>
              </a:rPr>
              <a:t>3. Находить нужную информацию в справочниках, энциклопедиях, словарях, журнала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924A-BE57-4EEC-B930-6F2A0CCDB706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F6AD-6D4C-421E-BB10-3154B12A5C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4:39:45Z</dcterms:created>
  <dc:creator>Пользователь</dc:creator>
  <dc:description/>
  <dc:language>en-US</dc:language>
  <cp:lastModifiedBy>Рушания</cp:lastModifiedBy>
  <dcterms:modified xsi:type="dcterms:W3CDTF">2016-03-13T14:38:57Z</dcterms:modified>
  <cp:revision>98</cp:revision>
  <dc:subject/>
  <dc:title>Комнатные растения –  наши друзья</dc:title>
</cp:coreProperties>
</file>