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00A-A128-4548-85F5-9D1BF4FB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6E3-A26A-4728-8E80-4CEAC1F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8F9-DFA5-4185-AE2C-4F36AED3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F84-911C-45C7-B896-079D160D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C7F-CEE3-4899-A761-8E5A42B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1DA-1AAB-4D8B-A778-8866254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992-A31A-49CB-BF1A-F51466A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216-1EED-4339-A860-FECB791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CFC-17D4-4962-BE4C-0199E1D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FBD-E5DD-4CA0-B178-4FCD657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5A3-455B-48BC-A931-5FD73C3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0E7-4644-40C1-B7AC-86ED3CA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2D7-DA08-4D54-980B-BFF52CCCB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hyperlink" Target="http://images.absoluteastronomy.com/images/topicimages/s/sh/shabestan.gif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372600" cy="702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2187720" y="228240"/>
            <a:ext cx="57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образования администрации г. Лесосиби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Основная школа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01840" y="3047400"/>
            <a:ext cx="30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2140200"/>
            <a:ext cx="99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Атрибуты мусульманской архитек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ечети «Иман» г.Лесосибирс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53760" y="3827880"/>
            <a:ext cx="687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щиеся 8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ы № 5 г. Лесосибирс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ктимирова Ру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афонова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 изобразительного искусств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В.Назмутди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126600" y="62478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ЛЕСОСИБИРСК , 2010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0"/>
          <a:ext cx="937260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0" y="0"/>
          <a:ext cx="9369360" cy="702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693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066680" y="456120"/>
            <a:ext cx="7162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сульманские атрибуты в архитектуре мечетей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3520" y="1443960"/>
            <a:ext cx="71625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храб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арку в стене, к которой молящийся должен быть обращен лиц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Шабестан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одним из основных компонентов мечети, в котором правоверные собираются и совершают нама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бар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скамью, возвышающуюся над уровнем пола благодаря лесенке с перилами и декоративным порталом или дверцей, которая спускается от него в молитвенный з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185861779&amp;tov=0"/>
          <p:cNvPicPr/>
          <p:nvPr/>
        </p:nvPicPr>
        <p:blipFill>
          <a:blip r:embed="rId3"/>
          <a:stretch/>
        </p:blipFill>
        <p:spPr>
          <a:xfrm>
            <a:off x="7772400" y="685800"/>
            <a:ext cx="150192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8 из 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2971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?id=132673579&amp;tov=3"/>
          <p:cNvPicPr/>
          <p:nvPr/>
        </p:nvPicPr>
        <p:blipFill>
          <a:blip r:embed="rId6"/>
          <a:stretch/>
        </p:blipFill>
        <p:spPr>
          <a:xfrm>
            <a:off x="7721640" y="472428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4"/>
          <p:cNvSpPr/>
          <p:nvPr/>
        </p:nvSpPr>
        <p:spPr>
          <a:xfrm>
            <a:off x="838080" y="106668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Минарет- представляет собой высокую колонну, подобную башне. Он используется для произнесения азана с целью призвать верующих к совершению нам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Куп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изирует беспредельное и нескончаемое небо, отождествляя связь с высшим духовным ми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?id=142645395&amp;tov=0"/>
          <p:cNvPicPr/>
          <p:nvPr/>
        </p:nvPicPr>
        <p:blipFill>
          <a:blip r:embed="rId3"/>
          <a:stretch/>
        </p:blipFill>
        <p:spPr>
          <a:xfrm>
            <a:off x="7772400" y="457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19957039&amp;tov=0"/>
          <p:cNvPicPr/>
          <p:nvPr/>
        </p:nvPicPr>
        <p:blipFill>
          <a:blip r:embed="rId4"/>
          <a:stretch/>
        </p:blipFill>
        <p:spPr>
          <a:xfrm>
            <a:off x="7543800" y="3657600"/>
            <a:ext cx="174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3"/>
          <p:cNvSpPr/>
          <p:nvPr/>
        </p:nvSpPr>
        <p:spPr>
          <a:xfrm>
            <a:off x="838080" y="304920"/>
            <a:ext cx="81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 архитектурных атриб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ети «Иман» г. Лесосиби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1010014"/>
          <p:cNvPicPr/>
          <p:nvPr/>
        </p:nvPicPr>
        <p:blipFill>
          <a:blip r:embed="rId3"/>
          <a:stretch/>
        </p:blipFill>
        <p:spPr>
          <a:xfrm>
            <a:off x="533520" y="1143000"/>
            <a:ext cx="83818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5"/>
          <p:cNvSpPr/>
          <p:nvPr/>
        </p:nvSpPr>
        <p:spPr>
          <a:xfrm>
            <a:off x="1873080" y="1143000"/>
            <a:ext cx="727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основании проведенного исследования, можно сделать вывод, ч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четь «Иман» г.Лесосибирска соответствует атрибутам мусульманской архите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им образом, выдвигаемая нами гипотеза, подтверд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ем Абрамов</cp:lastModifiedBy>
  <dcterms:modified xsi:type="dcterms:W3CDTF">2019-12-08T14:4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220000000000010282310207f7000400038000</vt:lpwstr>
  </property>
  <property fmtid="{D5CDD505-2E9C-101B-9397-08002B2CF9AE}" pid="3" name="Version">
    <vt:r8>1</vt:r8>
  </property>
</Properties>
</file>