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FDE-55CE-4249-B4DC-B5706EB3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CC8-644A-48CA-8381-BB6CFEB7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339-D1E1-41A0-8BF1-F25CEF43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CF5-A449-4EE1-BEE8-F5C31AFA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FD6-64B4-478A-B69E-C39C954A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BA6-34F2-4D19-9B6E-FA2977C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E06-BE1F-4718-9F05-A98230DE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99E-473A-4C91-B20D-C2BFA240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1EB-3CE5-4534-BE56-B249444E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6B1-FDB1-4ED2-BACA-51105B63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CBE-E0AE-4255-AF0C-5A6D1791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559-E3DC-46DA-BA04-737C8AC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4028-7421-4F37-9FF4-9ED6270B2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hyperlink" Target="http://images.absoluteastronomy.com/images/topicimages/s/sh/shabestan.gif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372600" cy="7029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4"/>
          <p:cNvSpPr/>
          <p:nvPr/>
        </p:nvSpPr>
        <p:spPr>
          <a:xfrm>
            <a:off x="2187720" y="228240"/>
            <a:ext cx="57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 образования администрации г. Лесосиби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Основная школа 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201840" y="3047400"/>
            <a:ext cx="30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2140200"/>
            <a:ext cx="99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Атрибуты мусульманской архитек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мечети «Иман» г.Лесосибирск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53760" y="3827880"/>
            <a:ext cx="6870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ащиеся 8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ы № 5 г. Лесосибирс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ктимирова Руз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афонова Анаста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 изобразительного искусства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В.Назмутди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126600" y="624780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ЛЕСОСИБИРСК , 2010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0"/>
          <a:ext cx="937260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0" y="0"/>
          <a:ext cx="9369360" cy="7026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6936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0" y="0"/>
          <a:ext cx="937116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116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3"/>
          <p:cNvSpPr/>
          <p:nvPr/>
        </p:nvSpPr>
        <p:spPr>
          <a:xfrm>
            <a:off x="1066680" y="456120"/>
            <a:ext cx="7162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сульманские атрибуты в архитектуре мечетей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33520" y="1443960"/>
            <a:ext cx="71625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храб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арку в стене, к которой молящийся должен быть обращен лиц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Шабестан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ется одним из основных компонентов мечети, в котором правоверные собираются и совершают нама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бар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скамью, возвышающуюся над уровнем пола благодаря лесенке с перилами и декоративным порталом или дверцей, которая спускается от него в молитвенный за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?id=185861779&amp;tov=0"/>
          <p:cNvPicPr/>
          <p:nvPr/>
        </p:nvPicPr>
        <p:blipFill>
          <a:blip r:embed="rId3"/>
          <a:stretch/>
        </p:blipFill>
        <p:spPr>
          <a:xfrm>
            <a:off x="7772400" y="685800"/>
            <a:ext cx="150192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Картинка 8 из 1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10280" y="2971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i?id=132673579&amp;tov=3"/>
          <p:cNvPicPr/>
          <p:nvPr/>
        </p:nvPicPr>
        <p:blipFill>
          <a:blip r:embed="rId6"/>
          <a:stretch/>
        </p:blipFill>
        <p:spPr>
          <a:xfrm>
            <a:off x="7721640" y="472428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37116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116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4"/>
          <p:cNvSpPr/>
          <p:nvPr/>
        </p:nvSpPr>
        <p:spPr>
          <a:xfrm>
            <a:off x="838080" y="1066680"/>
            <a:ext cx="7315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Минарет- представляет собой высокую колонну, подобную башне. Он используется для произнесения азана с целью призвать верующих к совершению нам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 Куп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волизирует беспредельное и нескончаемое небо, отождествляя связь с высшим духовным ми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i?id=142645395&amp;tov=0"/>
          <p:cNvPicPr/>
          <p:nvPr/>
        </p:nvPicPr>
        <p:blipFill>
          <a:blip r:embed="rId3"/>
          <a:stretch/>
        </p:blipFill>
        <p:spPr>
          <a:xfrm>
            <a:off x="7772400" y="4572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?id=19957039&amp;tov=0"/>
          <p:cNvPicPr/>
          <p:nvPr/>
        </p:nvPicPr>
        <p:blipFill>
          <a:blip r:embed="rId4"/>
          <a:stretch/>
        </p:blipFill>
        <p:spPr>
          <a:xfrm>
            <a:off x="7543800" y="3657600"/>
            <a:ext cx="174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0" y="0"/>
          <a:ext cx="937116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116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Rectangle 13"/>
          <p:cNvSpPr/>
          <p:nvPr/>
        </p:nvSpPr>
        <p:spPr>
          <a:xfrm>
            <a:off x="838080" y="304920"/>
            <a:ext cx="81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внительный анализ архитектурных атрибу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чети «Иман» г. Лесосиби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1010014"/>
          <p:cNvPicPr/>
          <p:nvPr/>
        </p:nvPicPr>
        <p:blipFill>
          <a:blip r:embed="rId3"/>
          <a:stretch/>
        </p:blipFill>
        <p:spPr>
          <a:xfrm>
            <a:off x="533520" y="1143000"/>
            <a:ext cx="83818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0"/>
          <a:ext cx="9371160" cy="7027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1160" cy="70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5"/>
          <p:cNvSpPr/>
          <p:nvPr/>
        </p:nvSpPr>
        <p:spPr>
          <a:xfrm>
            <a:off x="1873080" y="1143000"/>
            <a:ext cx="727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основании проведенного исследования, можно сделать вывод, чт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четь «Иман» г.Лесосибирска соответствует атрибутам мусульманской архите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им образом, выдвигаемая нами гипотеза, подтверди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ем Абрамов</cp:lastModifiedBy>
  <dcterms:modified xsi:type="dcterms:W3CDTF">2019-12-08T14:41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220000000000010282310207f7000400038000</vt:lpwstr>
  </property>
  <property fmtid="{D5CDD505-2E9C-101B-9397-08002B2CF9AE}" pid="3" name="Version">
    <vt:r8>1</vt:r8>
  </property>
</Properties>
</file>