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13.wmf" ContentType="image/x-wmf"/>
  <Override PartName="/ppt/media/image9.png" ContentType="image/png"/>
  <Override PartName="/ppt/media/image8.png" ContentType="image/png"/>
  <Override PartName="/ppt/media/image14.jpeg" ContentType="image/jpeg"/>
  <Override PartName="/ppt/media/image16.wmf" ContentType="image/x-wmf"/>
  <Override PartName="/ppt/media/image12.png" ContentType="image/png"/>
  <Override PartName="/ppt/media/image7.png" ContentType="image/png"/>
  <Override PartName="/ppt/media/image1.jpeg" ContentType="image/jpeg"/>
  <Override PartName="/ppt/media/image22.wmf" ContentType="image/x-wmf"/>
  <Override PartName="/ppt/media/image5.wmf" ContentType="image/x-wmf"/>
  <Override PartName="/ppt/media/image6.png" ContentType="image/png"/>
  <Override PartName="/ppt/media/image11.png" ContentType="image/png"/>
  <Override PartName="/ppt/media/image21.wmf" ContentType="image/x-wmf"/>
  <Override PartName="/ppt/media/image4.wmf" ContentType="image/x-wmf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2EEBC-73BC-4FC2-AC78-4AB3A949BBA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636F8-CD77-47D0-A2E5-3D6459C99DEE}" type="slidenum">
              <a:rPr b="0" lang="ru-RU" sz="12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Arial"/>
              </a:rPr>
              <a:t>принцип двигательной активности;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Arial"/>
              </a:rPr>
              <a:t>принцип оздоровительного режима;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Arial"/>
              </a:rPr>
              <a:t>принцип формирования правильной осанки и навыков рационального дыхания;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Arial"/>
              </a:rPr>
              <a:t>принцип реализации эффективного закаливания;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Arial"/>
              </a:rPr>
              <a:t>принцип психологической комфортности;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Arial"/>
              </a:rPr>
              <a:t>принцип опоры на индивидуальные особенности и способности ребёнка (учёт ведущего темперамента);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Arial"/>
              </a:rPr>
              <a:t>принцип двигательной активности;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Arial"/>
              </a:rPr>
              <a:t>принцип оздоровительного режима;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Arial"/>
              </a:rPr>
              <a:t>принцип формирования правильной осанки и навыков рационального дыхания;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Arial"/>
              </a:rPr>
              <a:t>принцип реализации эффективного закаливания;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Arial"/>
              </a:rPr>
              <a:t>принцип психологической комфортности;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Arial"/>
              </a:rPr>
              <a:t>принцип опоры на индивидуальные особенности и способности ребёнка (учёт ведущего темперамента);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Arial"/>
              </a:rPr>
              <a:t>принцип двигательной активности;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Arial"/>
              </a:rPr>
              <a:t>принцип оздоровительного режима;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Arial"/>
              </a:rPr>
              <a:t>принцип формирования правильной осанки и навыков рационального дыхания;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Arial"/>
              </a:rPr>
              <a:t>принцип реализации эффективного закаливания;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Arial"/>
              </a:rPr>
              <a:t>принцип психологической комфортности;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Arial"/>
              </a:rPr>
              <a:t>принцип опоры на индивидуальные особенности и способности ребёнка (учёт ведущего темперамента);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Arial"/>
              </a:rPr>
              <a:t>принцип двигательной активности;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Arial"/>
              </a:rPr>
              <a:t>принцип оздоровительного режима;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Arial"/>
              </a:rPr>
              <a:t>принцип формирования правильной осанки и навыков рационального дыхания;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Arial"/>
              </a:rPr>
              <a:t>принцип реализации эффективного закаливания;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Arial"/>
              </a:rPr>
              <a:t>принцип психологической комфортности;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Arial"/>
              </a:rPr>
              <a:t>принцип опоры на индивидуальные особенности и способности ребёнка (учёт ведущего темперамента);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2F1C9-7FBD-4819-B317-81FB00057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AE788-90CA-4F1A-9C2C-7F832000E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F6519-6A8A-496B-995B-31F4F3DE0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5A6F4-5D8F-4085-8824-5AF47757D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19208-8C33-4E94-9A32-C9BA7593B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FF9D1-2668-4D19-9E84-A84D81576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63CAE-430D-4FAB-9C7B-D9D173293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07E41-4369-48A7-855F-D486C0C09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AFB8A-2A6E-4A05-874F-0DAC54D62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3FCF4-765D-425F-98B5-FDFB342F5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47DA1-B852-4CAF-90FA-23DDD1849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D9325-8008-468F-87D9-CE16F1B2E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063F3-ACE6-4F62-B3A2-D64B3FD13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D0DDD-FCF6-44F8-BC3D-6BED3CD36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4773D-54CA-4448-8EB2-EFC2BCDC3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426E8-C221-499A-876F-D7FADEC3F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BADD5-C06C-404E-9EBA-62B0B8710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12F23-70BC-41C7-9BB0-EE0CEFA39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98AD2-6430-469E-AD55-1EA4BA96A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CC172-BFF0-4EC2-9841-A56707AF1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DA220-A5F9-4A6A-851C-D0290CF44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5781F-F78C-496B-9E77-F8C3BE526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5A649-A6DF-4EFE-A351-5B2BD8D11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5472F-4153-40F8-A70B-998D55B74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812F6-B3A1-4F50-999C-EE6F511E8D9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9EE3B-0EB7-441E-B55F-A163A5329FBC}" type="slidenum">
              <a:rPr b="0" lang="ru-RU" sz="1400" spc="-1" strike="noStrike">
                <a:solidFill>
                  <a:srgbClr val="00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-360" y="188640"/>
            <a:ext cx="8893080" cy="136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«Учитель не тот, кто учит, а тот, у кого учатся.»</a:t>
            </a:r>
            <a:br>
              <a:rPr sz="5200"/>
            </a:b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1692360" y="5084640"/>
            <a:ext cx="6146640" cy="14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99"/>
                </a:solidFill>
                <a:latin typeface="Verdana"/>
              </a:rPr>
              <a:t>Джанбекова Севиле Серверовна,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99"/>
                </a:solidFill>
                <a:latin typeface="Verdana"/>
              </a:rPr>
              <a:t>Учитель начальных классов муниципального бюджетного общеобразовательного учреждения «Черноморская средняя школа №3» муниципального образования Черноморский район Республики Крым  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6" name="Picture 7" descr="C:\Users\HOME\Desktop\фото 2 в\image (29).jpg"/>
          <p:cNvPicPr/>
          <p:nvPr/>
        </p:nvPicPr>
        <p:blipFill>
          <a:blip r:embed="rId1"/>
          <a:stretch/>
        </p:blipFill>
        <p:spPr>
          <a:xfrm>
            <a:off x="2938320" y="1035000"/>
            <a:ext cx="3016440" cy="40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т цвета бумаги изменяется даже число верных ответов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Verdana"/>
              </a:rPr>
              <a:t>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Verdana"/>
              </a:rPr>
              <a:t>Например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, на </a:t>
            </a:r>
            <a:r>
              <a:rPr b="0" lang="ru-RU" sz="3200" spc="-1" strike="noStrike">
                <a:solidFill>
                  <a:srgbClr val="339933"/>
                </a:solidFill>
                <a:latin typeface="Verdana"/>
              </a:rPr>
              <a:t>зелёной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бумаге число верных ответов было на 20% больше,  чем на белой,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а </a:t>
            </a:r>
            <a:r>
              <a:rPr b="0" lang="ru-RU" sz="3200" spc="-1" strike="noStrike">
                <a:solidFill>
                  <a:srgbClr val="ff0000"/>
                </a:solidFill>
                <a:latin typeface="Verdana"/>
              </a:rPr>
              <a:t>красной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, напротив, уменьшилось на 19%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97" name="Заголовок 1" descr=""/>
          <p:cNvPicPr/>
          <p:nvPr/>
        </p:nvPicPr>
        <p:blipFill>
          <a:blip r:embed="rId1"/>
          <a:stretch/>
        </p:blipFill>
        <p:spPr>
          <a:xfrm>
            <a:off x="768240" y="103320"/>
            <a:ext cx="7591680" cy="13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450720" y="148428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использование музыки как оформления фона занятий и сопровождения моментов урока.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музыка влияет на человека через ритм, которому подчинены все функции организма: ритмично бьется сердце, дышат легкие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99" name="Заголовок 1" descr=""/>
          <p:cNvPicPr/>
          <p:nvPr/>
        </p:nvPicPr>
        <p:blipFill>
          <a:blip r:embed="rId1"/>
          <a:stretch/>
        </p:blipFill>
        <p:spPr>
          <a:xfrm>
            <a:off x="457200" y="84240"/>
            <a:ext cx="8242200" cy="1158840"/>
          </a:xfrm>
          <a:prstGeom prst="rect">
            <a:avLst/>
          </a:prstGeom>
          <a:ln w="0">
            <a:noFill/>
          </a:ln>
        </p:spPr>
      </p:pic>
      <p:pic>
        <p:nvPicPr>
          <p:cNvPr id="200" name="Рисунок 2" descr=""/>
          <p:cNvPicPr/>
          <p:nvPr/>
        </p:nvPicPr>
        <p:blipFill>
          <a:blip r:embed="rId2"/>
          <a:stretch/>
        </p:blipFill>
        <p:spPr>
          <a:xfrm>
            <a:off x="1116000" y="3375000"/>
            <a:ext cx="6192720" cy="34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Тихая мелодичная музыка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обладает седативным (успокаивающего действия, способствующего развитию процессов торможения) действием и </a:t>
            </a: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нормализует функции сердечно-сосудистой системы.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Ритмичная музыка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ызывает повышение тонуса скелетной мускулатуры </a:t>
            </a: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оказывает благоприятное влияние на деятельность внутренних органов и систем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Мажорные мелодии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ридают человеку бодрость, </a:t>
            </a: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улучшают самочувствие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, психоэмоциональное состояние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02" name="Заголовок 1" descr=""/>
          <p:cNvPicPr/>
          <p:nvPr/>
        </p:nvPicPr>
        <p:blipFill>
          <a:blip r:embed="rId1"/>
          <a:stretch/>
        </p:blipFill>
        <p:spPr>
          <a:xfrm>
            <a:off x="1366920" y="103320"/>
            <a:ext cx="6396120" cy="13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Verdana"/>
              </a:rPr>
              <a:t>для наглядной пропаганды здорового образа жизни.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а это “дерево” заносятся имена и фамилии ни разу не болевших учеников за четверть. По итогам года самые здоровые ученики получают награду, поощрение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04" name="Заголовок 1" descr=""/>
          <p:cNvPicPr/>
          <p:nvPr/>
        </p:nvPicPr>
        <p:blipFill>
          <a:blip r:embed="rId1"/>
          <a:stretch/>
        </p:blipFill>
        <p:spPr>
          <a:xfrm>
            <a:off x="442800" y="165240"/>
            <a:ext cx="8242560" cy="1188720"/>
          </a:xfrm>
          <a:prstGeom prst="rect">
            <a:avLst/>
          </a:prstGeom>
          <a:ln w="0">
            <a:noFill/>
          </a:ln>
        </p:spPr>
      </p:pic>
      <p:pic>
        <p:nvPicPr>
          <p:cNvPr id="205" name="Рисунок 3" descr="j0428091.wmf"/>
          <p:cNvPicPr/>
          <p:nvPr/>
        </p:nvPicPr>
        <p:blipFill>
          <a:blip r:embed="rId2"/>
          <a:stretch/>
        </p:blipFill>
        <p:spPr>
          <a:xfrm>
            <a:off x="6588000" y="4869000"/>
            <a:ext cx="1889280" cy="179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1164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Verdana"/>
              </a:rPr>
              <a:t>Сенсорная свобода и психомоторное раскрепощение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7" name="Rectangle 7"/>
          <p:cNvSpPr/>
          <p:nvPr/>
        </p:nvSpPr>
        <p:spPr>
          <a:xfrm flipH="1">
            <a:off x="6012000" y="2205000"/>
            <a:ext cx="3024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Строительство учебного процесса на основе телесной вертикали и телесно-моторной активности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08" name="Объект 3" descr=""/>
          <p:cNvPicPr/>
          <p:nvPr/>
        </p:nvPicPr>
        <p:blipFill>
          <a:blip r:embed="rId1"/>
          <a:srcRect l="18180" t="11312" r="1010" b="-184"/>
          <a:stretch/>
        </p:blipFill>
        <p:spPr>
          <a:xfrm>
            <a:off x="250920" y="1731960"/>
            <a:ext cx="5761080" cy="39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учительство, как профессиональная группа, отличается крайне низкими показателями физического и психического здоровья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Эти показатели снижаются по мере увеличения стажа работы в школе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Факты: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Для учителей со стажем работы в школе 15 – 20 лет характерны “педагогические кризы”, “истощение”, “сгорание”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У трети учителей показатель степени социальной адаптации нередко ниже, чем у больных неврозами.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10" name="Заголовок 1" descr=""/>
          <p:cNvPicPr/>
          <p:nvPr/>
        </p:nvPicPr>
        <p:blipFill>
          <a:blip r:embed="rId1"/>
          <a:stretch/>
        </p:blipFill>
        <p:spPr>
          <a:xfrm>
            <a:off x="442800" y="165240"/>
            <a:ext cx="8242560" cy="1188720"/>
          </a:xfrm>
          <a:prstGeom prst="rect">
            <a:avLst/>
          </a:prstGeom>
          <a:ln w="0">
            <a:noFill/>
          </a:ln>
        </p:spPr>
      </p:pic>
      <p:pic>
        <p:nvPicPr>
          <p:cNvPr id="211" name="Рисунок 3" descr="j0425820.wmf"/>
          <p:cNvPicPr/>
          <p:nvPr/>
        </p:nvPicPr>
        <p:blipFill>
          <a:blip r:embed="rId2"/>
          <a:stretch/>
        </p:blipFill>
        <p:spPr>
          <a:xfrm>
            <a:off x="6786720" y="5072040"/>
            <a:ext cx="200016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395280" y="1125360"/>
            <a:ext cx="8229600" cy="495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I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. Если утром вам надо встать пораньше, вы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1.  заводите будильник,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2.  доверяете внутреннему голосу,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3.полагаетесь на случай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II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. Проснувшись утром, вы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1. сразу вскакиваете с постели и принимаетесь за дела,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2. встаете не спеша, делаете легкую гимнастику и только потом начинаете собираться на занятия,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3. увидев, что у вас в запасе несколько минут, продолжаете нежиться под одеялом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13" name="Заголовок 1" descr=""/>
          <p:cNvPicPr/>
          <p:nvPr/>
        </p:nvPicPr>
        <p:blipFill>
          <a:blip r:embed="rId1"/>
          <a:stretch/>
        </p:blipFill>
        <p:spPr>
          <a:xfrm>
            <a:off x="2004840" y="103320"/>
            <a:ext cx="5119920" cy="13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" dur="8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" dur="8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" dur="8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79280" y="620280"/>
            <a:ext cx="8964720" cy="5327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III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. Из чего состоит ваш обычный завтрак?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1. из кофе или чая с бутербродами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2. из мясного блюда и кофе или чая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3. вы вообще не завтракаете дома и предпочитаете более плотный завтрак  часов в десять.</a:t>
            </a:r>
            <a:br>
              <a:rPr sz="2400"/>
            </a:br>
            <a:br>
              <a:rPr sz="2400"/>
            </a:b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IV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. Вы предпочли бы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 1. чтобы продолжительность обеденного перерыва давала вам возможность успеть поесть в столовой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2. поесть, не торопясь, и  еще спокойно выпить чашку кофе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3.поесть, не торопясь, еще немного отдохнуть. 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5989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V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. Как часто в суете учебных дел и обязанностей у вас выдается возможность немножко пошутить и посмеяться с коллегами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        1. каждый день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2. иногда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3. редко</a:t>
            </a:r>
            <a:br>
              <a:rPr sz="2400"/>
            </a:b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VI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 . Если вы отказываетесь вовлеченным в конфликтную ситуацию, то пытаетесь разрешить ее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1. долгими дискуссиями, в которых упорно отстаиваете свою позицию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2. флегматичным отстранением от споров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         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   3. ясным изложением своей позиции и отказом от   дальнейших споров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VII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. Надолго ли вы обычно задерживаетесь после окончания занятий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1.не более чем на 20 мину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2.до 1 часа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3.более 1 часа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VIII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. Чему вы обычно посвящаете свое свободное время?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1.встречам с друзьями, общественной работе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2.хобби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3.домашним делам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44000" cy="554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33"/>
                </a:solidFill>
                <a:latin typeface="Verdana"/>
              </a:rPr>
              <a:t>ЗДОРОВЬЕСБЕРЕГАЮЩИЕ</a:t>
            </a: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660033"/>
                </a:solidFill>
                <a:latin typeface="Verdana"/>
              </a:rPr>
              <a:t> ТЕХНОЛОГИИ </a:t>
            </a: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660033"/>
                </a:solidFill>
                <a:latin typeface="Verdana"/>
              </a:rPr>
              <a:t>В ОБРАЗОВАТЕЛЬНОМ </a:t>
            </a: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660033"/>
                </a:solidFill>
                <a:latin typeface="Verdana"/>
              </a:rPr>
              <a:t>ПРОЦЕССЕ</a:t>
            </a:r>
            <a:r>
              <a:rPr b="1" lang="en-US" sz="4000" spc="-1" strike="noStrike">
                <a:solidFill>
                  <a:srgbClr val="660033"/>
                </a:solidFill>
                <a:latin typeface="Verdana"/>
              </a:rPr>
              <a:t> </a:t>
            </a: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2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X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Встреча с друзьями и прием гостей для вас – это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1.возможность встряхнуться и отвлечься от забо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2.потеря времени и денег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3.неизбежное зло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X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. Когда вы ложитесь спать?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1.всегда примерно в одно и тоже время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2.по настроению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3.по окончанию всех де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44000" cy="612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XI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Verdana"/>
              </a:rPr>
              <a:t>. Как вы хотели бы использовать для отдыха свой отпуск?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1. все сразу,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2. часть летом, а часть – зимой,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3. по два-три дня, когда у вас накапливается много домашних дел.</a:t>
            </a:r>
            <a:br>
              <a:rPr sz="2800"/>
            </a:br>
            <a:r>
              <a:rPr b="1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XII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Verdana"/>
              </a:rPr>
              <a:t>. Какое место занимает спорт в вашей жизни?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1. ограничиваетесь ролью болельщика,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2. делаете зарядку на свежем воздухе,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3. находите повседневную рабочую и домашнюю физическую нагрузку вполне достаточной.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468360" y="0"/>
            <a:ext cx="8229600" cy="52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XIII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. За последние 14 дней вы хотя бы раз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1. танцевали,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2. занимались физическим трудом или спортом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3. прошли пешком не менее 4 км. </a:t>
            </a:r>
            <a:br>
              <a:rPr sz="2400"/>
            </a:b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XIV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. Как вы проводите летние каникулы?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1. пассивно отдыхаете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2. физически трудитесь, например, в саду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3. гуляете и занимаетесь спортом.</a:t>
            </a:r>
            <a:br>
              <a:rPr sz="2400"/>
            </a:b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XV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. Ваше честолюбие проявляется в том, что вы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1. любой ценой стремитесь достичь своего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2. надеетесь, что ваше усердие принесет свои плоды,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3. намекаете окружающим на вашу ценность, предоставляя им возможность делать надлежащие выводы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Заголовок 1" descr=""/>
          <p:cNvPicPr/>
          <p:nvPr/>
        </p:nvPicPr>
        <p:blipFill>
          <a:blip r:embed="rId1"/>
          <a:stretch/>
        </p:blipFill>
        <p:spPr>
          <a:xfrm>
            <a:off x="814320" y="103320"/>
            <a:ext cx="7499520" cy="1314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1" name=""/>
          <p:cNvGraphicFramePr/>
          <p:nvPr/>
        </p:nvGraphicFramePr>
        <p:xfrm>
          <a:off x="684360" y="1989000"/>
          <a:ext cx="8218440" cy="2448000"/>
        </p:xfrm>
        <a:graphic>
          <a:graphicData uri="http://schemas.openxmlformats.org/drawingml/2006/table">
            <a:tbl>
              <a:tblPr/>
              <a:tblGrid>
                <a:gridCol w="287280"/>
                <a:gridCol w="503280"/>
                <a:gridCol w="504720"/>
                <a:gridCol w="504720"/>
                <a:gridCol w="503280"/>
                <a:gridCol w="576360"/>
                <a:gridCol w="503280"/>
                <a:gridCol w="504720"/>
                <a:gridCol w="503280"/>
                <a:gridCol w="504720"/>
                <a:gridCol w="503280"/>
                <a:gridCol w="576360"/>
                <a:gridCol w="649080"/>
                <a:gridCol w="503280"/>
                <a:gridCol w="576360"/>
                <a:gridCol w="514440"/>
              </a:tblGrid>
              <a:tr h="57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2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3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4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61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0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0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0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0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0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0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0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61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0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0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0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0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0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63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0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0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0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0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0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395280" y="162864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000000"/>
                </a:solidFill>
                <a:uFillTx/>
                <a:latin typeface="Verdana"/>
              </a:rPr>
              <a:t>400-480 очков</a:t>
            </a:r>
            <a:r>
              <a:rPr b="0" lang="ru-RU" sz="2600" spc="-1" strike="noStrike" u="sng">
                <a:solidFill>
                  <a:srgbClr val="000000"/>
                </a:solidFill>
                <a:uFillTx/>
                <a:latin typeface="Verdana"/>
              </a:rPr>
              <a:t>: 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у вас почти максимальная сумма очков, и можно сказать, что вы ведете правильный образ жизни. Вы хорошо организовали режим работы и эффективного отдыха, что, безусловно, положительно скажется на результатах вашей работы. Не бойтесь, что регламентированность вашей жизни  придает ей монотонность – напротив, сбереженные силы и здоровье сделают ее разнообразной и интересной.</a:t>
            </a:r>
            <a:endParaRPr b="0" lang="en-US" sz="2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23" name="Заголовок 1" descr=""/>
          <p:cNvPicPr/>
          <p:nvPr/>
        </p:nvPicPr>
        <p:blipFill>
          <a:blip r:embed="rId1"/>
          <a:stretch/>
        </p:blipFill>
        <p:spPr>
          <a:xfrm>
            <a:off x="442800" y="165240"/>
            <a:ext cx="8242560" cy="11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457200" y="-360"/>
            <a:ext cx="8229600" cy="605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Verdana"/>
              </a:rPr>
              <a:t>280-400 очков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Verdana"/>
              </a:rPr>
              <a:t> :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ы близки к идеалу, хотя и не достигли его. Во всяком случае, вы уже овладели искусством восстанавливать  свои силы  и при самой напряженной работе. Важно, чтобы ваша общественная и личная жизнь и впрямь оставались уравновешенными, без стихийных бедствий. Но у вас есть еще резервы повышения производительности за счет более разумной организации ритма своей работы в соответствии с особенностями вашего организма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Verdana"/>
              </a:rPr>
              <a:t> 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Verdana"/>
              </a:rPr>
              <a:t>160-280 очков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: вы «середнячок». Если вы будите и дальше жить в таком же режиме, ваши шансы дожить до пенсии в добром здравии невелики. Опомнитесь, пока не поздно, ведь время работает против вас. У вас есть все предпосылки, чтобы изменить свои вредные привычки. Примите наш совет как предостережение друга и не откладывайте профилактику на завтра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395280" y="14130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000000"/>
                </a:solidFill>
                <a:uFillTx/>
                <a:latin typeface="Verdana"/>
              </a:rPr>
              <a:t>Менее 160 очков</a:t>
            </a: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по правде говоря, незавидная у вас жизнь. Если вы уже жалуетесь на какие-то недомогания, особенно сердечно-сосудистой системы, то можете смело винить лишь ваш собственный образ жизни. Думаем, что и дела у вас идут не лучшим образом. Вам нужен совет специалиста – врача-гигиениста или психолога. Но лучше, если вы сами найдете в себе силы преодолеть нынешний жизненный кризис, вернуть здоровье.</a:t>
            </a:r>
            <a:endParaRPr b="0" lang="en-US" sz="2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990000"/>
                </a:solidFill>
                <a:latin typeface="Verdana"/>
              </a:rPr>
              <a:t>Ведь оздоровление в школе должно начинаться именно </a:t>
            </a:r>
            <a:endParaRPr b="0" lang="en-US" sz="4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990000"/>
                </a:solidFill>
                <a:latin typeface="Verdana"/>
              </a:rPr>
              <a:t>с нас. </a:t>
            </a:r>
            <a:endParaRPr b="0" lang="en-US" sz="4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28" name="Заголовок 1" descr=""/>
          <p:cNvPicPr/>
          <p:nvPr/>
        </p:nvPicPr>
        <p:blipFill>
          <a:blip r:embed="rId1"/>
          <a:stretch/>
        </p:blipFill>
        <p:spPr>
          <a:xfrm>
            <a:off x="1378080" y="103320"/>
            <a:ext cx="6372000" cy="1314360"/>
          </a:xfrm>
          <a:prstGeom prst="rect">
            <a:avLst/>
          </a:prstGeom>
          <a:ln w="0">
            <a:noFill/>
          </a:ln>
        </p:spPr>
      </p:pic>
      <p:pic>
        <p:nvPicPr>
          <p:cNvPr id="229" name="Рисунок 3" descr="j0425826.wmf"/>
          <p:cNvPicPr/>
          <p:nvPr/>
        </p:nvPicPr>
        <p:blipFill>
          <a:blip r:embed="rId2"/>
          <a:stretch/>
        </p:blipFill>
        <p:spPr>
          <a:xfrm>
            <a:off x="6372360" y="4292640"/>
            <a:ext cx="1834920" cy="169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000" spc="-1" strike="noStrike">
                <a:solidFill>
                  <a:srgbClr val="006699"/>
                </a:solidFill>
                <a:latin typeface="Verdana"/>
              </a:rPr>
              <a:t>“</a:t>
            </a:r>
            <a:r>
              <a:rPr b="0" i="1" lang="ru-RU" sz="6000" spc="-1" strike="noStrike">
                <a:solidFill>
                  <a:srgbClr val="006699"/>
                </a:solidFill>
                <a:latin typeface="Verdana"/>
              </a:rPr>
              <a:t>Здоровье не всё, но всё без здоровья – ничто”.</a:t>
            </a:r>
            <a:endParaRPr b="0" lang="en-US" sz="6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6699"/>
                </a:solidFill>
                <a:latin typeface="Verdana"/>
              </a:rPr>
              <a:t>СОКРАТ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31" name="Рисунок 3" descr="j0428071.wmf"/>
          <p:cNvPicPr/>
          <p:nvPr/>
        </p:nvPicPr>
        <p:blipFill>
          <a:blip r:embed="rId1"/>
          <a:stretch/>
        </p:blipFill>
        <p:spPr>
          <a:xfrm>
            <a:off x="3143160" y="4286160"/>
            <a:ext cx="2786040" cy="20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9" name="Rectangle 7"/>
          <p:cNvSpPr/>
          <p:nvPr/>
        </p:nvSpPr>
        <p:spPr>
          <a:xfrm>
            <a:off x="1619280" y="1773360"/>
            <a:ext cx="61927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Verdana"/>
              </a:rPr>
              <a:t>это система мер, включающая взаимосвязь и взаимодействие всех факторов образовательной среды, направленных на сохранение здоровья ребенка на всех этапах его обучения и развития.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1596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ЗДОРОВЬЕСБЕРЕГАЮЩИЕ ТЕХНОЛОГИИ -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99640" y="260280"/>
            <a:ext cx="7993080" cy="172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66"/>
                </a:solidFill>
                <a:latin typeface="Verdana"/>
              </a:rPr>
              <a:t>Сущность здоровьесберегающего урока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826920" y="2565360"/>
            <a:ext cx="780912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Verdana"/>
              </a:rPr>
              <a:t>- обеспечивает ребёнку и учителю сохранение и увеличение их жизненных сил от начала и до конца урока,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Verdana"/>
              </a:rPr>
              <a:t>- позволяет использовать полученные умения самостоятельно во внеурочной деятельности и в дальнейшей жизни 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539640" y="19890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Принцип двигательной активности,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Принцип оздоровительного режима,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Принцип формирования правильной осанки и навыков рационального дыхания,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Принцип психологической комфортности,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Принцип опоры на индивидуальные особенности ребёнка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741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66"/>
                </a:solidFill>
                <a:latin typeface="Verdana"/>
              </a:rPr>
              <a:t>ПРИНЦИПЫ ЗДОРОВЬЕСБЕРЕГАЮЩЕГО УРОКА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95280" y="907560"/>
            <a:ext cx="8244000" cy="1597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Verdana"/>
              </a:rPr>
              <a:t>Для реализации данных принципов  выбраны и систематизированы педагогические методы и приёмы обучения.</a:t>
            </a:r>
            <a:br>
              <a:rPr sz="4000"/>
            </a:b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8229600" cy="38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Для реализации данных принципов  выбраны и систематизированы педагогические методы и приёмы обучения.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87" name="Содержимое 2" descr=""/>
          <p:cNvPicPr/>
          <p:nvPr/>
        </p:nvPicPr>
        <p:blipFill>
          <a:blip r:embed="rId1"/>
          <a:stretch/>
        </p:blipFill>
        <p:spPr>
          <a:xfrm>
            <a:off x="347760" y="1870200"/>
            <a:ext cx="8242200" cy="482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Заголовок 1" descr=""/>
          <p:cNvPicPr/>
          <p:nvPr/>
        </p:nvPicPr>
        <p:blipFill>
          <a:blip r:embed="rId1"/>
          <a:stretch/>
        </p:blipFill>
        <p:spPr>
          <a:xfrm>
            <a:off x="1619280" y="476280"/>
            <a:ext cx="6192720" cy="1187280"/>
          </a:xfrm>
          <a:prstGeom prst="rect">
            <a:avLst/>
          </a:prstGeom>
          <a:ln w="0">
            <a:noFill/>
          </a:ln>
        </p:spPr>
      </p:pic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250920" y="2349000"/>
            <a:ext cx="6146640" cy="29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гимнастика для улучшения мозгового кровообращения,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для снятия утомления плечевого пояса и рук,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-для снятия напряжения с мышц туловища;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-гимнастика пальчиковая;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-гимнастика бодрящая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90" name="Рисунок 3" descr="PE00555_.WMF"/>
          <p:cNvPicPr/>
          <p:nvPr/>
        </p:nvPicPr>
        <p:blipFill>
          <a:blip r:embed="rId2"/>
          <a:stretch/>
        </p:blipFill>
        <p:spPr>
          <a:xfrm>
            <a:off x="6732720" y="3645000"/>
            <a:ext cx="2143080" cy="272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Рисунок 3" descr="j0423816.wmf"/>
          <p:cNvPicPr/>
          <p:nvPr/>
        </p:nvPicPr>
        <p:blipFill>
          <a:blip r:embed="rId1"/>
          <a:stretch/>
        </p:blipFill>
        <p:spPr>
          <a:xfrm>
            <a:off x="611280" y="3789360"/>
            <a:ext cx="1635120" cy="1889280"/>
          </a:xfrm>
          <a:prstGeom prst="rect">
            <a:avLst/>
          </a:prstGeom>
          <a:ln w="0">
            <a:noFill/>
          </a:ln>
        </p:spPr>
      </p:pic>
      <p:pic>
        <p:nvPicPr>
          <p:cNvPr id="192" name="Заголовок 1" descr=""/>
          <p:cNvPicPr/>
          <p:nvPr/>
        </p:nvPicPr>
        <p:blipFill>
          <a:blip r:embed="rId2"/>
          <a:stretch/>
        </p:blipFill>
        <p:spPr>
          <a:xfrm>
            <a:off x="442800" y="18108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93" name="Rectangle 9"/>
          <p:cNvSpPr/>
          <p:nvPr/>
        </p:nvSpPr>
        <p:spPr>
          <a:xfrm>
            <a:off x="3924360" y="1125360"/>
            <a:ext cx="4464000" cy="62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Verdana"/>
              </a:rPr>
              <a:t>Успокаивающее дыхание:</a:t>
            </a: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Вдох    выдох    пауза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                            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4 с     -    5с      -     2с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                            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4 с    -     4 с     -     2с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                             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4 с    -     6с    –     2с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   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Verdana"/>
              </a:rPr>
              <a:t>Мобилизующее дыхание: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        Вдох    выдох    пауза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                            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4с      -     2с      -    4с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                             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4с     -     5с      -    2с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                             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4с     -     6с      -    2с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solidFill>
            <a:srgbClr val="e5fad2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Verdana"/>
              </a:rPr>
              <a:t>Красный цвет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влияет на физическое состояние.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Verdana"/>
              </a:rPr>
              <a:t>Красный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и </a:t>
            </a:r>
            <a:r>
              <a:rPr b="0" lang="ru-RU" sz="2000" spc="-1" strike="noStrike">
                <a:solidFill>
                  <a:srgbClr val="ff9900"/>
                </a:solidFill>
                <a:latin typeface="Verdana"/>
              </a:rPr>
              <a:t>оранжевый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– активные цвета, действуют на организм возбуждающе, ускоряют процессы жизнедеятельности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ffff00"/>
                </a:solidFill>
                <a:latin typeface="Verdana"/>
              </a:rPr>
              <a:t>Жёлтый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– на умственное, это цвет хорошего настроения. Под его воздействием быстро принимается решение и мгновенно выполняется задача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2000" spc="-1" strike="noStrike">
                <a:solidFill>
                  <a:srgbClr val="3399ff"/>
                </a:solidFill>
                <a:latin typeface="Verdana"/>
              </a:rPr>
              <a:t>Голубой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–влияет на эмоции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9933"/>
                </a:solidFill>
                <a:latin typeface="Verdana"/>
              </a:rPr>
              <a:t>Зелёный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– создаёт чувство лёгкости и успокоенности; помогает сконцентрироваться; помогает сохранять зрение (повесьте перед столом или компьютером зелёный коврик и периодически смотрите на него). Работоспособность детей выше при зелёной гамме цветов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33cc"/>
                </a:solidFill>
                <a:latin typeface="Verdana"/>
              </a:rPr>
              <a:t>Синий цвет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способствует восстановлению нервной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истемы, помогает при рассеянности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95" name="Заголовок 1" descr=""/>
          <p:cNvPicPr/>
          <p:nvPr/>
        </p:nvPicPr>
        <p:blipFill>
          <a:blip r:embed="rId1"/>
          <a:stretch/>
        </p:blipFill>
        <p:spPr>
          <a:xfrm>
            <a:off x="755640" y="0"/>
            <a:ext cx="7591320" cy="13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6T11:21:47Z</dcterms:created>
  <dc:creator>неизвестный</dc:creator>
  <dc:description/>
  <dc:language>en-US</dc:language>
  <cp:lastModifiedBy>User</cp:lastModifiedBy>
  <dcterms:modified xsi:type="dcterms:W3CDTF">2019-11-01T03:53:52Z</dcterms:modified>
  <cp:revision>18</cp:revision>
  <dc:subject/>
  <dc:title>Слайд 1</dc:title>
</cp:coreProperties>
</file>