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888-BDB2-447C-8919-381D7800C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FE25-826B-4563-9A4B-AAD2A0C7B56D}" type="slidenum">
              <a:rPr b="0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двигательной актив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здоровительного режима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формирования правильной осанки и навыков рационального дых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реализации эффективного закаливания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психологической комфортности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принцип опоры на индивидуальные особенности и способности ребёнка (учёт ведущего темперамента)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378-E820-4A37-B02B-E449AD85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A47-97AA-40EC-9B63-E4779CD0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8A0-4D3A-4793-B8A8-3743786B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16B-0132-459E-A3C2-CCA9FAB0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9A0E-260E-4824-A056-CFA214E7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18AF-B700-44FC-ADA6-948A448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7C11-DC75-4818-AFC0-C9F887E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8BD5-0401-45AF-B636-99878508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B03-7B60-4115-9A92-783D0C5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CAB-EB76-48DC-A56E-2B6A61E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6B0-9B7D-4FD9-BFC8-A7C054C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A8F-8256-4DAB-9ECA-DB5E896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476-C8E4-4933-980F-55A237F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8342-E601-41C0-9597-4D5E33C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F7B-BBB1-46E1-ADEC-7E17470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5AE-88D2-4277-B8B0-A239C7CE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25CB-61A2-46C1-B70D-E3D8242B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877-FF7D-4B60-A1C5-39E38076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288-98CA-4731-BD37-D51B1471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C40-E5B3-4D80-B125-B9B2FB3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D79-497F-41E9-8094-721CA2C5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D99-BF41-472A-8F05-329829E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13A-1CFC-4902-BCB6-787A0645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776-EAC3-4679-8BA2-E3B27D8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3713-B7D1-4A30-A3A4-FBE10E5E82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E09-994F-46D2-9DB2-24D8A2246E9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Учитель не тот, кто учит, а тот, у кого учатся.»</a:t>
            </a:r>
            <a:br>
              <a:rPr sz="52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692360" y="5084640"/>
            <a:ext cx="614664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жанбекова Севиле Серверовна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Учитель начальных классов муниципального бюджетного общеобразовательного учреждения «Черноморская средняя школа №3» муниципального образования Черноморский район Республики Крым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C:\Users\HOME\Desktop\фото 2 в\image (29).jpg"/>
          <p:cNvPicPr/>
          <p:nvPr/>
        </p:nvPicPr>
        <p:blipFill>
          <a:blip r:embed="rId1"/>
          <a:stretch/>
        </p:blipFill>
        <p:spPr>
          <a:xfrm>
            <a:off x="2938320" y="1035000"/>
            <a:ext cx="3016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цвета бумаги изменяется даже число верных ответ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пример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0" lang="ru-RU" sz="3200" spc="-1" strike="noStrike">
                <a:solidFill>
                  <a:srgbClr val="339933"/>
                </a:solidFill>
                <a:latin typeface="Verdana"/>
              </a:rPr>
              <a:t>зелёной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бумаге число верных ответов было на 20% больше,  чем на белой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против, уменьшилось на 19%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68240" y="103320"/>
            <a:ext cx="75916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072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музыки как оформления фона занятий и сопровождения моментов урок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ыка влияет на человека через ритм, которому подчинены все функции организма: ритмично бьется сердце, дышат легки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57200" y="8424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2"/>
          <a:stretch/>
        </p:blipFill>
        <p:spPr>
          <a:xfrm>
            <a:off x="1116000" y="3375000"/>
            <a:ext cx="6192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ихая мелодичная музы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ладает седативным (успокаивающего действия, способствующего развитию процессов торможения) действием и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ализует функции сердечно-сосудистой системы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итмичная музык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зывает повышение тонуса скелетной мускулатуры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казывает благоприятное влияние на деятельность внутренних органов и систе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ажорные мелоди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дают человеку бодрость,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лучшают самочувстви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психоэмоциональное состояни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366920" y="103320"/>
            <a:ext cx="63961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для наглядной пропаганды здорового образа жизн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это “дерево” заносятся имена и фамилии ни разу не болевших учеников за четверть. По итогам года самые здоровые ученики получают награду, поощр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3" descr="j0428091.wmf"/>
          <p:cNvPicPr/>
          <p:nvPr/>
        </p:nvPicPr>
        <p:blipFill>
          <a:blip r:embed="rId2"/>
          <a:stretch/>
        </p:blipFill>
        <p:spPr>
          <a:xfrm>
            <a:off x="6588000" y="4869000"/>
            <a:ext cx="1889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енсорная свобода и психомоторное раскрепощени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 flipH="1">
            <a:off x="6012000" y="220500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роительство учебного процесса на основе телесной вертикали и телесно-моторной актив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Объект 3" descr=""/>
          <p:cNvPicPr/>
          <p:nvPr/>
        </p:nvPicPr>
        <p:blipFill>
          <a:blip r:embed="rId1"/>
          <a:srcRect l="18180" t="11312" r="1010" b="-184"/>
          <a:stretch/>
        </p:blipFill>
        <p:spPr>
          <a:xfrm>
            <a:off x="250920" y="1731960"/>
            <a:ext cx="5761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ство, как профессиональная группа, отличается крайне низкими показателями физического и психического здоровь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и показатели снижаются по мере увеличения стажа работы в школ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кт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учителей со стажем работы в школе 15 – 20 лет характерны “педагогические кризы”, “истощение”, “сгорание”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трети учителей показатель степени социальной адаптации нередко ниже, чем у больных неврозам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j0425820.wmf"/>
          <p:cNvPicPr/>
          <p:nvPr/>
        </p:nvPicPr>
        <p:blipFill>
          <a:blip r:embed="rId2"/>
          <a:stretch/>
        </p:blipFill>
        <p:spPr>
          <a:xfrm>
            <a:off x="6786720" y="5072040"/>
            <a:ext cx="2000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Если утром вам надо встать пораньше, в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 заводите будильник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 доверяете внутреннему голосу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полагаетесь на случа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Проснувшись утром, в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сразу вскакиваете с постели и принимаетесь за дел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встаете не спеша, делаете легкую гимнастику и только потом начинаете собираться на заняти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увидев, что у вас в запасе несколько минут, продолжаете нежиться под одеяло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2004840" y="103320"/>
            <a:ext cx="51199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532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Из чего состоит ваш обычный завтра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из кофе или чая с бутерброд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из мясного блюда и кофе или ч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вы вообще не завтракаете дома и предпочитаете более плотный завтрак  часов в десять.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Вы предпочли б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1. чтобы продолжительность обеденного перерыва давала вам возможность успеть поесть в столов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поесть, не торопясь, и  еще спокойно выпить чашку коф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3.поесть, не торопясь, еще немного отдохнуть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98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ак часто в суете учебных дел и обязанностей у вас выдается возможность немножко пошутить и посмеяться с коллег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1. каждый ден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иног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редко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. Если вы отказываетесь вовлеченным в конфликтную ситуацию, то пытаетесь разрешить е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долгими дискуссиями, в которых упорно отстаиваете свою позици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2. флегматичным отстранением от спор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3. ясным изложением своей позиции и отказом от   дальнейших споров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Надолго ли вы обычно задерживаетесь после окончания занят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не более чем на 20 мин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до 1 ча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более 1 ча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Чему вы обычно посвящаете свое свободное время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стречам с друзьями, общественной рабо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хобб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домашним дела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ЗДОРОВЬЕСБЕРЕГАЮЩ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 ТЕХНОЛОГИ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В ОБРАЗОВАТЕЛЬНОМ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Verdana"/>
              </a:rPr>
              <a:t>ПРОЦЕССЕ</a:t>
            </a:r>
            <a:r>
              <a:rPr b="1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стреча с друзьями и прием гостей для вас – эт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озможность встряхнуться и отвлечься от забо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потеря времени и денег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неизбежное зл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огда вы ложитесь спать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всегда примерно в одно и тоже врем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по настрое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по окончанию всех де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. Как вы хотели бы использовать для отдыха свой отпуск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все сраз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часть летом, а часть – зим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по два-три дня, когда у вас накапливается много домашних дел.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I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. Какое место занимает спорт в вашей жизни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ограничиваетесь ролью болельщик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делаете зарядку на свежем воздух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находите повседневную рабочую и домашнюю физическую нагрузку вполне достаточной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За последние 14 дней вы хотя бы раз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танцевал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занимались физическим трудом или спорто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прошли пешком не менее 4 км.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Как вы проводите летние каникул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пассивно отдыхает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физически трудитесь, например, в са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гуляете и занимаетесь спортом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. Ваше честолюбие проявляется в том, что в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любой ценой стремитесь достичь своег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надеетесь, что ваше усердие принесет свои плоды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намекаете окружающим на вашу ценность, предоставляя им возможность делать надлежащие вывод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814320" y="103320"/>
            <a:ext cx="7499520" cy="13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684360" y="1989000"/>
          <a:ext cx="8218440" cy="2448000"/>
        </p:xfrm>
        <a:graphic>
          <a:graphicData uri="http://schemas.openxmlformats.org/drawingml/2006/table">
            <a:tbl>
              <a:tblPr/>
              <a:tblGrid>
                <a:gridCol w="287280"/>
                <a:gridCol w="503280"/>
                <a:gridCol w="504720"/>
                <a:gridCol w="504720"/>
                <a:gridCol w="503280"/>
                <a:gridCol w="576360"/>
                <a:gridCol w="503280"/>
                <a:gridCol w="504720"/>
                <a:gridCol w="503280"/>
                <a:gridCol w="504720"/>
                <a:gridCol w="503280"/>
                <a:gridCol w="576360"/>
                <a:gridCol w="649080"/>
                <a:gridCol w="503280"/>
                <a:gridCol w="576360"/>
                <a:gridCol w="514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400-480 очков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вас почти максимальная сумма очков, и можно сказать, что вы ведете правильный образ жизни. Вы хорошо организовали режим работы и эффективного отдыха, что, безусловно, положительно скажется на результатах вашей работы. Не бойтесь, что регламентированность вашей жизни  придает ей монотонность – напротив, сбереженные силы и здоровье сделают ее разнообразной и интересной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42800" y="165240"/>
            <a:ext cx="824256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280-400 очко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 близки к идеалу, хотя и не достигли его. Во всяком случае, вы уже овладели искусством восстанавливать  свои силы  и при самой напряженной работе. Важно, чтобы ваша общественная и личная жизнь и впрямь оставались уравновешенными, без стихийных бедствий. Но у вас есть еще резервы повышения производительности за счет более разумной организации ритма своей работы в соответствии с особенностями вашего организм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160-280 очк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 «середнячок». Если вы будите и дальше жить в таком же режиме, ваши шансы дожить до пенсии в добром здравии невелики. Опомнитесь, пока не поздно, ведь время работает против вас. У вас есть все предпосылки, чтобы изменить свои вредные привычки. Примите наш совет как предостережение друга и не откладывайте профилактику на завт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Менее 160 очк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 правде говоря, незавидная у вас жизнь. Если вы уже жалуетесь на какие-то недомогания, особенно сердечно-сосудистой системы, то можете смело винить лишь ваш собственный образ жизни. Думаем, что и дела у вас идут не лучшим образом. Вам нужен совет специалиста – врача-гигиениста или психолога. Но лучше, если вы сами найдете в себе силы преодолеть нынешний жизненный кризис, вернуть здоровье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Verdana"/>
              </a:rPr>
              <a:t>Ведь оздоровление в школе должно начинаться именно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Verdana"/>
              </a:rPr>
              <a:t>с нас.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378080" y="103320"/>
            <a:ext cx="6372000" cy="13143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j0425826.wmf"/>
          <p:cNvPicPr/>
          <p:nvPr/>
        </p:nvPicPr>
        <p:blipFill>
          <a:blip r:embed="rId2"/>
          <a:stretch/>
        </p:blipFill>
        <p:spPr>
          <a:xfrm>
            <a:off x="6372360" y="4292640"/>
            <a:ext cx="18349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6000" spc="-1" strike="noStrike">
                <a:solidFill>
                  <a:srgbClr val="006699"/>
                </a:solidFill>
                <a:latin typeface="Verdana"/>
              </a:rPr>
              <a:t>Здоровье не всё, но всё без здоровья – ничто”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СОКРА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Рисунок 3" descr="j0428071.wmf"/>
          <p:cNvPicPr/>
          <p:nvPr/>
        </p:nvPicPr>
        <p:blipFill>
          <a:blip r:embed="rId1"/>
          <a:stretch/>
        </p:blipFill>
        <p:spPr>
          <a:xfrm>
            <a:off x="3143160" y="4286160"/>
            <a:ext cx="27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619280" y="17733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ДОРОВЬЕСБЕРЕГАЮЩИЕ ТЕХНОЛОГИИ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ущность здоровьесберегающего уро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26920" y="2565360"/>
            <a:ext cx="7809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 обеспечивает ребёнку и учителю сохранение и увеличение их жизненных сил от начала и до конца урок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 позволяет использовать полученные умения самостоятельно во внеурочной деятельности и в дальнейшей жизни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двигательной актив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оздоровительного режим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формирования правильной осанки и навыков рационального дыха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психологической комфортнос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нцип опоры на индивидуальные особенности ребён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ИНЦИПЫ ЗДОРОВЬЕСБЕРЕГАЮЩЕГО УРОК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44000" cy="15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Verdana"/>
              </a:rPr>
              <a:t>Для реализации данных принципов  выбраны и систематизированы педагогические методы и приёмы обучения.</a:t>
            </a:r>
            <a:br>
              <a:rPr sz="40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ля реализации данных принципов  выбраны и систематизированы педагогические методы и приёмы обучен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Содержимое 2" descr=""/>
          <p:cNvPicPr/>
          <p:nvPr/>
        </p:nvPicPr>
        <p:blipFill>
          <a:blip r:embed="rId1"/>
          <a:stretch/>
        </p:blipFill>
        <p:spPr>
          <a:xfrm>
            <a:off x="347760" y="1870200"/>
            <a:ext cx="82422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11872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50920" y="2349000"/>
            <a:ext cx="614664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мнастика для улучшения мозгового кровообращени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снятия утомления плечевого пояса и ру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для снятия напряжения с мышц туловищ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гимнастика пальчикова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-гимнастика бодрящ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Рисунок 3" descr="PE00555_.WMF"/>
          <p:cNvPicPr/>
          <p:nvPr/>
        </p:nvPicPr>
        <p:blipFill>
          <a:blip r:embed="rId2"/>
          <a:stretch/>
        </p:blipFill>
        <p:spPr>
          <a:xfrm>
            <a:off x="6732720" y="3645000"/>
            <a:ext cx="2143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j0423816.wmf"/>
          <p:cNvPicPr/>
          <p:nvPr/>
        </p:nvPicPr>
        <p:blipFill>
          <a:blip r:embed="rId1"/>
          <a:stretch/>
        </p:blipFill>
        <p:spPr>
          <a:xfrm>
            <a:off x="611280" y="3789360"/>
            <a:ext cx="1635120" cy="188928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442800" y="1810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3924360" y="1125360"/>
            <a:ext cx="4464000" cy="62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Успокаивающее дыхание: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дох    выдох    пауз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 -    5с      -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-     4 с     -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 с    -     6с    – 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Мобилизующее дыхание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Вдох    выдох    пауз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 -     2с      -    4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-     5с      -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с     -     6с      -    2с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e5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 цв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влияет на физическое состояни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оранжев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активные цвета, действуют на организм возбуждающе, ускоряют процессы жизне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Жёлт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а умственное, это цвет хорошего настроения. Под его воздействием быстро принимается решение и мгновенно выполняется задач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3399ff"/>
                </a:solidFill>
                <a:latin typeface="Verdana"/>
              </a:rPr>
              <a:t>Голуб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влияет на эмоц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Verdana"/>
              </a:rPr>
              <a:t>Зелё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создаёт чувство лёгкости и успокоенности; помогает сконцентрироваться; помогает сохранять зрение (повесьте перед столом или компьютером зелёный коврик и периодически смотрите на него). Работоспособность детей выше при зелёной гамме цвет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Синий цв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особствует восстановлению нервно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темы, помогает при рассеян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5913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1:21:47Z</dcterms:created>
  <dc:creator>неизвестный</dc:creator>
  <dc:description/>
  <dc:language>en-US</dc:language>
  <cp:lastModifiedBy>User</cp:lastModifiedBy>
  <dcterms:modified xsi:type="dcterms:W3CDTF">2019-11-01T03:53:52Z</dcterms:modified>
  <cp:revision>18</cp:revision>
  <dc:subject/>
  <dc:title>Слайд 1</dc:title>
</cp:coreProperties>
</file>