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C631-6237-44A9-9E63-03FD7C75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4CC4-69B9-4AD9-8984-133202AB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07C0-FCCD-44CB-8FDF-F6F00C4B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FB85-CA13-4303-A7F1-0DD72318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D170-98D5-426C-A6D4-04122313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2730-33F9-4A31-8085-90B2EFC7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A5E6-8395-4EBE-8D5C-7614B446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5368-92D1-48E0-9B5A-4CF18412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26C0-4DF5-46E0-AAA8-F08DF75A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BB4B-6AB2-4E54-AAC0-F0756DD6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1FAC-88C5-45DF-8CA1-CE4DB0B4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C868-03BA-4349-8DF8-0C84E30C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93B0-E027-480C-817E-8AF4D08052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08200" y="928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808200" y="1197000"/>
            <a:ext cx="801180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рафика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143840" y="928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3132000" y="2852640"/>
            <a:ext cx="266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5" name="17.Волшебное утро.Гала..wma" descr=""/>
          <p:cNvPicPr/>
          <p:nvPr/>
        </p:nvPicPr>
        <p:blipFill>
          <a:blip r:embed="rId1"/>
          <a:stretch/>
        </p:blipFill>
        <p:spPr>
          <a:xfrm>
            <a:off x="414036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1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img031"/>
          <p:cNvPicPr/>
          <p:nvPr/>
        </p:nvPicPr>
        <p:blipFill>
          <a:blip r:embed="rId1"/>
          <a:stretch/>
        </p:blipFill>
        <p:spPr>
          <a:xfrm>
            <a:off x="324000" y="1123920"/>
            <a:ext cx="3914640" cy="5734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-789120" y="306360"/>
            <a:ext cx="10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ench Script MT"/>
              </a:rPr>
              <a:t>Основные средства вырази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4578480" y="17733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ench Script MT"/>
              </a:rPr>
              <a:t>ли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671000" y="3573360"/>
            <a:ext cx="195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ench Script MT"/>
              </a:rPr>
              <a:t>штри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791600" y="5373720"/>
            <a:ext cx="114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ench Script MT"/>
              </a:rPr>
              <a:t>т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snow"/>
          <p:cNvPicPr/>
          <p:nvPr/>
        </p:nvPicPr>
        <p:blipFill>
          <a:blip r:embed="rId1"/>
          <a:stretch/>
        </p:blipFill>
        <p:spPr>
          <a:xfrm>
            <a:off x="1476360" y="1700280"/>
            <a:ext cx="6192720" cy="4851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690840" y="0"/>
            <a:ext cx="745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Verdana"/>
              </a:rPr>
              <a:t>Графика </a:t>
            </a:r>
            <a:r>
              <a:rPr b="0" i="1" lang="ru-RU" sz="5400" spc="-1" strike="noStrike">
                <a:solidFill>
                  <a:srgbClr val="0000ff"/>
                </a:solidFill>
                <a:latin typeface="Verdana"/>
              </a:rPr>
              <a:t>может </a:t>
            </a:r>
            <a:r>
              <a:rPr b="0" i="1" lang="ru-RU" sz="5400" spc="-1" strike="noStrike">
                <a:solidFill>
                  <a:srgbClr val="008000"/>
                </a:solidFill>
                <a:latin typeface="Verdana"/>
              </a:rPr>
              <a:t>бы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830320" y="692280"/>
            <a:ext cx="309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66"/>
                </a:solidFill>
                <a:latin typeface="Verdana"/>
              </a:rPr>
              <a:t>цветн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3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4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ontact"/>
          <p:cNvPicPr/>
          <p:nvPr/>
        </p:nvPicPr>
        <p:blipFill>
          <a:blip r:embed="rId1"/>
          <a:stretch/>
        </p:blipFill>
        <p:spPr>
          <a:xfrm>
            <a:off x="1332000" y="1628640"/>
            <a:ext cx="6406920" cy="48927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611280" y="0"/>
            <a:ext cx="761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Verdana"/>
              </a:rPr>
              <a:t>Графика может бы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382840" y="692280"/>
            <a:ext cx="41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Verdana"/>
              </a:rPr>
              <a:t>чёрно-бел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3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4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6"/>
          <p:cNvPicPr/>
          <p:nvPr/>
        </p:nvPicPr>
        <p:blipFill>
          <a:blip r:embed="rId1"/>
          <a:stretch/>
        </p:blipFill>
        <p:spPr>
          <a:xfrm>
            <a:off x="179280" y="2901960"/>
            <a:ext cx="4680000" cy="3065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13"/>
          <p:cNvPicPr/>
          <p:nvPr/>
        </p:nvPicPr>
        <p:blipFill>
          <a:blip r:embed="rId2"/>
          <a:stretch/>
        </p:blipFill>
        <p:spPr>
          <a:xfrm>
            <a:off x="4964040" y="333360"/>
            <a:ext cx="4170600" cy="5634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519120" y="254160"/>
            <a:ext cx="4340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French Script MT"/>
              </a:rPr>
              <a:t>Реалистичный пейзаж в графи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527120" y="169380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6"/>
          <p:cNvSpPr txBox="1"/>
          <p:nvPr/>
        </p:nvSpPr>
        <p:spPr>
          <a:xfrm>
            <a:off x="826920" y="0"/>
            <a:ext cx="6696360" cy="22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16000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4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plod-fall"/>
          <p:cNvPicPr/>
          <p:nvPr/>
        </p:nvPicPr>
        <p:blipFill>
          <a:blip r:embed="rId1"/>
          <a:stretch/>
        </p:blipFill>
        <p:spPr>
          <a:xfrm>
            <a:off x="4788000" y="1125360"/>
            <a:ext cx="3862440" cy="5378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tree"/>
          <p:cNvPicPr/>
          <p:nvPr/>
        </p:nvPicPr>
        <p:blipFill>
          <a:blip r:embed="rId2"/>
          <a:stretch/>
        </p:blipFill>
        <p:spPr>
          <a:xfrm>
            <a:off x="468360" y="1125360"/>
            <a:ext cx="3836880" cy="5354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-367920" y="-17640"/>
            <a:ext cx="701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Декоративный пейза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687280" y="333360"/>
            <a:ext cx="314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ench Script MT"/>
              </a:rPr>
              <a:t>В</a:t>
            </a:r>
            <a:r>
              <a:rPr b="0" lang="ru-RU" sz="4800" spc="-1" strike="noStrike">
                <a:solidFill>
                  <a:srgbClr val="000000"/>
                </a:solidFill>
                <a:latin typeface="French Script MT"/>
              </a:rPr>
              <a:t> графи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abrakadabra"/>
          <p:cNvPicPr/>
          <p:nvPr/>
        </p:nvPicPr>
        <p:blipFill>
          <a:blip r:embed="rId1"/>
          <a:stretch/>
        </p:blipFill>
        <p:spPr>
          <a:xfrm>
            <a:off x="371520" y="404640"/>
            <a:ext cx="2881440" cy="3362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autumn"/>
          <p:cNvPicPr/>
          <p:nvPr/>
        </p:nvPicPr>
        <p:blipFill>
          <a:blip r:embed="rId2"/>
          <a:stretch/>
        </p:blipFill>
        <p:spPr>
          <a:xfrm>
            <a:off x="2717640" y="2421000"/>
            <a:ext cx="3410280" cy="410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pointbreak"/>
          <p:cNvPicPr/>
          <p:nvPr/>
        </p:nvPicPr>
        <p:blipFill>
          <a:blip r:embed="rId3"/>
          <a:stretch/>
        </p:blipFill>
        <p:spPr>
          <a:xfrm>
            <a:off x="6084720" y="549360"/>
            <a:ext cx="2665440" cy="34034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mg026"/>
          <p:cNvPicPr/>
          <p:nvPr/>
        </p:nvPicPr>
        <p:blipFill>
          <a:blip r:embed="rId1"/>
          <a:stretch/>
        </p:blipFill>
        <p:spPr>
          <a:xfrm>
            <a:off x="324000" y="2660760"/>
            <a:ext cx="4535280" cy="3227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img027"/>
          <p:cNvPicPr/>
          <p:nvPr/>
        </p:nvPicPr>
        <p:blipFill>
          <a:blip r:embed="rId2"/>
          <a:stretch/>
        </p:blipFill>
        <p:spPr>
          <a:xfrm>
            <a:off x="4906800" y="681120"/>
            <a:ext cx="3999240" cy="3095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684360" y="692280"/>
            <a:ext cx="377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French Script MT"/>
              </a:rPr>
              <a:t>Декоративно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15520" y="1628640"/>
            <a:ext cx="381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French Script MT"/>
              </a:rPr>
              <a:t>графическ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26200" y="4005360"/>
            <a:ext cx="295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French Script MT"/>
              </a:rPr>
              <a:t>Фактур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32320" y="5013360"/>
            <a:ext cx="32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French Script MT"/>
              </a:rPr>
              <a:t>плоск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155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1155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115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115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155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1155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115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115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img024"/>
          <p:cNvPicPr/>
          <p:nvPr/>
        </p:nvPicPr>
        <p:blipFill>
          <a:blip r:embed="rId1"/>
          <a:stretch/>
        </p:blipFill>
        <p:spPr>
          <a:xfrm>
            <a:off x="324000" y="260280"/>
            <a:ext cx="4114800" cy="4549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img025"/>
          <p:cNvPicPr/>
          <p:nvPr/>
        </p:nvPicPr>
        <p:blipFill>
          <a:blip r:embed="rId2"/>
          <a:stretch/>
        </p:blipFill>
        <p:spPr>
          <a:xfrm>
            <a:off x="4572000" y="2060640"/>
            <a:ext cx="4321080" cy="454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17:06:07Z</dcterms:created>
  <dc:creator>Лёня</dc:creator>
  <dc:description/>
  <dc:language>en-US</dc:language>
  <cp:lastModifiedBy>zaw2</cp:lastModifiedBy>
  <dcterms:modified xsi:type="dcterms:W3CDTF">2019-11-29T07:26:00Z</dcterms:modified>
  <cp:revision>16</cp:revision>
  <dc:subject/>
  <dc:title>Слайд 1</dc:title>
</cp:coreProperties>
</file>