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TO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presProps" Target="presProps.xml"/><Relationship Id="rId112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6-03-25T16:18:03.953000000" idx="1">
    <p:pos x="3004" y="228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BE6-E865-4B0E-95DE-83C131E0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CDA-7E66-4134-A8E0-085E3F4E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DF1-44C6-4DDA-981F-8AE5C3A4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097-355E-40DC-BEE3-A67E6B4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351-D3F3-440A-9F16-23E343F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A1A-0999-42C9-A51A-6A5927BB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47E-1DA4-488A-B153-7750CB2A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B89-7B2C-412F-8A26-318A2B11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712-0B99-44B7-B3C3-4330C516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34C-3532-4A76-9BA6-69BB567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459-D305-4FA1-9EEA-DCAB1B6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CFF-D7AE-4FBC-B9BB-ED4F289E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6DB-320B-4FF9-A868-71638C3C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comments" Target="../comments/comment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59280" y="333360"/>
            <a:ext cx="5760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59200" cy="414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3429000"/>
            <a:ext cx="8281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"Хочешь ста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отличником?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З.Кто сказал слова: «Математику уж затем учить надо, что она ум в порядок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приводит?»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А. Лобачевский</a:t>
            </a: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Б. Ломоносов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В. Аристотель</a:t>
            </a: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С. Декар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12.Ребро куба увеличили в 2 раза. Во сколько раз увеличится его объем?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В 2 раза</a:t>
            </a: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Б. В 4 раза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В. В 8 раз</a:t>
            </a: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С. В 12 ра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0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В. В 8 ра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3.Каким графиком можно изобразить пословицу «Как аукнется, так и откликнется»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У = х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Б. У = х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С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332000" y="5291280"/>
                <a:ext cx="187308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435640" y="5516640"/>
                <a:ext cx="2305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3520"/>
                            </p:stCondLst>
                            <p:childTnLst>
                              <p:par>
                                <p:cTn id="14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19"/>
                            </p:stCondLst>
                            <p:childTnLst>
                              <p:par>
                                <p:cTn id="14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. У = 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8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4.Откуда был родом Пифагор?</a:t>
            </a:r>
            <a:br>
              <a:rPr sz="66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. Остров Самос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. Остров Лесбос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. Остров Крит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. Остров Ита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FF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53320" y="4221000"/>
            <a:ext cx="22906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0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6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3280"/>
                            </p:stCondLst>
                            <p:childTnLst>
                              <p:par>
                                <p:cTn id="14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3640" y="3860280"/>
            <a:ext cx="828036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. Остров </a:t>
            </a:r>
            <a:br>
              <a:rPr sz="9600"/>
            </a:b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Само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9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15.Вкакой стране самая большая численность населения?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В России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Б. В США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В Китае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С. В Японии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В Кита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0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0716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ПОЗДРАВЛЯЮ!</a:t>
            </a:r>
            <a:br>
              <a:rPr sz="8200"/>
            </a:b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Вы заработали несгораемую оценку - «</a:t>
            </a:r>
            <a:r>
              <a:rPr b="1" lang="en-US" sz="8200" spc="-1" strike="noStrike">
                <a:solidFill>
                  <a:srgbClr val="fb1919"/>
                </a:solidFill>
                <a:latin typeface="Arial"/>
              </a:rPr>
              <a:t>5</a:t>
            </a: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0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Arial"/>
              </a:rPr>
              <a:t>Б. Ломонос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89000"/>
            <a:ext cx="820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57760" y="41400"/>
            <a:ext cx="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monosov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2808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4.Каким числом является сумма натуральных чисел?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А. Целым</a:t>
            </a: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Б. Положительным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В. Натуральным,        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Arial"/>
              </a:rPr>
              <a:t>С. Отрицательны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07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cc00"/>
                </a:solidFill>
                <a:latin typeface="Arial"/>
              </a:rPr>
              <a:t>В. Натуральным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5.Какое число является корнем уравнения 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2 = (-1)</a:t>
            </a:r>
            <a:r>
              <a:rPr b="1" lang="en-US" sz="6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- 5 • (-1) + х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               Б. 3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В. -2               С. -3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Arial"/>
              </a:rPr>
              <a:t>В. -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Вы заработали первую несгораемую оценку - «</a:t>
            </a:r>
            <a:r>
              <a:rPr b="1" lang="en-US" sz="5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». Вы имеете возможность уйти с выигрышем. Или хотите продолжить игр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6. Периметр основания куба равен 12см. Чему равен объем куба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А. 27см</a:t>
            </a:r>
            <a:r>
              <a:rPr b="1" lang="en-US" sz="6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   Б. 36см</a:t>
            </a:r>
            <a:r>
              <a:rPr b="1" lang="en-US" sz="6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216см</a:t>
            </a:r>
            <a:r>
              <a:rPr b="1" lang="en-US" sz="6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   С. 48см</a:t>
            </a:r>
            <a:r>
              <a:rPr b="1" lang="en-US" sz="6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. 27см</a:t>
            </a:r>
            <a:r>
              <a:rPr b="1" lang="en-US" sz="96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7.Какой ученый создал руководство по математике под названием «Начала»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Пифагор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Б.Архимед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С. Фалес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4000" y="189000"/>
            <a:ext cx="882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b1919"/>
                </a:solidFill>
                <a:latin typeface="Times New Roman"/>
              </a:rPr>
              <a:t>Правила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b1919"/>
              </a:solidFill>
              <a:latin typeface="Times New Roman"/>
              <a:ea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496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Игроком становится тот, кто верно ответит на вопросы отборочного 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896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грок отвечает на вопросы и за каждый верный ответ получает баллы. В случае неверного ответа игрок выбывает из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Игра ведется до 5 баллов. Первые 5 вопросов оценка «3», 10 вопросов оценка «4», 15 вопросов оценка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2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6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Евкли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0"/>
            <a:ext cx="8064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2735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8. Пять землекопов за 5 часов выкопают 5 метров канавы. Сколько землекопов за 100 часов выкопают 100 метров канавы?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50 землекопов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Б.  20 землекопов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10 землекопов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С.    5 землекопов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cc00"/>
                </a:solidFill>
                <a:latin typeface="Arial"/>
              </a:rPr>
              <a:t>С. 5 землекопов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0240" indent="-3024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Условный знак для обозначения чисел - это ...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А. То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Б. Тире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. Цифр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С. Бук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ru-RU" sz="9600" spc="-1" strike="noStrike">
                <a:solidFill>
                  <a:srgbClr val="00cc00"/>
                </a:solidFill>
                <a:latin typeface="Arial"/>
              </a:rPr>
              <a:t>. Циф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Трапеция с древнегреческого означает ..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А. Столик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Б. Лестница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В. Парус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С. Плоскость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14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. Столи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ы заработали вторую несгораемую оценку - «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». Вы имеете возможность уйти с выигрышем. Или хотите продолжить игр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0240" indent="-3024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Как переводится слово «геометрия»?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А. Наука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Б. Измерение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В. Изучение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С. Землемерие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2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cc00"/>
                </a:solidFill>
                <a:latin typeface="Arial"/>
              </a:rPr>
              <a:t>С. Землемерие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Четыре варианта ответов проецируются на экран. Используются подсказки: «50x50»; «Звонок другу» (каждый участник выбирает себе друга из аудитории); «Помощь зала» (каждому выдается набор карточек из цветного картона для сигнализации ответа: А — красная, В — желтая, С — зеленая, Д — синяя). В отборочных турах участвует все. На обдумывание ответа дается 1 минута. За правильный ответ игроку дается один жетон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2.Что означает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«параллельные прямые»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54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Лежащие в одной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лоскости    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. Непересекающиеся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дущие рядом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. Разные пря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860640"/>
            <a:ext cx="8820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Б. Непересекающие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рксинус это -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.  Число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Б.  Угол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.  Поняти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.  Бу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 Уго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оординатная ось в пространстве не может называться ..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.   Координатой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.   Абсциссой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.   Ординатой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.   Аппликат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86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cc00"/>
                </a:solidFill>
                <a:latin typeface="Arial"/>
              </a:rPr>
              <a:t>А.Координато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Сколько диагоналей можно провести в треугольнике?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 Одну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Б. Ни одной</a:t>
            </a:r>
            <a:br>
              <a:rPr sz="6800"/>
            </a:b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B. Две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    С. Три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Ни одно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Поздравляю!</a:t>
            </a:r>
            <a:br>
              <a:rPr sz="9300"/>
            </a:b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Вы заработали </a:t>
            </a:r>
            <a:br>
              <a:rPr sz="9300"/>
            </a:b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 несгораемую оценку - «</a:t>
            </a:r>
            <a:r>
              <a:rPr b="1" lang="en-US" sz="9300" spc="-1" strike="noStrike">
                <a:solidFill>
                  <a:srgbClr val="fb1919"/>
                </a:solidFill>
                <a:latin typeface="Arial"/>
              </a:rPr>
              <a:t>5</a:t>
            </a:r>
            <a:r>
              <a:rPr b="1" lang="en-US" sz="93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11280" y="189000"/>
            <a:ext cx="813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торой отборочный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227628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. Расположите в порядке убывания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. Ар;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. Квадратный метр;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. Гектар;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 Квадратный дециметр.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87280" y="189000"/>
            <a:ext cx="7345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ервый отборочный т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1. Расположите в порядке возрастания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. Пуд;             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. Тонна;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. Центнер;      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 Золотни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539640" y="189000"/>
            <a:ext cx="8209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Arial"/>
              </a:rPr>
              <a:t>С. Гектар;</a:t>
            </a:r>
            <a:r>
              <a:rPr b="0" lang="ru-RU" sz="60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00cc00"/>
                </a:solidFill>
                <a:latin typeface="Arial"/>
              </a:rPr>
              <a:t>А. Ар; </a:t>
            </a:r>
            <a:br>
              <a:rPr sz="6000"/>
            </a:br>
            <a:r>
              <a:rPr b="1" lang="ru-RU" sz="6000" spc="-1" strike="noStrike">
                <a:solidFill>
                  <a:srgbClr val="00cc00"/>
                </a:solidFill>
                <a:latin typeface="Arial"/>
              </a:rPr>
              <a:t>В. Квадратный метр;</a:t>
            </a:r>
            <a:r>
              <a:rPr b="0" lang="ru-RU" sz="60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1" lang="ru-RU" sz="6000" spc="-1" strike="noStrike">
                <a:solidFill>
                  <a:srgbClr val="00cc00"/>
                </a:solidFill>
                <a:latin typeface="Arial"/>
              </a:rPr>
              <a:t>. Квадратный дециметр</a:t>
            </a:r>
            <a:r>
              <a:rPr b="1" lang="ru-RU" sz="56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26920" y="260280"/>
            <a:ext cx="7634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опросы второго 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46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ого действия нет в математике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Сложения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.  Умножения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Делени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. Отним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4652640"/>
            <a:ext cx="87692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С. Отниман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.Наименьшее натуральное число.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. 2.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Б. 0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B. 1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  С.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. 1</a:t>
            </a:r>
            <a:r>
              <a:rPr b="1" lang="en-US" sz="9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Многоугольник с наименьшим числом сторон называется ..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вадратом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. Треугольником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ямоугольником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. Ромб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07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cc00"/>
                </a:solidFill>
                <a:latin typeface="Arial"/>
              </a:rPr>
              <a:t>Б. Треугольником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.Три курицы за два дня несут 3 яйца. Сколько яиц снесут шесть куриц за 6 дней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Б. 12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С.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С.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5.Площадь квадрата равна 49см</a:t>
            </a:r>
            <a:r>
              <a:rPr b="1" lang="en-US" sz="6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. Чему равен его периметр?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4см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Б. 49см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8см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С. 21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ru-RU" sz="7200" spc="-1" strike="noStrike">
                <a:solidFill>
                  <a:srgbClr val="00cc00"/>
                </a:solidFill>
                <a:latin typeface="Arial"/>
              </a:rPr>
              <a:t>. Золотник </a:t>
            </a:r>
            <a:br>
              <a:rPr sz="7200"/>
            </a:br>
            <a:r>
              <a:rPr b="0" lang="ru-RU" sz="7200" spc="-1" strike="noStrike">
                <a:solidFill>
                  <a:srgbClr val="00cc00"/>
                </a:solidFill>
                <a:latin typeface="Arial"/>
              </a:rPr>
              <a:t>А. Пуд              </a:t>
            </a:r>
            <a:br>
              <a:rPr sz="7200"/>
            </a:br>
            <a:r>
              <a:rPr b="0" lang="ru-RU" sz="7200" spc="-1" strike="noStrike">
                <a:solidFill>
                  <a:srgbClr val="00cc00"/>
                </a:solidFill>
                <a:latin typeface="Arial"/>
              </a:rPr>
              <a:t>С. Центнер </a:t>
            </a:r>
            <a:br>
              <a:rPr sz="7200"/>
            </a:br>
            <a:r>
              <a:rPr b="0" lang="ru-RU" sz="7200" spc="-1" strike="noStrike">
                <a:solidFill>
                  <a:srgbClr val="00cc00"/>
                </a:solidFill>
                <a:latin typeface="Arial"/>
              </a:rPr>
              <a:t>В. Тонна;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89000"/>
            <a:ext cx="820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 28 с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Вы заработали первую несгораемую оценку - «</a:t>
            </a:r>
            <a:r>
              <a:rPr b="1" lang="en-US" sz="5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». Вы имеете возможность уйти с выигрышем. Или хотите продолжить игру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. Луч, делящий угол пополам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.   Биссектрис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.   Медиана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.   Высот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.   Средняя ли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2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.Биссектрис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7.Две дочери, две матери да бабушка с внучкой. Сколько всех?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Б. 5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С. 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С. 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Arial"/>
              </a:rPr>
              <a:t>8.Число </a:t>
            </a:r>
            <a:r>
              <a:rPr b="1" lang="el-GR" sz="6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6200" spc="-1" strike="noStrike">
                <a:solidFill>
                  <a:srgbClr val="000000"/>
                </a:solidFill>
                <a:latin typeface="Arial"/>
              </a:rPr>
              <a:t> - это число ...</a:t>
            </a:r>
            <a:br>
              <a:rPr sz="6200"/>
            </a:br>
            <a:r>
              <a:rPr b="1" lang="ru-RU" sz="6200" spc="-1" strike="noStrike">
                <a:solidFill>
                  <a:srgbClr val="000000"/>
                </a:solidFill>
                <a:latin typeface="Arial"/>
              </a:rPr>
              <a:t>А.рациональное</a:t>
            </a:r>
            <a:br>
              <a:rPr sz="6200"/>
            </a:br>
            <a:r>
              <a:rPr b="1" lang="ru-RU" sz="6200" spc="-1" strike="noStrike">
                <a:solidFill>
                  <a:srgbClr val="000000"/>
                </a:solidFill>
                <a:latin typeface="Arial"/>
              </a:rPr>
              <a:t>Б.иррациональное</a:t>
            </a:r>
            <a:br>
              <a:rPr sz="6200"/>
            </a:br>
            <a:r>
              <a:rPr b="1" lang="ru-RU" sz="6200" spc="-1" strike="noStrike">
                <a:solidFill>
                  <a:srgbClr val="000000"/>
                </a:solidFill>
                <a:latin typeface="Arial"/>
              </a:rPr>
              <a:t>В.натуральное</a:t>
            </a:r>
            <a:r>
              <a:rPr b="1" lang="ru-RU" sz="6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200"/>
            </a:br>
            <a:r>
              <a:rPr b="1" lang="ru-RU" sz="6200" spc="-1" strike="noStrike">
                <a:solidFill>
                  <a:srgbClr val="000000"/>
                </a:solidFill>
                <a:latin typeface="Arial"/>
              </a:rPr>
              <a:t>С. целое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429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cc00"/>
                </a:solidFill>
                <a:latin typeface="Arial"/>
              </a:rPr>
              <a:t>Б.Иррациональное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9.Линия, являющаяся графиком функции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en-US" sz="5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 называется ...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Б. Гипербола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Парабола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С. Кривая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414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парабол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.Сколько лет рыбачил старик из «Сказки о рыбаке и рыбке» А.С. Пушкина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ЗО лет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Б. З года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25 лет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С. 33 г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920" y="260280"/>
            <a:ext cx="7634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опросы первого 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0360" indent="0">
              <a:buNone/>
              <a:tabLst>
                <a:tab algn="l" pos="0"/>
                <a:tab algn="l" pos="53964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10. Функция у = а</a:t>
            </a:r>
            <a:r>
              <a:rPr b="1" lang="en-US" sz="64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называется ..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A. Линейной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Б. Степенной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Показательной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С. Логарифмической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cc00"/>
                </a:solidFill>
                <a:latin typeface="Arial"/>
              </a:rPr>
              <a:t>B.показательной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Вы заработали вторую несгораемую оценку - «</a:t>
            </a:r>
            <a:r>
              <a:rPr b="1" lang="en-US" sz="58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». Вы имеете возможность уйти с выигрышем. Или хотите продолжить игр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1 .Кто ввел прямоугольную систему координат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ифаго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. Декарт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ьютон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. Ви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539640" y="0"/>
            <a:ext cx="82090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Декар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30034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250"/>
                            </p:stCondLst>
                            <p:childTnLst>
                              <p:par>
                                <p:cTn id="8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2.Утверждения, которые не доказываются ...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Аксиома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Б. Предложение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Лемма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. Теоре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A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ксиома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13.Отрезок, соединяющий центр окружности с точкой окружности называется ...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Диаметр</a:t>
            </a: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Б. Хорда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Радиус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С. Касательна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0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Радиу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14.Периметр прямоугольника равен 24см. чему равна сторона квадрата с тем же периметром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4 см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    Б. 6 см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8 см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    С. З см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136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С. 33г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6 с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15.Расстояние отточки А(-2;5;1) до плоскости ОХУ равно ..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А. 2.      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Б. 5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В. 1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       С. -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В.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ПОЗДРАВЛЯЮ!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ы заработали несгораемую оценку - «</a:t>
            </a:r>
            <a:r>
              <a:rPr b="1" lang="en-US" sz="8000" spc="-1" strike="noStrike">
                <a:solidFill>
                  <a:srgbClr val="fb1919"/>
                </a:solidFill>
                <a:latin typeface="Arial"/>
              </a:rPr>
              <a:t>5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Расположить ученых в хронологическом порядке</a:t>
            </a:r>
            <a:br>
              <a:rPr sz="5800"/>
            </a:b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А. Ньютон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. Платон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 Эйнштейн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. Ковалевска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68360" y="260280"/>
            <a:ext cx="820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3357720"/>
            <a:ext cx="19796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Пла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979640" y="335772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Нью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27640" y="2491920"/>
            <a:ext cx="2449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Ковалев-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76720" y="3357360"/>
            <a:ext cx="22669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Эйнштей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2022480" cy="2808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979640" y="2492280"/>
            <a:ext cx="2441520" cy="2735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427640" y="2421000"/>
            <a:ext cx="2468520" cy="2735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892920" y="2421000"/>
            <a:ext cx="2251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750"/>
                            </p:stCondLst>
                            <p:childTnLst>
                              <p:par>
                                <p:cTn id="10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4250"/>
                            </p:stCondLst>
                            <p:childTnLst>
                              <p:par>
                                <p:cTn id="10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25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1750"/>
                            </p:stCondLst>
                            <p:childTnLst>
                              <p:par>
                                <p:cTn id="10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8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9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2250"/>
                            </p:stCondLst>
                            <p:childTnLst>
                              <p:par>
                                <p:cTn id="10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325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11280" y="1890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опросы третьего 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.Как называется дробь, у которой числитель меньше знаменателя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.  Неправильная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быкновенна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.  Десятичн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86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cc00"/>
                </a:solidFill>
                <a:latin typeface="Arial"/>
              </a:rPr>
              <a:t>A.Правильная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.Каким числом является сумма целых чисел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туральным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. Рациональным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Целым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. Действительны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B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Целы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33520"/>
                <a:tab algn="l" pos="214956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 Какой из четырехугольников не является параллелограммом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Квадрат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. Трапеция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Ромб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. Прямоуголь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3.Сколько лет просидел на печи Илья Муромец?</a:t>
            </a:r>
            <a:br>
              <a:rPr sz="7300"/>
            </a:b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А.  10.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      Б. 23</a:t>
            </a:r>
            <a:br>
              <a:rPr sz="7300"/>
            </a:b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В.  33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      С. 3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В.  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4.Наименьшее простое число.</a:t>
            </a:r>
            <a:br>
              <a:rPr sz="8200"/>
            </a:b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А. 2     </a:t>
            </a: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Б. 0</a:t>
            </a:r>
            <a:br>
              <a:rPr sz="8200"/>
            </a:b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В. 1</a:t>
            </a: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   С. 3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.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.Говорят, что математика - царица всех наук, а царица математики ..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. Арифметика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лгебра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. Тригономет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Арифме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0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ы заработали первую несгораемую оценку — «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». Вы имеете возможность уйти с выигрышем. Или хотите продолжить игр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6.Простейшая линия в геометрии ...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A. Кривая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Б. Прямая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 Парабола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С.  Гипербол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 пряма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7.Исключите лишнее слово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Сумма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Б. Множитель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Разность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С. Частн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Трапец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4581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Множите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0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1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.В переводе с греческого «конус» означает ..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Сосновая шишка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. Вулкан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Волчо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. Пару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436572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А. Сосновая </a:t>
            </a:r>
            <a:br>
              <a:rPr sz="9600"/>
            </a:b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шиш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5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9.Горело семь свечей, две погасло. Сколько свечей осталось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        Б. 7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         С. 6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A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.Основания трапеции равны Зсм и 7см. Чему равна длина средней линии трапеции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. 7 см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Б. 5 см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. 3,5 см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С. З 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0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Б. 5 с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Вы заработали вторую несгораемую оценку — «</a:t>
            </a:r>
            <a:r>
              <a:rPr b="1" lang="en-US" sz="56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». Вы имеете возможность уйти с выигрышем. Или хотите продолжить игру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.Отрезок, соединяющий вершину треугольника с серединой противоположной стороны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иан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.  Биссектриса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.  Средняя ли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539640" y="476280"/>
            <a:ext cx="8209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Правильный 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A.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Медиана</a:t>
            </a:r>
            <a:r>
              <a:rPr b="1" lang="en-US" sz="9600" spc="-1" strike="noStrike">
                <a:solidFill>
                  <a:srgbClr val="00cc00"/>
                </a:solidFill>
                <a:latin typeface="Arial"/>
              </a:rPr>
              <a:t>	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0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8:21:21Z</dcterms:created>
  <dc:creator>ANTON</dc:creator>
  <dc:description/>
  <dc:language>en-US</dc:language>
  <cp:lastModifiedBy>SamLab.ws</cp:lastModifiedBy>
  <dcterms:modified xsi:type="dcterms:W3CDTF">2009-11-10T18:18:35Z</dcterms:modified>
  <cp:revision>13</cp:revision>
  <dc:subject/>
  <dc:title>Слайд 1</dc:title>
</cp:coreProperties>
</file>