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E31-6E30-47CA-AA86-9EF1480B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A3D-58EF-41BD-8FB9-A99C30C6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6E0-1184-4967-9206-08B48EEE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70C-68CF-4294-837B-4DDE4C69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E646-833A-494A-B01B-A688AA79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E555-C7D0-4844-B25B-B721BB9E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B6FF-5E09-44E1-9F02-FDE5D808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DA08-5959-4C52-B25E-68950FBE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60DF-BC95-4944-9714-66A3C5F4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1A45-61CE-4A29-A736-57BB82C6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1A4B-C4E5-4326-BA56-9208DD80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4A8-6CAE-4688-93B4-DECAE809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E4DD-5488-47D8-A5F3-DBA5CDA3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9B3F-7E0A-4EED-8D5B-E93D61E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5B7F-A4AF-4BB0-8F51-644B067E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B763-FB40-4F92-ABDB-2B766EB2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2202-9C3C-449C-88D6-1833103D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6141-6945-4F3E-95DC-FADB59CC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5E0A-B4EC-42AA-AF11-4AFADF94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D019F-F5C7-4222-A17C-20737F89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2130-E75C-4FE5-AF08-6A8AF9CC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A8F7-73D4-49DA-9C04-0751886F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5EA-C271-4715-BF21-208B2123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800A-FF42-4B6B-8333-9F132908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6279-7072-44E7-B8FF-D0DBDEBF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1AAD-FA95-4D10-A3DE-E4DB1DC0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D0BF-5DCB-4126-A2D9-39C5EBF9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899E-62D3-45D5-BB44-E8718A32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DC595-3F4D-43CF-96B6-BF390692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A2FE-D792-4061-A41C-E13E666B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03A-5444-4CFD-940C-EFF515A6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8BE-E10C-4C2B-B809-5879E729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7AA-FD17-4C94-8648-89A83605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FF6-7C37-4726-8A3D-C9C67CE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E65-2B85-459D-B650-CBF37C8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CD0-9610-4A74-B270-BF3BEF2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BF0F-8464-4C4D-9195-108F337EDC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FB8C-86C1-484D-9036-FCFF48A8D17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B913-8BB6-48D5-845F-A5BD4565693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Игры на уроках географ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 и прочитайте предложения о Средиземном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ится к …. оке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лагается в … части ….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единяется с …океаном через …про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приблизительную длину … км и ширину … км (определите с помощью масштаб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ерной, западной и восточной частями омывает материк…, а южной – материк…. Имеет крупные остров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ставьте пар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11280" y="1484280"/>
          <a:ext cx="3097080" cy="475308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звание при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ко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г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219640" y="1557360"/>
          <a:ext cx="3322800" cy="437832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Что измеря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зду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е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мосферное д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жность возду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а «Что такое, кто такой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14240" y="1294920"/>
            <a:ext cx="3886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анх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с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ь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ри-Л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апунд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андина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мберл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«Что такое, кто тако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58920" y="1196640"/>
            <a:ext cx="381636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лх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ды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ен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анг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ш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ык-К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ла-М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страну по описанию. Назови сто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о, относящееся к странам Юго-Восточной Азии, занимает архипелаг Большие Зондские остр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ходится в экваториальном климатическом поя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дном из островов (Ява) находится действующий вулкан Крака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тели этого государства исповедуют ислам и будд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ица - Джак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страну по описанию. Назови сто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европейская страна находится на одном из крупных полуостровов Евр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ата лесами, нефтью, газом. Население занимается рыболов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рритории страны проходят старые разрушенные г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тель этой страны занял в 2009 году первое место на конкурсе Еврови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страну по описанию. Назови сто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азиатское государство не имеет выхода в океан, что затрудняет его экономическое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ую часть территории занимают горы или плоскогор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мат тропический, засушли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юге граничит с Пакистаном, на западе – с Ира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знайте реку по её кон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rcRect l="23962" t="51341" r="66665" b="24910"/>
          <a:stretch/>
        </p:blipFill>
        <p:spPr>
          <a:xfrm>
            <a:off x="457200" y="1447920"/>
            <a:ext cx="2325600" cy="4419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rcRect l="14116" t="53842" r="75573" b="29911"/>
          <a:stretch/>
        </p:blipFill>
        <p:spPr>
          <a:xfrm>
            <a:off x="3124080" y="1600200"/>
            <a:ext cx="3030480" cy="3581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rcRect l="31474" t="51573" r="57747" b="23429"/>
          <a:stretch/>
        </p:blipFill>
        <p:spPr>
          <a:xfrm>
            <a:off x="6400800" y="1523880"/>
            <a:ext cx="2322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гра «Найди лишне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нисей, Лена, Амур, Печ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бань, Дон, Днепр, Тер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спийское, Байкал, Онежское, Ладожск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л, Нева,  Волга, Ка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люй, Шилка, Аргунь, Сунга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038480" y="1447920"/>
            <a:ext cx="1143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334120" y="2133720"/>
            <a:ext cx="1676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914400" y="2895480"/>
            <a:ext cx="2438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133720" y="396252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838080" y="46483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230364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ови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тол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58920" y="404280"/>
            <a:ext cx="51130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ре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шкортоста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сто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захста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мало-Ненецкий А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спублика Чеч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спублика Ко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нецкий А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геста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уз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лдав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вердловскяа обла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спублика Ко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-266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и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рь себя: Решаем кроссвор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143000"/>
          <a:ext cx="8229600" cy="547992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172"/>
          <p:cNvSpPr/>
          <p:nvPr/>
        </p:nvSpPr>
        <p:spPr>
          <a:xfrm>
            <a:off x="685800" y="12193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         р          и            з           л       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3"/>
          <p:cNvSpPr/>
          <p:nvPr/>
        </p:nvSpPr>
        <p:spPr>
          <a:xfrm>
            <a:off x="457200" y="17524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        а           р            и            б          с        к          о        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4"/>
          <p:cNvSpPr/>
          <p:nvPr/>
        </p:nvSpPr>
        <p:spPr>
          <a:xfrm>
            <a:off x="685800" y="23623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        а         р           т         о          ф         е         л        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5"/>
          <p:cNvSpPr/>
          <p:nvPr/>
        </p:nvSpPr>
        <p:spPr>
          <a:xfrm>
            <a:off x="685800" y="2895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       а          н           а         д   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6"/>
          <p:cNvSpPr/>
          <p:nvPr/>
        </p:nvSpPr>
        <p:spPr>
          <a:xfrm>
            <a:off x="6858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       о         р           д          и        л          ь          е         р         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7"/>
          <p:cNvSpPr/>
          <p:nvPr/>
        </p:nvSpPr>
        <p:spPr>
          <a:xfrm>
            <a:off x="609480" y="39625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         у         к            у        р          у          з   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8"/>
          <p:cNvSpPr/>
          <p:nvPr/>
        </p:nvSpPr>
        <p:spPr>
          <a:xfrm>
            <a:off x="685800" y="4572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9"/>
          <p:cNvSpPr/>
          <p:nvPr/>
        </p:nvSpPr>
        <p:spPr>
          <a:xfrm>
            <a:off x="609480" y="44956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         м         а          з         о           н         к      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0"/>
          <p:cNvSpPr/>
          <p:nvPr/>
        </p:nvSpPr>
        <p:spPr>
          <a:xfrm>
            <a:off x="685800" y="50292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        н          д        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1"/>
          <p:cNvSpPr/>
          <p:nvPr/>
        </p:nvSpPr>
        <p:spPr>
          <a:xfrm>
            <a:off x="685800" y="5638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        и          с           с         и        с           и         п        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2"/>
          <p:cNvSpPr/>
          <p:nvPr/>
        </p:nvSpPr>
        <p:spPr>
          <a:xfrm>
            <a:off x="609480" y="6095880"/>
            <a:ext cx="6782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3"/>
          <p:cNvSpPr/>
          <p:nvPr/>
        </p:nvSpPr>
        <p:spPr>
          <a:xfrm>
            <a:off x="609480" y="60958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         р           а          з         и          л          и       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гра «Что такое? Кто та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18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уда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пицбер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рен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х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аку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ппен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ык-К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ы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гра «Найди соответств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золис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нозе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злотно-та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та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озем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055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родные з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ажные субтроп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шанный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пусты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971800" y="2209680"/>
            <a:ext cx="228600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905120" y="2971440"/>
            <a:ext cx="34290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3048120" y="1980720"/>
            <a:ext cx="2286000" cy="304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2819520" y="2437920"/>
            <a:ext cx="243828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2743200" y="4038480"/>
            <a:ext cx="251460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1752480" y="3352320"/>
            <a:ext cx="342900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114800" y="3048120"/>
            <a:ext cx="114300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 предложени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Волга впадает в … и относится к …бассей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длинная река Евразии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полноводная река Евразии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и … океана отличаются непостоянством: зимой переполняются, а летом мел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и, впадающие в Черное море, относятся к бассейну …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чная мерзлота преобладает в … части мат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Ленинград стоит на берегу озер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е климатический пояс по описан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м здесь устанавливается жаркая, сухая погода. Дожди очень редки, безоблачная по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ой, наоборот, часто идут дожди, но тепло. Дожди приносят влажные западные ветры. Температура зимой выше 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убтропический (побережье Средиземного мор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климатический пояс по описа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гкая зима, средняя температура января выше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, а летом от +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+18м С. Осадки выпадают постоянно, их много, более 1000 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преобладает облачная пасмурная погода. Редко бывают солнечные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ой погода неустойчива, часты моросящие дожди, долго держится туман. Снег выпадает редко и быстро 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Морской климат умеренного поя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климатический пояс по описа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ушные массы  с Тихого океана летом приносят большое количество осадков, густую облачность и понижение температуры. Потоки дождя льют не переставая. Реки переполняются водой и выходят из бере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ой из внутренних частей материка приходит более холодный континентальный воздух, температура может упасть до 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Субтропический муссо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43:16Z</dcterms:created>
  <dc:creator>Роза</dc:creator>
  <dc:description/>
  <dc:language>en-US</dc:language>
  <cp:lastModifiedBy>МБОУ СОШ</cp:lastModifiedBy>
  <dcterms:modified xsi:type="dcterms:W3CDTF">2018-11-14T21:34:35Z</dcterms:modified>
  <cp:revision>10</cp:revision>
  <dc:subject/>
  <dc:title>Игры на уроках географии</dc:title>
</cp:coreProperties>
</file>