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6DD-05AB-45D6-861F-F5E9DA6F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FEB-0E70-43CC-AA91-6D197AD6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79B-07A3-4789-880F-277CEE26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441-50C3-43B6-946C-7BE1A60A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1869-D046-4E3E-9E10-964CE7A7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D99-CA22-41DB-A99C-AD21A0E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AA81-0C27-4BCC-823C-46D2514F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911-897B-4E8E-8832-0EF241A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BED8-D907-44F6-9419-50AD40E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BE80-47ED-48E5-B52A-D8CC3A4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BAD6-2EC1-419C-A258-1B2F230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A9B-AD4D-4CD2-8AD7-B8756F3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9DF5-AC07-418D-BD33-6D127AD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28F-26D2-4049-A5CD-E609C2F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10C0-59D2-4A6A-9BED-CBE5403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B8B-9B39-4945-A1E2-A074AFB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23F-47AD-4766-9966-4ACFDCAB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E4E-087F-44F8-9B1C-4D145D0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9AE-8828-4253-AFD4-A41B0F52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D90-8200-49EF-A89A-8BE06448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C29-BBAC-4CFF-8BEC-C160D19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31E-4022-48F7-9122-389A24D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725-5A99-4C22-894D-F58A1E6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F39-4DE5-467D-8B3B-DA86BFF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be0e3">
                  <a:alpha val="3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659E-DDAA-4DDB-80BA-2CAC07E07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be0e3">
                  <a:alpha val="3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536-732A-41C6-B753-B4E0A5D3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нтеллектуальная  игра  «Эруди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Тур 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I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– Аукцион 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ая  змея  является  самой  длинной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чему  осьминога  называют  водным  хамелеоном?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ие  рыбы  носят  название  инструменто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ие  животные  спят  с  откры-тыми  глазам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8.Какой  элемент  называют  царём  мёртвой  природы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9.Газообразное  вещество,  без  которого  не  могут  развиваться  растени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.Для  чего  необходим  СО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.Какой  элемент  называют  царём  живой  природы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Тур  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«Чёрный  ящик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Что  у  большинства  народов  издавна служило  символом  постоянства  и  нерушимой  друж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линий Старший описал случа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иникийские мореплаватели, застигну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штормом, разложили костер на песча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ерегу. Котел они поставили на гл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ды, которую везли на продаж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же они обнаружили на кострище ут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Тур  </a:t>
            </a: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IV</a:t>
            </a: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 – Супериг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 какого  животного  глаза  вращаются  на  360  граду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 хамелеон;     2.  крокодил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змея;     4.  черепаха.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  Назовите  самого  крупного  па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 птицеед;     2.  каракурт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тарантул;     4.  паук-крестов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 У  какой  пресноводной  рыбы  нет  чешуи?          1.  минога;      2.  осетр;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сом;      4.  щука.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  Какая  птица  может  бегать  под  водой?   1.  чомга;     2.  альбатрос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гагара;     4.  оляпка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280" y="475920"/>
            <a:ext cx="7715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. Какая  из  этих  бабочек  является  самой  малень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 моль;     2.  стеклянница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шёлкопряд;       4.  мотылёк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. Кто  «слышит  ногам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 саранча;      2.  сверчок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таракан;       4.  кузнечик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. Какая  птица  выводит  птенцов  зи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 филин;      2.  клёст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стриж;     4.  дятел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. Берега  какой  реки  находятся  в  разных  частях  света:  правый – в  Европе,  левы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 Азии?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 Урал;       2.  Эльба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Кама;       4.  Волг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9. Столица  какого  государства  является  самой  северной  из  всех  столиц 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Стокгольм;      2.  Хельсинки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 Осло;       4.  Рейкьяв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0. Какие  люди  самые  малорослые 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пигмеи;      2.  кочуа;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 зелевары;       4.  аква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. О  каком  дереве  арабы  говорят:  «Цари-ца  оазиса, она  купает  свои  ноги  в  воде,  а  прекрасную  голову – в  огне  солнеч-ных  луче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баобаб;     2.  дуб;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 пальма;       4.  каштан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. Какое  простое  вещество  в  одних  слу-чаях  бывает  твёрдым,  а  в  других – очень  мягк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С,        2.  Н,        3.  Н2О,        4.  Р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3. Какое  стекло  растворяется  в  вод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O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;        2.  NO2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Na2SiO3;        4.  Na2O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4. Какие  известные  два  газа  не  ядовиты,  но  в  них  гибнут  живот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 CO2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O2 ;         2.  N2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O2;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 CO2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N2;         4.  O2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NH3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5280" y="1773360"/>
            <a:ext cx="83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 за  игру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 Каким  словом  одинаково  названы:  жук,  птица  и  крупное  животно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.  У  кого  шейных  позвонков  больше:  у  кита  или  у  жираф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.  Как  отличить  африканского  слона  от  индийского?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.  Есть  море,  в  котором   не  утонут  даже  не  умеющие  плавать  люди.  Назовите  это  мо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324000" y="0"/>
            <a:ext cx="8640720" cy="717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9. В  какое  озеро  впадает  336  рек,  а  вытекает  из  него  только  одна?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0. Существует  ли  такое  море,  у  которого  нет  берег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1. Как  очистить  яйцо  от  скорлупы,  не  разбивая 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. Почему  накалённый  металличес-кий  волосок  электрической  лам-почки  долгое  время  не перегорает?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3. Почему  мякоть  разрезанного  яблока  быстро  желте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4. Почему  пламя  стеариновой  све-чи  яркое,  а  у  спиртовой горелки –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Тур 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II</a:t>
            </a: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 – Светский  разгово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кой  иглой  нельзя  шит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  такое  кинологи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кие  цветы  особенно  популярны  среди  крупного  рогатого  скота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ая  большая  рыба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е  долгоживущее  дерев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рево,  превосходящее  по  высоте  все  остальные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.  Какие  птицы  ночуют  в  снег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.  Сколько  лошадей  в  одном  эскадр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.  Как  называется  большой  лошадиный  коллекти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0.Как  называется  «общежитие»  для  соба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1.Каких  живых  существ,  ведущих  ночной  образ  жизни,  можно  увидеть  при  дневном  свете  только  после  продолжительного  дожд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71640" y="5589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оп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.Назовите  птицу  и  фрукт,  имею-щие  одно  название?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3.Самый  высокий  действующий  вулкан  в  Росси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4.Где  находится  этот  вулкан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5.Какое  озеро  самое  большое  в  мире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.Где  находится  полюс  хол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верного  полушари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Прямоугольник с двумя вырезанными противолежащими углами 1"/>
          <p:cNvGrpSpPr/>
          <p:nvPr/>
        </p:nvGrpSpPr>
        <p:grpSpPr>
          <a:xfrm>
            <a:off x="0" y="981000"/>
            <a:ext cx="8819640" cy="5543280"/>
            <a:chOff x="0" y="981000"/>
            <a:chExt cx="8819640" cy="5543280"/>
          </a:xfrm>
        </p:grpSpPr>
        <p:pic>
          <p:nvPicPr>
            <p:cNvPr id="107" name="Прямоугольник с двумя вырезанными противолежащими углами 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8819640" cy="55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5760" y="1490760"/>
              <a:ext cx="7722360" cy="44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17.На  долю  какого  государства  выпадает  четверть  всех  землетрясений  в  мире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18.Какое  озеро  самое  глубокое  в  мире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19.Какой  полуостров  заявляет  о  себе,  что  он  невелик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20.Какая  впадина  является  глубо-чайшей  в  мировом  океане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21.Где  на  земном  шаре  день равен</a:t>
              </a:r>
              <a:r>
                <a:rPr b="0" lang="ru-RU" sz="3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ночи  в  течение  всего  года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10920" y="-243360"/>
            <a:ext cx="824364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22.Какое  море  в  древности  называлось  Янтарным?  Почему  это  море  так  называлос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23.В  Средней  Азии  есть  озеро,  в  одной  части  которого  вода  солёная,  а  в  другой  пресная.  Что  это  за  озер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24.Какие  два  элемента  в  свободном  состоянии  хорошо  горят  или  поддерживают  горение,  а  в  соединении  пригодны  для  тушения  ог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8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88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5.Какую  роль  выполняет  питьевая  сода,  когда  её  применяют  от  изжо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6.Какой  газ  называется  «веселя-щим»  и  почему  он  так  называет-с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7.Какое  распространённое  химичес-кое  соединение  впервые  было  применено  первобытным  чело-веком  и  для  чег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6:55:59Z</dcterms:created>
  <dc:creator>FuckYouBill</dc:creator>
  <dc:description/>
  <dc:language>en-US</dc:language>
  <cp:lastModifiedBy>компьютерный мир</cp:lastModifiedBy>
  <dcterms:modified xsi:type="dcterms:W3CDTF">2012-03-02T11:49:09Z</dcterms:modified>
  <cp:revision>55</cp:revision>
  <dc:subject/>
  <dc:title>Слайд 1</dc:title>
</cp:coreProperties>
</file>