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40F-6276-4CBA-BFE3-11882FB62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E7E-EDF2-4AE9-A4D2-D7F767B528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748-05A7-4C25-9BA5-2B268F50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128-A5F8-4C7F-9C2B-967BC665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4A450-B661-48A8-88E2-0573B232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EDC56-421A-4BDE-B640-B436DCB0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0F58D-03A6-47BE-98C8-F9B2A39F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CADEB-8EF1-4641-8E6E-12F5E92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1814D-D966-4037-8CE4-EE32CC4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1975D-0B28-4B17-8964-25E8DD2B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4D217-63CE-4062-A453-23841237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D466-BDA3-45E4-8567-3283F243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34CC0-8C72-404D-BB94-3AE2E63A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32AA0-059C-491F-9CF0-0BABD0F7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56A-D446-4A26-B666-F21FE21C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3B0FA-1ABF-4311-9057-4CE472A0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9871B-0DB3-4716-8D5E-E728C9D8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2335A-1C87-4C49-BF3A-6E935471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2AE25-181F-4B31-AC61-DF6DC504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D4EC0-A984-490D-BBB7-4D923B5B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4CED1-EEB8-4A88-B8C3-9F869FD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0ED28-576C-4B83-819E-7B80F11C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C1BEF-3E7F-4B07-8871-AA66A47F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8D677-9BB2-4A96-A9CA-872764F7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42CE3-F13E-423B-80FE-B2C6EB3E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E01-27F8-477C-82E1-B2DDE2B8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739C9-0C81-4E75-87EB-6BB9BF49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912D7-9EB2-4329-A57A-228AC67D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89A5-8EB5-4B88-BDDC-60CFA94B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C68B-A720-4C7C-87A9-98B12ABC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E925F-8A9D-4B43-8BFE-EA7588C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1AF75-535E-4936-B76A-FAD9131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8D7A-2C03-445D-9E0D-FD7BA14C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CB59-B2B9-4C24-8E5A-1DE5E64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5997-217B-4E66-9316-FE68F00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16DDA-9E95-49FC-BE2D-C1F40FF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AFB9-B22B-47A4-8219-196425A9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1C623-05E2-4EEC-943B-E0F9FB7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1353E-7BC9-4945-A581-43B83F19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3C173-C3DE-4FE3-BEE9-D90201A4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46CB7-A19C-4A5A-8289-FC844A7D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05DB5-A55F-4A70-8A32-3A0C9AD8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800CA-5868-4B60-8868-783829A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1B86B-5D2E-405B-9579-0FDF37FC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21673-5456-40DA-9F52-6E0D250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83D1D-8D38-44D7-B174-318EAA07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D97F1-F48F-4E92-8993-24F124B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165A-57DE-4E4B-9A4D-5E5740C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ADFC4-D65F-49BA-BF4F-470CBF7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6966E-5AF4-432E-ACA5-0EC3992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30C18-CFF0-42C4-91F9-E0BF1449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83E47-12A3-4989-8D7F-7E6A8459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D9A7D-68B3-4FB5-8C59-71FE4FC7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207C6-7D67-48CD-87E9-3F7F1DB7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979D1-F890-41FD-909F-B3F69953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9F0BB-94DB-4CED-A045-6C31831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B2D48-FEA4-42EC-B4E4-D1FF5F6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52578-90CF-4C95-BF3C-F3F5245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5280-03E2-4D5F-A3F4-3050627F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1280E-5FA2-4FB5-B616-BBDB580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903A2-9C69-4F61-9967-30CEEDC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6EEBF-9CA8-4973-98C1-F5544FA1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B4267-7490-49CA-83E4-EB53DC4F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DCA84-C378-4EEF-BA2A-FB9C71CC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1E73F-6F0A-429C-AAB3-5D44519D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D7D86-B6DB-485F-99C8-082870EE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ABD64-28F2-4E19-BAE9-992EC44D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CDD48-9A43-4774-B679-9F0FB9B2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C0424-2B0E-4C7B-97E8-1EB6FBA5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224E-0D92-4B46-95E9-3A3FE84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8B147-CCA2-4F83-82FC-8E88880C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91B05-0594-4170-BB40-FF1CADFE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77A04-4BC5-4657-A3B7-63178FDC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54B75-2088-4C6C-88DD-ABDB1216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1A094-4C3D-4DBE-9293-BF7D06D8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89411-E90B-4310-B2B7-098D178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969BD-1CF0-4E5D-B44E-4BE38B69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6C48D-9473-4399-ADE9-C0C4BF3D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290F0-4F94-4D6E-AC45-AC17538D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0229F-D752-4C28-8D58-34CF6C87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895-7FE8-4B18-AC79-8433234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7F5C3-29A8-411B-94C7-746BAA6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54A9F-4B18-4E8A-9A2C-44534A59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733BD-D434-47CA-8BD7-836DA5D7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A98AE-BCD8-4279-96CC-96BFA28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AB18F-6B51-4207-AB35-B596F4CD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AE797-63B0-4C66-983C-53EF9200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1295D-0809-467D-8D54-04A40978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EFDB0-528A-46DB-82D0-2BC7BBC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1D6E5-22B6-4F5A-9444-3B537480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E1797-8116-4DBD-B929-38E7F7CE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48A4-F658-412C-A8EF-4396463F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FA09D-FCEC-44FC-AE95-DFE74F98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A150C-EC90-4F66-B507-210EB051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210B1-48CB-45D5-B5D3-20FF3F68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7B615-95D4-4587-9D61-A0BB8B4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528A5-F60B-40F9-B4D6-44C38A51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B8FB3-9D59-467F-B509-FAD1E85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A39D1-E905-4E3E-8F20-7BBEC59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8A90C-101A-43D5-9B83-03F3BEC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3C88A-E879-4FAF-9344-BFDFC45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22A00-5E3F-468D-B227-DF4814F4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7C94-C99B-451D-A472-F13A8AE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B726B-38AA-4B8E-91FC-68D35920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8C81D-5ADB-4441-AE36-A927D603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52702-55DF-4006-9831-ED1DE1F6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347EF-C691-405C-91CE-41B68BE5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0383E-F8F0-4DA2-9261-44DBA018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D7AE4-D69E-40ED-949E-AABAE62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AD16C-E2A2-482B-8D3E-AB5FDFE6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F65D8-87CE-4478-86FE-03889800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F15DA-47F7-4ABC-B14E-9EBAC27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4DB2D-CD03-42FF-9046-27D58558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CE6-5E88-4937-B617-BD567E4A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2C7F-7651-4540-B0E3-B3CAEE7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818D8-72B2-4F07-BBB8-073E8C7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DB547-4EBE-429B-B521-C96576DB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B45D0-846A-48F7-BC7E-87E84DE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20760-918B-4A93-A7ED-AE82B1AD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8DEB3-CC45-4A54-AA75-C9E79DC8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6ED-E1BF-4E37-8361-FB20EB7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3FC-0D80-41FA-BC0D-FF90B713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E5E5-9363-437F-9691-A791CD0A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526E-0BED-45F8-929B-B44A77CE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7994-F59B-4F2C-8ED2-01E44B8B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FA42-E2A0-42EC-B0B3-BFFED1CC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34FC-E56E-4FA3-945D-69C97042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D37C-325F-4116-9EDF-CE554C11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A010-D1A5-4430-84E8-E67F1397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073-A3D6-4506-B857-C7A5BE3A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FE61-EBCC-404E-A902-39FB925B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9DCC-4F88-471D-B5A8-B8F918D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5C69-88FA-4CCD-B64D-BD259760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1A26-3A3C-4975-8281-13B2C6C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AB19-F533-4EF2-A79D-3442D1A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79AC-B9E7-462F-8C76-E165DEFA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2043-DFFA-487F-B31E-4AB80C3C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03F4-5D7C-4671-82B6-9142FD4C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427E-7B01-48B4-9784-998EFECE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4C59-F3A5-4F02-86E3-74A91536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5F3-AF3B-4FAC-9465-190C7C25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76CA-F83C-4573-838F-5091DAA6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3D15-4A3B-4451-BAF1-B2B1105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97AC-AFB3-44D0-869B-548E4E5D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D824-B633-4B8F-BC0F-4635ACF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02FD9-6255-41B3-9BD6-01523E9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CAE1-E198-4CE5-97E1-5011700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F0DF-445A-4658-B218-3AEC9E8C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68B7-A3C6-4542-B8AA-C0CDA2E0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9170-ECC6-47E3-A573-81FE0B3E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5E11-A72E-434C-997B-090F39CC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67D-41A8-4D8F-B885-DBE1DC56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EC021-1FAF-416C-ABAF-1ED8F7F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722A-5C94-43B0-8A3E-7DD909B5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3A2F-C7DF-48E5-957A-0CDBF54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4895-3BAE-4571-8A4A-53FF6291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F5EF-C64A-4437-AC78-BECC2E8E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2CD28-E612-4555-8452-554E42E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E3F89-8EA5-4638-BD89-50395DC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01DC-4AA9-4EA2-9527-96CBA53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FD17-7ACD-423E-8404-862D04F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A065A-CF5C-4C1A-8D7B-918A9951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2DB-B299-457A-8B37-DA3409BC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0B61-C6DF-4B6E-8C0F-5140B2B8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7D885-489B-4B29-A142-7985286D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D658-153E-4DD4-A7CF-ADDB9D3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CC090-8A19-4A3D-9900-BB95955A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EE23-DDDD-4660-90F8-F7E3942D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1A41F-EFDD-42D9-85F4-2F691515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C3DE-166B-49E1-9DC0-3D2BB30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E057-25AF-4590-964E-32D9DE11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8E44A-F9AD-4992-B0DC-D81936B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6119-4FF1-47FB-98CC-4FC4FE0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A0D-E1D9-401D-A12F-8930DA4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3CFA-F1D3-45A2-A9BC-9380C427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FD1D-8E60-4E10-9180-64A8220A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2AD3F-2E3F-4F21-B976-2D901E41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6A222-875F-4731-BD8A-BC5B18B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BE32F-BC5D-4C96-8A5C-2E9ED4E6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0B82-1AA2-4AE4-8CF4-932CB35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49FF-F59A-4B4E-B8F0-C3ACE27C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D1B1D-7061-4664-8CB1-FBC4FA30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BC20C-BE97-4CD0-BDA5-99C08ABA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5589-311C-440F-8D80-E1DF1C0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854-2E0D-4555-A4BF-F6F9578F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B3EF6-D712-4727-B55A-2B433BE5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6D856-1FE1-4E77-8DD8-50B43F3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A9564-DECB-45C6-9642-F29D65C8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EB69A-49BD-41F7-AC43-E73A264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EBCA8-4E82-4706-A396-D0FE532D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0F68-8B6C-4305-B374-679A2F12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AC81E-94F8-4A40-B472-B92FF17E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3BF07-B8DD-4F1A-94CA-FB9FF162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982EF-01B1-405D-8ABB-43664A16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C51CF-88AC-4E33-96FA-4F7B1D3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371-0DD7-42C2-9BB2-1AD1A5C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60F17-D4E9-427E-A7D1-B600912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28AB0-2AF9-4475-9951-F9805C9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560BF-A87E-4CFD-85E3-811CF7A1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B70BA-93AF-4E07-BEC3-E187AA46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BC071-F87E-45C1-9125-ED6CE459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30B15-A413-410A-B92C-2E3CEBEB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CBF73-058A-4C2F-B131-B61899E0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DB0D2-4472-40B1-B773-FB0BE8BB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7D622-99F6-43F5-BA50-EAC87A8F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FFB7-6FE7-4433-B334-FBABDB07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5295-129B-49CC-AE68-2E1780FBBF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B914-76AF-4D3D-BD40-096F152982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A1F-2315-4DA8-AA18-23494E5110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258-BFD4-4A60-9F7B-E8DF906E22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A254-54D2-4E4F-8616-C7D653BDBD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1C2-4CE6-4293-B0CB-2EBB7CBFB6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147D-E454-40DA-9C7E-6FE9986C89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30BA-E674-4DFB-893E-707163251C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0C2F-43CE-4F1F-AD2F-830868B9C4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60BA-3E19-4C90-A356-5BACD99E16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C245-BE70-4CF8-9EA0-5149AF4ADE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610-F292-4A6E-9EA5-97BBBE4C2F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589-F9DD-425F-AEE2-0D4A88A39C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CD08-075E-45C1-8385-848A097C5B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80E-AD48-4C1C-A102-AE01D1005D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F5F1-092E-4D0A-9798-1AF7CF87CD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D1CE-65AA-4674-A818-B1A1CF7DC7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8226360" cy="2604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Bodoni MT Poster Compressed"/>
              </a:rPr>
              <a:t>Взаимодействие учителя-логопеда и воспитателя группы для детей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Bodoni MT Poster Compressed"/>
              </a:rPr>
              <a:t> с нарушениями речи</a:t>
            </a: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095120" y="4220640"/>
            <a:ext cx="74372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читель-логопед  Ильиных  Светлана 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Прямоугольник 3"/>
          <p:cNvSpPr/>
          <p:nvPr/>
        </p:nvSpPr>
        <p:spPr>
          <a:xfrm>
            <a:off x="2514600" y="62064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БДОУ «Детский  сад общеразвивающего вида №127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Picture 6" descr="uQhSvzqPOf8"/>
          <p:cNvPicPr/>
          <p:nvPr/>
        </p:nvPicPr>
        <p:blipFill>
          <a:blip r:embed="rId1"/>
          <a:stretch/>
        </p:blipFill>
        <p:spPr>
          <a:xfrm>
            <a:off x="971640" y="3573360"/>
            <a:ext cx="1295280" cy="12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ирование и проведение итоговых мероприятий после прохождения лексической темы</a:t>
            </a:r>
            <a:br>
              <a:rPr sz="3200"/>
            </a:b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427280" y="1628280"/>
            <a:ext cx="4405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ой из форм взаимодействия учителя-логопеда и воспитателей логопедических групп мы считаем совместное обсуждение итоговых мероприятий после изучения лексической темы или большого блока т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Прямоугольник 9"/>
          <p:cNvSpPr/>
          <p:nvPr/>
        </p:nvSpPr>
        <p:spPr>
          <a:xfrm>
            <a:off x="826920" y="4365720"/>
            <a:ext cx="367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ный вид работы позволяет аккумулировать знания детей по данной теме, предусматривает привлечение родителей к жизни детей в ДО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64508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Picture 6" descr="uQhSvzqPOf8"/>
          <p:cNvPicPr/>
          <p:nvPr/>
        </p:nvPicPr>
        <p:blipFill>
          <a:blip r:embed="rId1"/>
          <a:stretch/>
        </p:blipFill>
        <p:spPr>
          <a:xfrm>
            <a:off x="1212840" y="1413000"/>
            <a:ext cx="271152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5400" y="414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ение воспитателями заданий учителя-логопеда в вечернее время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5760" y="1341000"/>
            <a:ext cx="46209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целях наиболее полной логопедизации жизни в наших группах планируем взаимодействие логопедов и воспитателей в соответствии с рекомендациями О.Гомзяк.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Прямоугольник 7"/>
          <p:cNvSpPr/>
          <p:nvPr/>
        </p:nvSpPr>
        <p:spPr>
          <a:xfrm>
            <a:off x="4427640" y="4581360"/>
            <a:ext cx="449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 разработках представлена система, охватывающая все направления коррекции речевых нарушени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Picture 6" descr="uQhSvzqPOf8"/>
          <p:cNvPicPr/>
          <p:nvPr/>
        </p:nvPicPr>
        <p:blipFill>
          <a:blip r:embed="rId1"/>
          <a:stretch/>
        </p:blipFill>
        <p:spPr>
          <a:xfrm>
            <a:off x="5940360" y="1495440"/>
            <a:ext cx="28702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олько тесная взаимосвязь в работе учителя-логопеда и воспитателей  позволяет добиваться положительных результатов в коррекции речи до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7" name="Picture 6" descr="uQhSvzqPOf8"/>
          <p:cNvPicPr/>
          <p:nvPr/>
        </p:nvPicPr>
        <p:blipFill>
          <a:blip r:embed="rId1"/>
          <a:stretch/>
        </p:blipFill>
        <p:spPr>
          <a:xfrm>
            <a:off x="3348000" y="2565360"/>
            <a:ext cx="3743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4932000" y="1197000"/>
            <a:ext cx="38941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е результаты достигаются тесным сотрудничеством учителя-логопеда и воспит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Прямоугольник 3"/>
          <p:cNvSpPr/>
          <p:nvPr/>
        </p:nvSpPr>
        <p:spPr>
          <a:xfrm>
            <a:off x="324000" y="4076640"/>
            <a:ext cx="463392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ую работу по формированию речевых навыков проводит учитель-логопед, а воспитатели включаются в неё на этапе закрепления уже сформированных навы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6" descr="uQhSvzqPOf8"/>
          <p:cNvPicPr/>
          <p:nvPr/>
        </p:nvPicPr>
        <p:blipFill>
          <a:blip r:embed="rId1"/>
          <a:stretch/>
        </p:blipFill>
        <p:spPr>
          <a:xfrm>
            <a:off x="1314360" y="1052640"/>
            <a:ext cx="29386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Прямоугольник 1"/>
          <p:cNvSpPr/>
          <p:nvPr/>
        </p:nvSpPr>
        <p:spPr>
          <a:xfrm>
            <a:off x="5292720" y="1916280"/>
            <a:ext cx="3456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огие из коррекционных задач решаются нами совмес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Прямоугольник 4"/>
          <p:cNvSpPr/>
          <p:nvPr/>
        </p:nvSpPr>
        <p:spPr>
          <a:xfrm>
            <a:off x="684360" y="4292640"/>
            <a:ext cx="4248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коммуникативной функции речи, воспитание речевой активности, обучение грамматически правильной речи и рассказыванию, обогащение и активизация словаря, формирование звуковой культуры ре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3" name="Picture 6" descr="uQhSvzqPOf8"/>
          <p:cNvPicPr/>
          <p:nvPr/>
        </p:nvPicPr>
        <p:blipFill>
          <a:blip r:embed="rId1"/>
          <a:stretch/>
        </p:blipFill>
        <p:spPr>
          <a:xfrm>
            <a:off x="1187280" y="1200240"/>
            <a:ext cx="280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Прямоугольник 1"/>
          <p:cNvSpPr/>
          <p:nvPr/>
        </p:nvSpPr>
        <p:spPr>
          <a:xfrm>
            <a:off x="395280" y="549360"/>
            <a:ext cx="8497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месте с этим чётко разграничены функции учителя-логопеда и воспитателей, чтобы исключить возможность дублирования коррекционного материала. Для этого воспитатели присутствуют на занятиях логопеда, а тот в свою очередь посещает отдельные занятия воспитателей с целью контроля за качеством речи детей, а также оказания методической помо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Picture 6" descr="uQhSvzqPOf8"/>
          <p:cNvPicPr/>
          <p:nvPr/>
        </p:nvPicPr>
        <p:blipFill>
          <a:blip r:embed="rId1"/>
          <a:stretch/>
        </p:blipFill>
        <p:spPr>
          <a:xfrm>
            <a:off x="2700360" y="2133720"/>
            <a:ext cx="431784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е слаженной работы учителей-логопедов и воспитателей лежат следующие принципы: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5400" y="2565000"/>
            <a:ext cx="822636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комплексного подхода к организации коррекционно-педагогического 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единства диагностики  и непосредственного коррекционно-педагогического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сотрудничества между учителем-логопедом, воспитателями и деть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учёта интересов всех участников коррекционно-педагогического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 дифференцированного подхода к логопатам в процессе воспитания у них правильной р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взаимодействия учителя-логопеда и воспитателей логопедических групп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263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ение воспитателем заданий учителя-логопеда в вечернее врем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воспитателями комплексов самомассажа на физкультминутка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посещение занят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ормление картотек по разным разделам коррекционной рабо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ультации «Логопедическая гостиная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ирование и проведение итоговых мероприятий после прохождения лексической 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логопедов и воспитателей в разработке тем по самообразован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огопедическая гостиная»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76720" y="1484280"/>
            <a:ext cx="4067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ачале учебного года учитель-логопед знакомит воспитателей с результатами обследования, проводит совместное обсуждение путей реализации поставленных задач по реабилитации детей с речевыми нарушен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Прямоугольник 4"/>
          <p:cNvSpPr/>
          <p:nvPr/>
        </p:nvSpPr>
        <p:spPr>
          <a:xfrm>
            <a:off x="250920" y="5157720"/>
            <a:ext cx="889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 определении содержания работы учитель-логопед знакомит педагогов с перспективным планом, уточняет наиболее рациональные приёмы проведения коррекции речи у каждого ребё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3" name="Picture 6" descr="uQhSvzqPOf8"/>
          <p:cNvPicPr/>
          <p:nvPr/>
        </p:nvPicPr>
        <p:blipFill>
          <a:blip r:embed="rId1"/>
          <a:stretch/>
        </p:blipFill>
        <p:spPr>
          <a:xfrm>
            <a:off x="1258920" y="1413000"/>
            <a:ext cx="32338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55400" y="549000"/>
            <a:ext cx="822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амках «Логопедической гостиной» были опробованы, а теперь применяются на практике комплексы массажных меропри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массаж мышц артикуляционного аппарата, предложенный Архиповой Е.Ф., Блыскиной И.В., Микляевой Н.В. позволяет укрепить слабую артикуляцию ребёнка, улучшить кровоснабжение, а в результате позволяет ускорить процесс постановки звуков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Прямоугольник 5"/>
          <p:cNvSpPr/>
          <p:nvPr/>
        </p:nvSpPr>
        <p:spPr>
          <a:xfrm>
            <a:off x="611280" y="6206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физкультминутках воспитатели применяют комплексы, включающие не только самомассаж артикуляционного аппарата, но и самомассаж пальцев рук, аурику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Picture 6" descr="uQhSvzqPOf8"/>
          <p:cNvPicPr/>
          <p:nvPr/>
        </p:nvPicPr>
        <p:blipFill>
          <a:blip r:embed="rId1"/>
          <a:stretch/>
        </p:blipFill>
        <p:spPr>
          <a:xfrm>
            <a:off x="2411280" y="2484360"/>
            <a:ext cx="43214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9:07:36Z</dcterms:created>
  <dc:creator>User</dc:creator>
  <dc:description/>
  <dc:language>en-US</dc:language>
  <cp:lastModifiedBy>Светлана</cp:lastModifiedBy>
  <dcterms:modified xsi:type="dcterms:W3CDTF">2019-12-07T20:04:46Z</dcterms:modified>
  <cp:revision>83</cp:revision>
  <dc:subject/>
  <dc:title>Взаимодействие учителей-логопедов и воспитателей коррекционных групп</dc:title>
</cp:coreProperties>
</file>