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9B4-9386-4B9A-8734-8C6EC472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D9F-8A64-484B-A88E-34E29675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572-44FD-4D69-8B8F-4B85D848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DD9-A8C5-400E-9DB8-6ED2E756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A37-F4F1-437F-81ED-CF9F68BE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6D7-F3F4-45B5-9776-F417709E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F6C-3FA6-4513-92A3-CEA7B58C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E96-CB80-4533-880A-FCCF9DA5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9C3-FD4E-44B1-8F23-1CD0143C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0A6-C1C6-47DE-9ACC-200A16C7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E17-D15A-459C-881B-597C9F7A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565-0F0A-455B-9901-1B8BA75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bv100328.jpg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8429760" y="0"/>
            <a:ext cx="7142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" name="Рисунок 6" descr="bv100328.jpg"/>
          <p:cNvPicPr/>
          <p:nvPr/>
        </p:nvPicPr>
        <p:blipFill>
          <a:blip r:embed="rId3"/>
          <a:stretch/>
        </p:blipFill>
        <p:spPr>
          <a:xfrm>
            <a:off x="0" y="0"/>
            <a:ext cx="7142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b5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C2FD-E671-4EB7-9FDE-5CAE6822C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b5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b53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b53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353880" y="1139760"/>
            <a:ext cx="8429760" cy="301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Река Москва утро раннее весенее"/>
          <p:cNvPicPr/>
          <p:nvPr/>
        </p:nvPicPr>
        <p:blipFill>
          <a:blip r:embed="rId2"/>
          <a:stretch/>
        </p:blipFill>
        <p:spPr>
          <a:xfrm>
            <a:off x="317520" y="4029120"/>
            <a:ext cx="3395520" cy="253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енисей  окресности Туруханска"/>
          <p:cNvPicPr/>
          <p:nvPr/>
        </p:nvPicPr>
        <p:blipFill>
          <a:blip r:embed="rId3"/>
          <a:stretch/>
        </p:blipFill>
        <p:spPr>
          <a:xfrm>
            <a:off x="5473800" y="4114800"/>
            <a:ext cx="3305160" cy="2487600"/>
          </a:xfrm>
          <a:prstGeom prst="rect">
            <a:avLst/>
          </a:prstGeom>
          <a:ln w="0">
            <a:noFill/>
          </a:ln>
        </p:spPr>
      </p:pic>
      <p:pic>
        <p:nvPicPr>
          <p:cNvPr id="122" name="легкое колебание воды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0" y="158760"/>
            <a:ext cx="8229600" cy="1305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Вспомните, какое бывает питание у рек?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</p:txBody>
      </p:sp>
      <p:pic>
        <p:nvPicPr>
          <p:cNvPr id="155" name="Picture 2" descr="C:\Documents and Settings\Люба\Рабочий стол\реки россии\0_1cd49_43573ed0_L.jpeg"/>
          <p:cNvPicPr/>
          <p:nvPr/>
        </p:nvPicPr>
        <p:blipFill>
          <a:blip r:embed="rId2"/>
          <a:stretch/>
        </p:blipFill>
        <p:spPr>
          <a:xfrm>
            <a:off x="4191120" y="1981080"/>
            <a:ext cx="4532040" cy="302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762120" y="2133720"/>
          <a:ext cx="2928960" cy="250020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ожде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нег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рунт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едник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мешан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Box 5"/>
          <p:cNvSpPr/>
          <p:nvPr/>
        </p:nvSpPr>
        <p:spPr>
          <a:xfrm>
            <a:off x="457200" y="541008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питание преобладает у рек нашей стра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ectangle 4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860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rcRect l="36723" t="65448" r="40400" b="22124"/>
          <a:stretch/>
        </p:blipFill>
        <p:spPr>
          <a:xfrm>
            <a:off x="1523880" y="1295280"/>
            <a:ext cx="4114800" cy="167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3"/>
          <a:srcRect l="19347" t="46803" r="72605" b="39081"/>
          <a:stretch/>
        </p:blipFill>
        <p:spPr>
          <a:xfrm>
            <a:off x="762120" y="3809880"/>
            <a:ext cx="2027160" cy="2667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4"/>
          <a:srcRect l="38418" t="49062" r="51840" b="30600"/>
          <a:stretch/>
        </p:blipFill>
        <p:spPr>
          <a:xfrm>
            <a:off x="6400800" y="2819520"/>
            <a:ext cx="2386080" cy="3733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229600" cy="2047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Река относится к бессточному бассейну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Имеет капризный нрав, потому что является горной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Именно эту реку описывал М.Ю.Лермонтов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375760" cy="1146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1.) Река относится к бассейну Северного Ледовитого океана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2.) Является равнинной рекой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3.) Это – самая длинная река России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4.) Имеет крупный левый приток -Иртыш 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76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Режим питания реки зависит от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 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_____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______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-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 самое глубокое озеро в России.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Реки 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____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___ равнины имеют весеннее половодье.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Самую большую площадь имеет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 ___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__ озеро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У горных рек преобладает 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_____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 питание.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На реке </a:t>
            </a:r>
            <a:r>
              <a:rPr b="1" lang="en-US" sz="2400" spc="-1" strike="noStrike">
                <a:solidFill>
                  <a:srgbClr val="0b5395"/>
                </a:solidFill>
                <a:latin typeface="Constantia"/>
              </a:rPr>
              <a:t>__________</a:t>
            </a: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____ находятся древнерусские города.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Для выработки электроэнергии используются ________________ реки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Большинство рек России впадают ________________ океан.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rcRect l="10872" t="37195" r="40400" b="20923"/>
          <a:stretch/>
        </p:blipFill>
        <p:spPr>
          <a:xfrm>
            <a:off x="0" y="838080"/>
            <a:ext cx="9102600" cy="601992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 2" descr=""/>
          <p:cNvPicPr/>
          <p:nvPr/>
        </p:nvPicPr>
        <p:blipFill>
          <a:blip r:embed="rId2"/>
          <a:stretch/>
        </p:blipFill>
        <p:spPr>
          <a:xfrm>
            <a:off x="1371600" y="79200"/>
            <a:ext cx="6327720" cy="1060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extBox 1" descr=""/>
          <p:cNvPicPr/>
          <p:nvPr/>
        </p:nvPicPr>
        <p:blipFill>
          <a:blip r:embed="rId1"/>
          <a:stretch/>
        </p:blipFill>
        <p:spPr>
          <a:xfrm>
            <a:off x="2212920" y="0"/>
            <a:ext cx="4724280" cy="127944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2" descr=""/>
          <p:cNvPicPr/>
          <p:nvPr/>
        </p:nvPicPr>
        <p:blipFill>
          <a:blip r:embed="rId2"/>
          <a:stretch/>
        </p:blipFill>
        <p:spPr>
          <a:xfrm>
            <a:off x="712800" y="963720"/>
            <a:ext cx="8053200" cy="122544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 5" descr=""/>
          <p:cNvPicPr/>
          <p:nvPr/>
        </p:nvPicPr>
        <p:blipFill>
          <a:blip r:embed="rId3"/>
          <a:stretch/>
        </p:blipFill>
        <p:spPr>
          <a:xfrm>
            <a:off x="633240" y="1725480"/>
            <a:ext cx="8132760" cy="177984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 6" descr=""/>
          <p:cNvPicPr/>
          <p:nvPr/>
        </p:nvPicPr>
        <p:blipFill>
          <a:blip r:embed="rId4"/>
          <a:stretch/>
        </p:blipFill>
        <p:spPr>
          <a:xfrm>
            <a:off x="712800" y="3249720"/>
            <a:ext cx="8431200" cy="122544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 7" descr=""/>
          <p:cNvPicPr/>
          <p:nvPr/>
        </p:nvPicPr>
        <p:blipFill>
          <a:blip r:embed="rId5"/>
          <a:stretch/>
        </p:blipFill>
        <p:spPr>
          <a:xfrm>
            <a:off x="712800" y="4541760"/>
            <a:ext cx="7900920" cy="123048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 8" descr=""/>
          <p:cNvPicPr/>
          <p:nvPr/>
        </p:nvPicPr>
        <p:blipFill>
          <a:blip r:embed="rId6"/>
          <a:stretch/>
        </p:blipFill>
        <p:spPr>
          <a:xfrm>
            <a:off x="633240" y="5535720"/>
            <a:ext cx="8523360" cy="122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1" descr=""/>
          <p:cNvPicPr/>
          <p:nvPr/>
        </p:nvPicPr>
        <p:blipFill>
          <a:blip r:embed="rId1"/>
          <a:stretch/>
        </p:blipFill>
        <p:spPr>
          <a:xfrm>
            <a:off x="579600" y="1646280"/>
            <a:ext cx="8015040" cy="480384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 2" descr=""/>
          <p:cNvPicPr/>
          <p:nvPr/>
        </p:nvPicPr>
        <p:blipFill>
          <a:blip r:embed="rId2"/>
          <a:stretch/>
        </p:blipFill>
        <p:spPr>
          <a:xfrm>
            <a:off x="762120" y="231840"/>
            <a:ext cx="7619760" cy="151128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3" descr=""/>
          <p:cNvPicPr/>
          <p:nvPr/>
        </p:nvPicPr>
        <p:blipFill>
          <a:blip r:embed="rId3"/>
          <a:stretch/>
        </p:blipFill>
        <p:spPr>
          <a:xfrm>
            <a:off x="1146240" y="2133720"/>
            <a:ext cx="5589360" cy="3715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 flipV="1">
            <a:off x="762120" y="3645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1.) Что называют болотом?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    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2) Какие стихийные явления, связанные с внутренними водами, вы знаете?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    </a:t>
            </a: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3) Обеспечена ли наша страна водными ресурсами? Есть ли проблемы?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275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b5395"/>
              </a:solidFill>
              <a:latin typeface="Constantia"/>
            </a:endParaRPr>
          </a:p>
        </p:txBody>
      </p:sp>
      <p:pic>
        <p:nvPicPr>
          <p:cNvPr id="183" name="TextBox 4" descr=""/>
          <p:cNvPicPr/>
          <p:nvPr/>
        </p:nvPicPr>
        <p:blipFill>
          <a:blip r:embed="rId1"/>
          <a:stretch/>
        </p:blipFill>
        <p:spPr>
          <a:xfrm>
            <a:off x="457200" y="4498920"/>
            <a:ext cx="8686800" cy="706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774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209320" y="1523880"/>
            <a:ext cx="54104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nstantia"/>
              </a:rPr>
              <a:t>1.) Исток</a:t>
            </a: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nstantia"/>
              </a:rPr>
              <a:t>2.) Устье</a:t>
            </a: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nstantia"/>
              </a:rPr>
              <a:t>3.)Наводнение</a:t>
            </a: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nstantia"/>
              </a:rPr>
              <a:t>4.) Падение</a:t>
            </a: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nstantia"/>
              </a:rPr>
              <a:t>5.) Уклон реки</a:t>
            </a: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533520" y="609480"/>
            <a:ext cx="1143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229600" cy="1500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7621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Закончи предложения: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Я знаю, что….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Я умею…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Мне понравилось …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0" y="115920"/>
            <a:ext cx="791856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304920" y="1676520"/>
          <a:ext cx="8351640" cy="2744640"/>
        </p:xfrm>
        <a:graphic>
          <a:graphicData uri="http://schemas.openxmlformats.org/drawingml/2006/table">
            <a:tbl>
              <a:tblPr/>
              <a:tblGrid>
                <a:gridCol w="2089080"/>
                <a:gridCol w="1942920"/>
                <a:gridCol w="2230560"/>
                <a:gridCol w="208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овит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хий 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лант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TextBox 23"/>
          <p:cNvSpPr/>
          <p:nvPr/>
        </p:nvSpPr>
        <p:spPr>
          <a:xfrm>
            <a:off x="762120" y="10666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ите реки по бассейнам оке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48769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762120" y="5638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н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228600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708660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3429000" y="5943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6080040" y="5943600"/>
            <a:ext cx="70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5638680" y="6019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3124080" y="4876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т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65530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мч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30492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0" y="115920"/>
            <a:ext cx="791856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162000" y="1676520"/>
          <a:ext cx="8982000" cy="3398760"/>
        </p:xfrm>
        <a:graphic>
          <a:graphicData uri="http://schemas.openxmlformats.org/drawingml/2006/table">
            <a:tbl>
              <a:tblPr/>
              <a:tblGrid>
                <a:gridCol w="2246400"/>
                <a:gridCol w="2090520"/>
                <a:gridCol w="2398680"/>
                <a:gridCol w="224640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овит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хий 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лант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рты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мчат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у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л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б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23"/>
          <p:cNvSpPr/>
          <p:nvPr/>
        </p:nvSpPr>
        <p:spPr>
          <a:xfrm>
            <a:off x="762120" y="10666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ите реки по бассейнам оке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749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514600" y="837720"/>
            <a:ext cx="3657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Камчатка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Субтропический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Алтай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Народная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Уссури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Ока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Эльбрус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Ханка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Белуха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07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761760" y="14479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1.) Енисей, Лена, Амур, Печора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2.) Кубань, Дон, Днепр, Терек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3.) Каспийское, Байкал, Онежское, Ладожское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4.) Урал, Нева,  Волга, Кама.</a:t>
            </a: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Амур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Терек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Каспийское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onstantia"/>
              </a:rPr>
              <a:t>Нева</a:t>
            </a: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785880" y="2000160"/>
            <a:ext cx="3571920" cy="3143520"/>
          </a:xfrm>
          <a:prstGeom prst="rect">
            <a:avLst/>
          </a:prstGeom>
          <a:solidFill>
            <a:srgbClr val="dbf5f9"/>
          </a:solidFill>
          <a:ln w="19080">
            <a:solidFill>
              <a:srgbClr val="0f6fc6"/>
            </a:solidFill>
            <a:prstDash val="dashDot"/>
            <a:miter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1. Водораздел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2. Паводок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3. Подземные воды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4. Ледник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5. Речная система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6. Озеро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428720" y="1071720"/>
            <a:ext cx="4467240" cy="5643360"/>
          </a:xfrm>
          <a:prstGeom prst="rect">
            <a:avLst/>
          </a:prstGeom>
          <a:solidFill>
            <a:srgbClr val="c9fafc"/>
          </a:solidFill>
          <a:ln w="19080">
            <a:solidFill>
              <a:srgbClr val="089ca3"/>
            </a:solidFill>
            <a:miter/>
          </a:ln>
        </p:spPr>
        <p:txBody>
          <a:bodyPr anchor="t">
            <a:normAutofit fontScale="90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А. 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Вода в природном углублении на суше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. 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Главная река со всеми притоками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. 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Граница, разделяющая соседние речные бассейны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Г. 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Кратковременный подъем уровня воды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.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 Скопление пресного льда на суше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Е.</a:t>
            </a:r>
            <a:r>
              <a:rPr b="1" lang="ru-RU" sz="2200" spc="-1" strike="noStrike">
                <a:solidFill>
                  <a:srgbClr val="06686d"/>
                </a:solidFill>
                <a:latin typeface="Constantia"/>
              </a:rPr>
              <a:t> Вода, находящая в земной коре</a:t>
            </a:r>
            <a:endParaRPr b="1" lang="en-US" sz="22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 </a:t>
            </a:r>
            <a:endParaRPr b="1" lang="en-US" sz="24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895480" y="16002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1. В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2. Г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3. Е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4. Д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5. Б 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5395"/>
                </a:solidFill>
                <a:latin typeface="Constantia"/>
              </a:rPr>
              <a:t>6. А</a:t>
            </a: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53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5395"/>
              </a:solidFill>
              <a:latin typeface="Constantia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на</dc:creator>
  <dc:description/>
  <dc:language>en-US</dc:language>
  <cp:lastModifiedBy>M</cp:lastModifiedBy>
  <dcterms:modified xsi:type="dcterms:W3CDTF">2016-11-27T13:32:0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320000000000010262500207f7000400038000</vt:lpwstr>
  </property>
  <property fmtid="{D5CDD505-2E9C-101B-9397-08002B2CF9AE}" pid="3" name="Version">
    <vt:r8>1</vt:r8>
  </property>
</Properties>
</file>