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AC3-EDD5-47FC-9083-E72EB7D3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B2A-6BF9-431A-B367-017DA3D5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0B9-9E87-45F6-B2D0-6AF6D5B8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6D5-F0CB-4640-876C-A6300689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1BE-186D-4AB4-9714-3AA12DE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0F9-D07C-4543-87DF-5F58CBB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18F-9A62-4277-A3A2-1AA4A16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0D1-ABB0-46D2-A0E5-90231E35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8C2-84D0-4C5C-93FC-533B71EC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0B9-F879-4FA4-A64C-43EEC51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8E9-D85C-4351-AC5C-DD20858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59B-E55F-461A-8113-890D69E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121-1C26-4D72-BDA6-8417E52E0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лассный час в 7 классе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«ПЛАНЕТА ЭТИКЕТ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лассный руков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.В. Празд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ша реч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Ежели вы вежливы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ичто не дается нам так дешево и не ценится так дорого, как вежлив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ервант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33577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79009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Ежели вы вежливы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Группа 3" descr=""/>
          <p:cNvPicPr/>
          <p:nvPr/>
        </p:nvPicPr>
        <p:blipFill>
          <a:blip r:embed="rId1"/>
          <a:stretch/>
        </p:blipFill>
        <p:spPr>
          <a:xfrm>
            <a:off x="92160" y="774720"/>
            <a:ext cx="8996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1. Кто кого пропускает в дверя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787640" y="2347920"/>
            <a:ext cx="4105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Мальчик пропускает девочек и взрослых лю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ispi057075[1]"/>
          <p:cNvPicPr/>
          <p:nvPr/>
        </p:nvPicPr>
        <p:blipFill>
          <a:blip r:embed="rId1"/>
          <a:stretch/>
        </p:blipFill>
        <p:spPr>
          <a:xfrm>
            <a:off x="395280" y="3102120"/>
            <a:ext cx="4608360" cy="30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280360" cy="20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Calibri"/>
              </a:rPr>
              <a:t>2. Что едят на завтрак леди и джентльмен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94920" y="4292640"/>
            <a:ext cx="2771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Овся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MUNQJCADRMPE5CAPH65T5CA3CRJVHCACBIP7HCA3H1AAGCA7GFOBFCAA7I3VRCA582KBOCA2V6WTUCA088UGYCAHU58XRCAADA5UXCA0R9350CAZ6M4FOCA90J8MPCAZHRGUBCAI5USWHCA0GVXI3CAYY912C"/>
          <p:cNvPicPr/>
          <p:nvPr/>
        </p:nvPicPr>
        <p:blipFill>
          <a:blip r:embed="rId1"/>
          <a:stretch/>
        </p:blipFill>
        <p:spPr>
          <a:xfrm>
            <a:off x="3348000" y="2289240"/>
            <a:ext cx="4319640" cy="41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88920"/>
            <a:ext cx="8278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3. Как могут познакомиться леди и джентльме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642920" y="3716280"/>
            <a:ext cx="4280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При помощи посред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k0241323[1]"/>
          <p:cNvPicPr/>
          <p:nvPr/>
        </p:nvPicPr>
        <p:blipFill>
          <a:blip r:embed="rId1"/>
          <a:stretch/>
        </p:blipFill>
        <p:spPr>
          <a:xfrm>
            <a:off x="324000" y="3532320"/>
            <a:ext cx="450036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8984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4. Предмет, при помощи которого мистер Холмс отравлял свой организм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435640" y="3860280"/>
            <a:ext cx="2303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Труб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1215414566_sherlock_holmes_the_case_of_the_silver_earn"/>
          <p:cNvPicPr/>
          <p:nvPr/>
        </p:nvPicPr>
        <p:blipFill>
          <a:blip r:embed="rId1"/>
          <a:stretch/>
        </p:blipFill>
        <p:spPr>
          <a:xfrm>
            <a:off x="322200" y="2924280"/>
            <a:ext cx="4105440" cy="36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8487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5. Чем едят банан по правилам этике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68680" y="3284280"/>
            <a:ext cx="39196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При помощи ножа и ви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2" descr="00012866"/>
          <p:cNvPicPr/>
          <p:nvPr/>
        </p:nvPicPr>
        <p:blipFill>
          <a:blip r:embed="rId1"/>
          <a:stretch/>
        </p:blipFill>
        <p:spPr>
          <a:xfrm>
            <a:off x="647640" y="2708280"/>
            <a:ext cx="3203640" cy="37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6. Как правильно пользоваться тканевой салфетко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11280" y="3763440"/>
            <a:ext cx="4784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Расстелить на колен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dbimage[1]"/>
          <p:cNvPicPr/>
          <p:nvPr/>
        </p:nvPicPr>
        <p:blipFill>
          <a:blip r:embed="rId1"/>
          <a:stretch/>
        </p:blipFill>
        <p:spPr>
          <a:xfrm>
            <a:off x="179280" y="2852640"/>
            <a:ext cx="396108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тречаем г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1" descr="1227041613_0lik"/>
          <p:cNvPicPr/>
          <p:nvPr/>
        </p:nvPicPr>
        <p:blipFill>
          <a:blip r:embed="rId1"/>
          <a:stretch/>
        </p:blipFill>
        <p:spPr>
          <a:xfrm>
            <a:off x="1857240" y="1928880"/>
            <a:ext cx="5715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Кто первым заходит в транспорт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4720" y="3068640"/>
            <a:ext cx="41371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Мальчики пропускают девочек и помогают 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a2c983f5a4f9"/>
          <p:cNvPicPr/>
          <p:nvPr/>
        </p:nvPicPr>
        <p:blipFill>
          <a:blip r:embed="rId1"/>
          <a:stretch/>
        </p:blipFill>
        <p:spPr>
          <a:xfrm>
            <a:off x="623880" y="2781360"/>
            <a:ext cx="286848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755640" y="4046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7. Кто должен снять головной убор, заходя в помеще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859280" y="41068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аль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1209061322_hats-clipart-for-photoshop"/>
          <p:cNvPicPr/>
          <p:nvPr/>
        </p:nvPicPr>
        <p:blipFill>
          <a:blip r:embed="rId1"/>
          <a:stretch/>
        </p:blipFill>
        <p:spPr>
          <a:xfrm>
            <a:off x="395280" y="2997360"/>
            <a:ext cx="4681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440" y="476280"/>
            <a:ext cx="88552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8. Перечислите достоинства воспитанного челове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788000" y="3141720"/>
            <a:ext cx="435600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Вежлив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Так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Скром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Пун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2_2_table20"/>
          <p:cNvPicPr/>
          <p:nvPr/>
        </p:nvPicPr>
        <p:blipFill>
          <a:blip r:embed="rId1"/>
          <a:srcRect l="0" t="0" r="0" b="6692"/>
          <a:stretch/>
        </p:blipFill>
        <p:spPr>
          <a:xfrm>
            <a:off x="324000" y="2997360"/>
            <a:ext cx="4968720" cy="32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йти «по-английски» – уйти не прощая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73320" y="1600200"/>
            <a:ext cx="299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 новых встреч на «Планете этикета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500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Цветы в левой руке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дарок в право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etiket-buket"/>
          <p:cNvPicPr/>
          <p:nvPr/>
        </p:nvPicPr>
        <p:blipFill>
          <a:blip r:embed="rId1"/>
          <a:stretch/>
        </p:blipFill>
        <p:spPr>
          <a:xfrm>
            <a:off x="2987640" y="1773360"/>
            <a:ext cx="3600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аренные торт, конфеты, фрукты предлагаются всем гостя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я эти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999720"/>
            <a:ext cx="8072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ЭТИКЕТ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м. франц. чин, порядок, светский обык внешних обрядов и приличия; принятая, условная, ломливая вежливость; церемониал; внешняя обрядливость. -тный, к сему относящ. -ничать, с важностью и настойчивостью блюсти этикет, будто дел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. Да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ЭТИКЕТ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(франц. etiquette), свод правил поведения, обхождения, принятых в определенных социальных кругах (при дворах монархов, в дипломатических кругах и т. п.). В переносном значении - форма поведения, обхождения, правила учтивости, принятые в данном обще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С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я эти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52862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Этикет — это разум для тех, кто его не име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оль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57680" y="1285920"/>
            <a:ext cx="3214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я эти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429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XVI веке этикет означал свод правил при дворе монарха, своего рода церемони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Домострой» (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XVII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.) учил «не красть, не лгать, не завидовать, не осуждать, не помнить зла»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Чего сам не любишь, то и другим не делай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я эти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01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 книге «Юности честное зерцало»давались советы молодым дворянам, как держать себя в обществе, чтобы иметь успех при дворе и в свете. Рекомендации книги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в платок громко не сморкаться и не чихать», «перстом носа не чистить», «не жри, как свинья, и не дуй в суп, чтобы везде брызгало»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и т.д. пришлись по вкусу русскому дворянству XVIII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 одежке встреч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47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3-05-30T08:49:01Z</dcterms:modified>
  <cp:revision>25</cp:revision>
  <dc:subject/>
  <dc:title>Классный час в 7 классе  «ПЛАНЕТА ЭТИКЕТА» </dc:title>
</cp:coreProperties>
</file>