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000D-C7B8-4F89-9384-8D3D1E1A8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2D9-4483-47D4-A8C9-3CBE53FC6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B6A-3BD3-4C94-81C2-03A448945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3A81-300C-456C-BF34-FECB2A0D8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414-0075-46EC-B073-8D7BB1CE1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99F-6895-496B-9EC3-5DE156810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EA8-3360-472E-92E7-A50AF4CAC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F79-0282-4E83-863F-F2DD5834B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466-F841-4F88-979E-C122F3CFA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599-C54B-450E-AB12-D486B4E78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BD8-563F-4D76-A921-2F659A495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2E7-1C7C-4810-B80D-E9A4CBE73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1E9A-A8FB-4B86-B792-795D77013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411-95DE-4811-8CD7-46FDC2D2A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2936-DF56-48AE-BB45-033234C9F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786-7169-4C19-8E33-5D8C9AE65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997-B170-4C56-B8D5-D72A4567F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346-EDD7-4BD4-9AFA-4370974E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F68-4189-44F8-8F92-31C4D360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32C-84EC-4ABF-B4E0-1CBA6BB4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ABF-FC3D-4475-8532-D1F5CC5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198-3165-463E-A014-296FA1F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B4-124E-4C9C-8950-2A5E19A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2B2-2132-4CCA-B1AF-845C44C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E2C-943A-4E48-9F4B-3047E2D0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236-E8BD-4444-8C59-A0B90CB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0B0-CD07-4DCD-BAF9-B7C3439A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658-AD37-4F05-9FA0-EECF685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4E1-029E-451F-A6BB-C81050F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1AB-28F6-499D-8D27-D13A59684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Category:Conic_sections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Category:Conic_sections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29240" y="606240"/>
              <a:ext cx="21240" cy="5631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1"/>
          <p:cNvSpPr txBox="1"/>
          <p:nvPr/>
        </p:nvSpPr>
        <p:spPr>
          <a:xfrm>
            <a:off x="1905120" y="2438280"/>
            <a:ext cx="5333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нус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762120" y="548640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10-11"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395280" y="457200"/>
            <a:ext cx="84978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5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2"/>
          <p:cNvSpPr/>
          <p:nvPr/>
        </p:nvSpPr>
        <p:spPr>
          <a:xfrm>
            <a:off x="774720" y="2060640"/>
            <a:ext cx="7704000" cy="218124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4853" h="1374">
                <a:moveTo>
                  <a:pt x="4853" y="1338"/>
                </a:moveTo>
                <a:lnTo>
                  <a:pt x="2349" y="0"/>
                </a:lnTo>
                <a:lnTo>
                  <a:pt x="0" y="13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677520" y="3569760"/>
            <a:ext cx="7931880" cy="1802160"/>
            <a:chOff x="677520" y="3569760"/>
            <a:chExt cx="7931880" cy="1802160"/>
          </a:xfrm>
        </p:grpSpPr>
        <p:sp>
          <p:nvSpPr>
            <p:cNvPr id="325" name="Arc 13"/>
            <p:cNvSpPr/>
            <p:nvPr/>
          </p:nvSpPr>
          <p:spPr>
            <a:xfrm rot="5400000">
              <a:off x="4043160" y="805320"/>
              <a:ext cx="1200600" cy="793188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7931880"/>
                <a:gd name="textAreaBottom" fmla="*/ 7932240 h 79318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14"/>
            <p:cNvSpPr/>
            <p:nvPr/>
          </p:nvSpPr>
          <p:spPr>
            <a:xfrm flipV="1" rot="16200000">
              <a:off x="4113000" y="257040"/>
              <a:ext cx="837000" cy="746172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-360 h 7461720"/>
                <a:gd name="textAreaBottom" fmla="*/ 7461720 h 7461720"/>
              </a:gdLst>
              <a:ahLst/>
              <a:rect l="textAreaLeft" t="textAreaTop" r="textAreaRight" b="textAreaBottom"/>
              <a:pathLst>
                <a:path fill="none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</a:path>
                <a:path stroke="0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  <a:lnTo>
                    <a:pt x="0" y="1969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16"/>
          <p:cNvSpPr/>
          <p:nvPr/>
        </p:nvSpPr>
        <p:spPr>
          <a:xfrm>
            <a:off x="44218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863880" y="432756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9"/>
          <p:cNvSpPr/>
          <p:nvPr/>
        </p:nvSpPr>
        <p:spPr>
          <a:xfrm>
            <a:off x="787320" y="2060640"/>
            <a:ext cx="3740400" cy="2600280"/>
          </a:xfrm>
          <a:custGeom>
            <a:avLst/>
            <a:gdLst>
              <a:gd name="textAreaLeft" fmla="*/ 0 w 3740400"/>
              <a:gd name="textAreaRight" fmla="*/ 3740760 w 3740400"/>
              <a:gd name="textAreaTop" fmla="*/ 0 h 2600280"/>
              <a:gd name="textAreaBottom" fmla="*/ 2600640 h 2600280"/>
            </a:gdLst>
            <a:ahLst/>
            <a:rect l="textAreaLeft" t="textAreaTop" r="textAreaRight" b="textAreaBottom"/>
            <a:pathLst>
              <a:path w="2356" h="1638">
                <a:moveTo>
                  <a:pt x="2356" y="0"/>
                </a:moveTo>
                <a:lnTo>
                  <a:pt x="0" y="16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762120" y="3733920"/>
            <a:ext cx="6298920" cy="939600"/>
          </a:xfrm>
          <a:custGeom>
            <a:avLst/>
            <a:gdLst>
              <a:gd name="textAreaLeft" fmla="*/ 0 w 6298920"/>
              <a:gd name="textAreaRight" fmla="*/ 6299280 w 629892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3968" h="592">
                <a:moveTo>
                  <a:pt x="3968" y="0"/>
                </a:moveTo>
                <a:lnTo>
                  <a:pt x="0" y="59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762120" y="2060640"/>
            <a:ext cx="6286320" cy="2612880"/>
          </a:xfrm>
          <a:custGeom>
            <a:avLst/>
            <a:gdLst>
              <a:gd name="textAreaLeft" fmla="*/ 0 w 6286320"/>
              <a:gd name="textAreaRight" fmla="*/ 6286680 w 6286320"/>
              <a:gd name="textAreaTop" fmla="*/ 0 h 2612880"/>
              <a:gd name="textAreaBottom" fmla="*/ 2613240 h 2612880"/>
            </a:gdLst>
            <a:ahLst/>
            <a:rect l="textAreaLeft" t="textAreaTop" r="textAreaRight" b="textAreaBottom"/>
            <a:pathLst>
              <a:path w="3960" h="1646">
                <a:moveTo>
                  <a:pt x="3960" y="1062"/>
                </a:moveTo>
                <a:lnTo>
                  <a:pt x="2371" y="0"/>
                </a:lnTo>
                <a:lnTo>
                  <a:pt x="0" y="1646"/>
                </a:lnTo>
                <a:lnTo>
                  <a:pt x="3960" y="1062"/>
                </a:lnTo>
                <a:close/>
              </a:path>
            </a:pathLst>
          </a:cu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3"/>
          <p:cNvSpPr/>
          <p:nvPr/>
        </p:nvSpPr>
        <p:spPr>
          <a:xfrm>
            <a:off x="4525920" y="2081160"/>
            <a:ext cx="2484360" cy="163980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1565" h="1033">
                <a:moveTo>
                  <a:pt x="1565" y="103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3830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935760" y="3657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4267080" y="609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туп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5"/>
          <p:cNvSpPr/>
          <p:nvPr/>
        </p:nvSpPr>
        <p:spPr>
          <a:xfrm>
            <a:off x="4495680" y="2073240"/>
            <a:ext cx="15840" cy="2435400"/>
          </a:xfrm>
          <a:custGeom>
            <a:avLst/>
            <a:gdLst>
              <a:gd name="textAreaLeft" fmla="*/ 0 w 15840"/>
              <a:gd name="textAreaRight" fmla="*/ 16200 w 158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10" h="1534">
                <a:moveTo>
                  <a:pt x="10" y="0"/>
                </a:moveTo>
                <a:lnTo>
                  <a:pt x="0" y="153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23"/>
          <p:cNvSpPr/>
          <p:nvPr/>
        </p:nvSpPr>
        <p:spPr>
          <a:xfrm>
            <a:off x="-3144960" y="2666880"/>
            <a:ext cx="3144960" cy="1378080"/>
          </a:xfrm>
          <a:custGeom>
            <a:avLst/>
            <a:gdLst>
              <a:gd name="textAreaLeft" fmla="*/ 0 w 3144960"/>
              <a:gd name="textAreaRight" fmla="*/ 3145320 w 31449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81" h="868">
                <a:moveTo>
                  <a:pt x="1981" y="0"/>
                </a:moveTo>
                <a:lnTo>
                  <a:pt x="254" y="12"/>
                </a:lnTo>
                <a:lnTo>
                  <a:pt x="0" y="868"/>
                </a:lnTo>
                <a:lnTo>
                  <a:pt x="1805" y="786"/>
                </a:lnTo>
                <a:lnTo>
                  <a:pt x="1981" y="0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2286000" y="1390680"/>
            <a:ext cx="1440" cy="3664080"/>
          </a:xfrm>
          <a:custGeom>
            <a:avLst/>
            <a:gdLst>
              <a:gd name="textAreaLeft" fmla="*/ 0 w 1440"/>
              <a:gd name="textAreaRight" fmla="*/ 1800 w 1440"/>
              <a:gd name="textAreaTop" fmla="*/ 0 h 3664080"/>
              <a:gd name="textAreaBottom" fmla="*/ 3664440 h 366408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2"/>
          <p:cNvGrpSpPr/>
          <p:nvPr/>
        </p:nvGrpSpPr>
        <p:grpSpPr>
          <a:xfrm>
            <a:off x="1612800" y="2921040"/>
            <a:ext cx="1371600" cy="711000"/>
            <a:chOff x="1612800" y="2921040"/>
            <a:chExt cx="1371600" cy="711000"/>
          </a:xfrm>
        </p:grpSpPr>
        <p:grpSp>
          <p:nvGrpSpPr>
            <p:cNvPr id="340" name="Group 26"/>
            <p:cNvGrpSpPr/>
            <p:nvPr/>
          </p:nvGrpSpPr>
          <p:grpSpPr>
            <a:xfrm>
              <a:off x="1612800" y="2945880"/>
              <a:ext cx="1371600" cy="685800"/>
              <a:chOff x="1612800" y="2945880"/>
              <a:chExt cx="1371600" cy="685800"/>
            </a:xfrm>
          </p:grpSpPr>
          <p:sp>
            <p:nvSpPr>
              <p:cNvPr id="341" name="Arc 27"/>
              <p:cNvSpPr/>
              <p:nvPr/>
            </p:nvSpPr>
            <p:spPr>
              <a:xfrm rot="5400000">
                <a:off x="2071080" y="2718360"/>
                <a:ext cx="455040" cy="13716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fill="none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</a:path>
                  <a:path stroke="0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  <a:lnTo>
                      <a:pt x="675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rc 28"/>
              <p:cNvSpPr/>
              <p:nvPr/>
            </p:nvSpPr>
            <p:spPr>
              <a:xfrm flipV="1" rot="16200000">
                <a:off x="2141280" y="2424600"/>
                <a:ext cx="318600" cy="136008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360 h 1360080"/>
                  <a:gd name="textAreaBottom" fmla="*/ 1360800 h 1360080"/>
                </a:gdLst>
                <a:ahLst/>
                <a:rect l="textAreaLeft" t="textAreaTop" r="textAreaRight" b="textAreaBottom"/>
                <a:pathLst>
                  <a:path fill="none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</a:path>
                  <a:path stroke="0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  <a:lnTo>
                      <a:pt x="9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Oval 29"/>
            <p:cNvSpPr/>
            <p:nvPr/>
          </p:nvSpPr>
          <p:spPr>
            <a:xfrm>
              <a:off x="1625760" y="2921040"/>
              <a:ext cx="1358640" cy="711000"/>
            </a:xfrm>
            <a:prstGeom prst="ellipse">
              <a:avLst/>
            </a:prstGeom>
            <a:solidFill>
              <a:srgbClr val="ff00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247840" y="3213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6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3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4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356" name="Arc 15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rc 16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Freeform 17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2058480" y="5029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ечение конуса плоскостью, перпендикулярной к его ос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кру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4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18039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85185E-006 L 0.20799 -1.85185E-006 L 0.42605 -0.00416 E">
                                      <p:cBhvr>
                                        <p:cTn id="52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7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59215"/>
                </a:srgbClr>
              </a:gs>
              <a:gs pos="50000">
                <a:srgbClr val="f1f8f9">
                  <a:alpha val="45098"/>
                </a:srgbClr>
              </a:gs>
              <a:gs pos="100000">
                <a:srgbClr val="bbe0e3">
                  <a:alpha val="5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"/>
          <p:cNvSpPr/>
          <p:nvPr/>
        </p:nvSpPr>
        <p:spPr>
          <a:xfrm rot="19492200">
            <a:off x="-1981080" y="4343400"/>
            <a:ext cx="3144600" cy="137808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81" h="868">
                <a:moveTo>
                  <a:pt x="1981" y="0"/>
                </a:moveTo>
                <a:lnTo>
                  <a:pt x="254" y="12"/>
                </a:lnTo>
                <a:lnTo>
                  <a:pt x="0" y="868"/>
                </a:lnTo>
                <a:lnTo>
                  <a:pt x="1805" y="786"/>
                </a:lnTo>
                <a:lnTo>
                  <a:pt x="1981" y="0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1323720" y="2603880"/>
            <a:ext cx="1722600" cy="1470600"/>
            <a:chOff x="1323720" y="2603880"/>
            <a:chExt cx="1722600" cy="1470600"/>
          </a:xfrm>
        </p:grpSpPr>
        <p:grpSp>
          <p:nvGrpSpPr>
            <p:cNvPr id="366" name="Group 5"/>
            <p:cNvGrpSpPr/>
            <p:nvPr/>
          </p:nvGrpSpPr>
          <p:grpSpPr>
            <a:xfrm>
              <a:off x="1331280" y="2627640"/>
              <a:ext cx="1715040" cy="1446840"/>
              <a:chOff x="1331280" y="2627640"/>
              <a:chExt cx="1715040" cy="1446840"/>
            </a:xfrm>
          </p:grpSpPr>
          <p:sp>
            <p:nvSpPr>
              <p:cNvPr id="367" name="Arc 6"/>
              <p:cNvSpPr/>
              <p:nvPr/>
            </p:nvSpPr>
            <p:spPr>
              <a:xfrm rot="3421800">
                <a:off x="2021400" y="2643120"/>
                <a:ext cx="454680" cy="1606680"/>
              </a:xfrm>
              <a:custGeom>
                <a:avLst/>
                <a:gdLst>
                  <a:gd name="textAreaLeft" fmla="*/ 0 w 454680"/>
                  <a:gd name="textAreaRight" fmla="*/ 455040 w 454680"/>
                  <a:gd name="textAreaTop" fmla="*/ 0 h 1606680"/>
                  <a:gd name="textAreaBottom" fmla="*/ 1607040 h 1606680"/>
                </a:gdLst>
                <a:ahLst/>
                <a:rect l="textAreaLeft" t="textAreaTop" r="textAreaRight" b="textAreaBottom"/>
                <a:pathLst>
                  <a:path fill="none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</a:path>
                  <a:path stroke="0" w="28356" h="43200">
                    <a:moveTo>
                      <a:pt x="-1" y="1083"/>
                    </a:moveTo>
                    <a:cubicBezTo>
                      <a:pt x="2180" y="365"/>
                      <a:pt x="4460" y="-1"/>
                      <a:pt x="6756" y="0"/>
                    </a:cubicBezTo>
                    <a:cubicBezTo>
                      <a:pt x="18685" y="0"/>
                      <a:pt x="28356" y="9670"/>
                      <a:pt x="28356" y="21600"/>
                    </a:cubicBezTo>
                    <a:cubicBezTo>
                      <a:pt x="28356" y="33529"/>
                      <a:pt x="18685" y="43200"/>
                      <a:pt x="6756" y="43200"/>
                    </a:cubicBezTo>
                    <a:cubicBezTo>
                      <a:pt x="5068" y="43200"/>
                      <a:pt x="3385" y="43002"/>
                      <a:pt x="1744" y="42610"/>
                    </a:cubicBezTo>
                    <a:lnTo>
                      <a:pt x="675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rc 7"/>
              <p:cNvSpPr/>
              <p:nvPr/>
            </p:nvSpPr>
            <p:spPr>
              <a:xfrm flipV="1" rot="14221800">
                <a:off x="1927440" y="2397600"/>
                <a:ext cx="318240" cy="1594440"/>
              </a:xfrm>
              <a:custGeom>
                <a:avLst/>
                <a:gdLst>
                  <a:gd name="textAreaLeft" fmla="*/ 0 w 318240"/>
                  <a:gd name="textAreaRight" fmla="*/ 318600 w 318240"/>
                  <a:gd name="textAreaTop" fmla="*/ -360 h 1594440"/>
                  <a:gd name="textAreaBottom" fmla="*/ 1594440 h 1594440"/>
                </a:gdLst>
                <a:ahLst/>
                <a:rect l="textAreaLeft" t="textAreaTop" r="textAreaRight" b="textAreaBottom"/>
                <a:pathLst>
                  <a:path fill="none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</a:path>
                  <a:path stroke="0" w="21696" h="43200">
                    <a:moveTo>
                      <a:pt x="96" y="0"/>
                    </a:moveTo>
                    <a:cubicBezTo>
                      <a:pt x="12025" y="0"/>
                      <a:pt x="21696" y="9670"/>
                      <a:pt x="21696" y="21600"/>
                    </a:cubicBezTo>
                    <a:cubicBezTo>
                      <a:pt x="21696" y="-32007"/>
                      <a:pt x="12025" y="-22336"/>
                      <a:pt x="96" y="-22336"/>
                    </a:cubicBezTo>
                    <a:cubicBezTo>
                      <a:pt x="64" y="-22336"/>
                      <a:pt x="32" y="-22337"/>
                      <a:pt x="0" y="-22337"/>
                    </a:cubicBezTo>
                    <a:lnTo>
                      <a:pt x="9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Oval 8"/>
            <p:cNvSpPr/>
            <p:nvPr/>
          </p:nvSpPr>
          <p:spPr>
            <a:xfrm rot="19621800">
              <a:off x="1388880" y="2979360"/>
              <a:ext cx="1591920" cy="711360"/>
            </a:xfrm>
            <a:prstGeom prst="ellipse">
              <a:avLst/>
            </a:prstGeom>
            <a:solidFill>
              <a:srgbClr val="ff00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0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71" name="Freeform 11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6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7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19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20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381" name="Arc 21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rc 22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Freeform 23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4495680" y="2438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ллип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0.175 -0.16065 L 0.31129 -0.26713 E">
                                      <p:cBhvr>
                                        <p:cTn id="53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8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691920" y="640080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Category:Conic_s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4" descr="608px-Conic_sections"/>
          <p:cNvPicPr/>
          <p:nvPr/>
        </p:nvPicPr>
        <p:blipFill>
          <a:blip r:embed="rId2"/>
          <a:stretch/>
        </p:blipFill>
        <p:spPr>
          <a:xfrm>
            <a:off x="609480" y="609480"/>
            <a:ext cx="5791320" cy="54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9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99" name="Freeform 10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3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5"/>
          <p:cNvSpPr/>
          <p:nvPr/>
        </p:nvSpPr>
        <p:spPr>
          <a:xfrm>
            <a:off x="691920" y="6400800"/>
            <a:ext cx="63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Category:Conic_s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6" descr="720px-Cono_y_secciones"/>
          <p:cNvPicPr/>
          <p:nvPr/>
        </p:nvPicPr>
        <p:blipFill>
          <a:blip r:embed="rId2"/>
          <a:stretch/>
        </p:blipFill>
        <p:spPr>
          <a:xfrm>
            <a:off x="152280" y="1522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1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Conic_sections"/>
          <p:cNvPicPr/>
          <p:nvPr/>
        </p:nvPicPr>
        <p:blipFill>
          <a:blip r:embed="rId1"/>
          <a:stretch/>
        </p:blipFill>
        <p:spPr>
          <a:xfrm>
            <a:off x="3429000" y="-76320"/>
            <a:ext cx="54770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57"/>
          <p:cNvSpPr/>
          <p:nvPr/>
        </p:nvSpPr>
        <p:spPr>
          <a:xfrm>
            <a:off x="7556400" y="276876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23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893160" y="990720"/>
            <a:ext cx="5042160" cy="5488920"/>
            <a:chOff x="893160" y="990720"/>
            <a:chExt cx="5042160" cy="5488920"/>
          </a:xfrm>
        </p:grpSpPr>
        <p:sp>
          <p:nvSpPr>
            <p:cNvPr id="432" name="Freeform 2"/>
            <p:cNvSpPr/>
            <p:nvPr/>
          </p:nvSpPr>
          <p:spPr>
            <a:xfrm>
              <a:off x="1595160" y="3575160"/>
              <a:ext cx="2697840" cy="2528280"/>
            </a:xfrm>
            <a:custGeom>
              <a:avLst/>
              <a:gdLst>
                <a:gd name="textAreaLeft" fmla="*/ 0 w 2697840"/>
                <a:gd name="textAreaRight" fmla="*/ 2698200 w 2697840"/>
                <a:gd name="textAreaTop" fmla="*/ 0 h 2528280"/>
                <a:gd name="textAreaBottom" fmla="*/ 2528640 h 2528280"/>
              </a:gdLst>
              <a:ahLst/>
              <a:rect l="textAreaLeft" t="textAreaTop" r="textAreaRight" b="textAreaBottom"/>
              <a:pathLst>
                <a:path w="2032" h="1936">
                  <a:moveTo>
                    <a:pt x="2032" y="1448"/>
                  </a:moveTo>
                  <a:lnTo>
                    <a:pt x="984" y="0"/>
                  </a:lnTo>
                  <a:lnTo>
                    <a:pt x="984" y="0"/>
                  </a:lnTo>
                  <a:lnTo>
                    <a:pt x="0" y="1936"/>
                  </a:lnTo>
                  <a:lnTo>
                    <a:pt x="2032" y="1448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"/>
            <p:cNvSpPr/>
            <p:nvPr/>
          </p:nvSpPr>
          <p:spPr>
            <a:xfrm>
              <a:off x="1595160" y="5800680"/>
              <a:ext cx="1283760" cy="3027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968" h="232">
                  <a:moveTo>
                    <a:pt x="0" y="232"/>
                  </a:moveTo>
                  <a:lnTo>
                    <a:pt x="9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1583280" y="3575160"/>
              <a:ext cx="1316880" cy="253872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2538720"/>
                <a:gd name="textAreaBottom" fmla="*/ 2539080 h 2538720"/>
              </a:gdLst>
              <a:ahLst/>
              <a:rect l="textAreaLeft" t="textAreaTop" r="textAreaRight" b="textAreaBottom"/>
              <a:pathLst>
                <a:path w="992" h="1944">
                  <a:moveTo>
                    <a:pt x="0" y="1944"/>
                  </a:moveTo>
                  <a:lnTo>
                    <a:pt x="992" y="0"/>
                  </a:lnTo>
                  <a:lnTo>
                    <a:pt x="992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129960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2894760" y="56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2889720" y="3575160"/>
              <a:ext cx="10440" cy="2235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7" h="1456">
                  <a:moveTo>
                    <a:pt x="7" y="0"/>
                  </a:moveTo>
                  <a:lnTo>
                    <a:pt x="0" y="145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17"/>
            <p:cNvSpPr/>
            <p:nvPr/>
          </p:nvSpPr>
          <p:spPr>
            <a:xfrm rot="5400000">
              <a:off x="2545560" y="4362840"/>
              <a:ext cx="772920" cy="3232440"/>
            </a:xfrm>
            <a:custGeom>
              <a:avLst/>
              <a:gdLst>
                <a:gd name="textAreaLeft" fmla="*/ 0 w 772920"/>
                <a:gd name="textAreaRight" fmla="*/ 773280 w 772920"/>
                <a:gd name="textAreaTop" fmla="*/ 0 h 3232440"/>
                <a:gd name="textAreaBottom" fmla="*/ 3232800 h 32324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rc 18"/>
            <p:cNvSpPr/>
            <p:nvPr/>
          </p:nvSpPr>
          <p:spPr>
            <a:xfrm flipV="1" rot="16200000">
              <a:off x="2633760" y="3861360"/>
              <a:ext cx="591480" cy="32299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360 h 3229920"/>
                <a:gd name="textAreaBottom" fmla="*/ 3230640 h 322992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2894760" y="332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1347840" y="3575160"/>
              <a:ext cx="3159360" cy="2079000"/>
            </a:xfrm>
            <a:custGeom>
              <a:avLst/>
              <a:gdLst>
                <a:gd name="textAreaLeft" fmla="*/ 0 w 3159360"/>
                <a:gd name="textAreaRight" fmla="*/ 3159720 w 3159360"/>
                <a:gd name="textAreaTop" fmla="*/ 0 h 2079000"/>
                <a:gd name="textAreaBottom" fmla="*/ 2079360 h 2079000"/>
              </a:gdLst>
              <a:ahLst/>
              <a:rect l="textAreaLeft" t="textAreaTop" r="textAreaRight" b="textAreaBottom"/>
              <a:pathLst>
                <a:path w="2376" h="1592">
                  <a:moveTo>
                    <a:pt x="2376" y="1592"/>
                  </a:moveTo>
                  <a:lnTo>
                    <a:pt x="1160" y="0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306800" y="3575160"/>
              <a:ext cx="3265560" cy="2800080"/>
            </a:xfrm>
            <a:custGeom>
              <a:avLst/>
              <a:gdLst>
                <a:gd name="textAreaLeft" fmla="*/ 0 w 3265560"/>
                <a:gd name="textAreaRight" fmla="*/ 3265920 w 3265560"/>
                <a:gd name="textAreaTop" fmla="*/ 0 h 2800080"/>
                <a:gd name="textAreaBottom" fmla="*/ 2800440 h 2800080"/>
              </a:gdLst>
              <a:ahLst/>
              <a:rect l="textAreaLeft" t="textAreaTop" r="textAreaRight" b="textAreaBottom"/>
              <a:pathLst>
                <a:path w="2457" h="2144">
                  <a:moveTo>
                    <a:pt x="1189" y="5"/>
                  </a:moveTo>
                  <a:cubicBezTo>
                    <a:pt x="1213" y="2"/>
                    <a:pt x="1220" y="37"/>
                    <a:pt x="1258" y="86"/>
                  </a:cubicBezTo>
                  <a:cubicBezTo>
                    <a:pt x="1296" y="135"/>
                    <a:pt x="1245" y="76"/>
                    <a:pt x="1417" y="302"/>
                  </a:cubicBezTo>
                  <a:cubicBezTo>
                    <a:pt x="1589" y="528"/>
                    <a:pt x="2129" y="1231"/>
                    <a:pt x="2293" y="1445"/>
                  </a:cubicBezTo>
                  <a:cubicBezTo>
                    <a:pt x="2457" y="1659"/>
                    <a:pt x="2377" y="1543"/>
                    <a:pt x="2401" y="1586"/>
                  </a:cubicBezTo>
                  <a:cubicBezTo>
                    <a:pt x="2425" y="1629"/>
                    <a:pt x="2453" y="1658"/>
                    <a:pt x="2440" y="1706"/>
                  </a:cubicBezTo>
                  <a:cubicBezTo>
                    <a:pt x="2427" y="1754"/>
                    <a:pt x="2387" y="1825"/>
                    <a:pt x="2323" y="1877"/>
                  </a:cubicBezTo>
                  <a:cubicBezTo>
                    <a:pt x="2259" y="1929"/>
                    <a:pt x="2178" y="1981"/>
                    <a:pt x="2053" y="2021"/>
                  </a:cubicBezTo>
                  <a:cubicBezTo>
                    <a:pt x="1928" y="2061"/>
                    <a:pt x="1734" y="2097"/>
                    <a:pt x="1573" y="2117"/>
                  </a:cubicBezTo>
                  <a:cubicBezTo>
                    <a:pt x="1412" y="2137"/>
                    <a:pt x="1239" y="2144"/>
                    <a:pt x="1087" y="2141"/>
                  </a:cubicBezTo>
                  <a:cubicBezTo>
                    <a:pt x="935" y="2138"/>
                    <a:pt x="793" y="2124"/>
                    <a:pt x="658" y="2096"/>
                  </a:cubicBezTo>
                  <a:cubicBezTo>
                    <a:pt x="523" y="2068"/>
                    <a:pt x="376" y="2016"/>
                    <a:pt x="277" y="1973"/>
                  </a:cubicBezTo>
                  <a:cubicBezTo>
                    <a:pt x="178" y="1930"/>
                    <a:pt x="109" y="1889"/>
                    <a:pt x="64" y="1838"/>
                  </a:cubicBezTo>
                  <a:cubicBezTo>
                    <a:pt x="19" y="1787"/>
                    <a:pt x="11" y="1713"/>
                    <a:pt x="7" y="1670"/>
                  </a:cubicBezTo>
                  <a:cubicBezTo>
                    <a:pt x="3" y="1627"/>
                    <a:pt x="0" y="1638"/>
                    <a:pt x="37" y="1577"/>
                  </a:cubicBezTo>
                  <a:cubicBezTo>
                    <a:pt x="74" y="1516"/>
                    <a:pt x="112" y="1458"/>
                    <a:pt x="229" y="1301"/>
                  </a:cubicBezTo>
                  <a:cubicBezTo>
                    <a:pt x="346" y="1144"/>
                    <a:pt x="592" y="831"/>
                    <a:pt x="739" y="632"/>
                  </a:cubicBezTo>
                  <a:cubicBezTo>
                    <a:pt x="886" y="433"/>
                    <a:pt x="1036" y="208"/>
                    <a:pt x="1111" y="104"/>
                  </a:cubicBezTo>
                  <a:cubicBezTo>
                    <a:pt x="1186" y="0"/>
                    <a:pt x="1173" y="26"/>
                    <a:pt x="1189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7058"/>
                  </a:srgbClr>
                </a:gs>
                <a:gs pos="50000">
                  <a:srgbClr val="ffffff">
                    <a:alpha val="46274"/>
                  </a:srgbClr>
                </a:gs>
                <a:gs pos="100000">
                  <a:srgbClr val="bbe0e3">
                    <a:alpha val="4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93160" y="547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4"/>
            <p:cNvSpPr/>
            <p:nvPr/>
          </p:nvSpPr>
          <p:spPr>
            <a:xfrm>
              <a:off x="4275720" y="9907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5365800" y="43585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42"/>
          <p:cNvGrpSpPr/>
          <p:nvPr/>
        </p:nvGrpSpPr>
        <p:grpSpPr>
          <a:xfrm>
            <a:off x="-471960" y="205200"/>
            <a:ext cx="6486840" cy="7035120"/>
            <a:chOff x="-471960" y="205200"/>
            <a:chExt cx="6486840" cy="7035120"/>
          </a:xfrm>
        </p:grpSpPr>
        <p:sp>
          <p:nvSpPr>
            <p:cNvPr id="447" name="Freeform 40"/>
            <p:cNvSpPr/>
            <p:nvPr/>
          </p:nvSpPr>
          <p:spPr>
            <a:xfrm rot="7819800">
              <a:off x="1550160" y="3864240"/>
              <a:ext cx="3341880" cy="2552040"/>
            </a:xfrm>
            <a:custGeom>
              <a:avLst/>
              <a:gdLst>
                <a:gd name="textAreaLeft" fmla="*/ 0 w 3341880"/>
                <a:gd name="textAreaRight" fmla="*/ 3342240 w 334188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104" h="1608">
                  <a:moveTo>
                    <a:pt x="0" y="0"/>
                  </a:moveTo>
                  <a:lnTo>
                    <a:pt x="416" y="1608"/>
                  </a:lnTo>
                  <a:lnTo>
                    <a:pt x="2104" y="15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rc 41"/>
            <p:cNvSpPr/>
            <p:nvPr/>
          </p:nvSpPr>
          <p:spPr>
            <a:xfrm rot="15108600">
              <a:off x="522360" y="501840"/>
              <a:ext cx="4497840" cy="5349600"/>
            </a:xfrm>
            <a:custGeom>
              <a:avLst/>
              <a:gdLst>
                <a:gd name="textAreaLeft" fmla="*/ 0 w 4497840"/>
                <a:gd name="textAreaRight" fmla="*/ 4498200 w 4497840"/>
                <a:gd name="textAreaTop" fmla="*/ 0 h 5349600"/>
                <a:gd name="textAreaBottom" fmla="*/ 5349960 h 5349600"/>
              </a:gdLst>
              <a:ahLst/>
              <a:rect l="textAreaLeft" t="textAreaTop" r="textAreaRight" b="textAreaBottom"/>
              <a:pathLst>
                <a:path fill="none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</a:path>
                <a:path stroke="0" w="36849" h="43200">
                  <a:moveTo>
                    <a:pt x="2584" y="4101"/>
                  </a:moveTo>
                  <a:cubicBezTo>
                    <a:pt x="6269" y="1435"/>
                    <a:pt x="10701" y="-1"/>
                    <a:pt x="15249" y="0"/>
                  </a:cubicBezTo>
                  <a:cubicBezTo>
                    <a:pt x="27178" y="0"/>
                    <a:pt x="36849" y="9670"/>
                    <a:pt x="36849" y="21600"/>
                  </a:cubicBezTo>
                  <a:cubicBezTo>
                    <a:pt x="36849" y="33529"/>
                    <a:pt x="27178" y="43200"/>
                    <a:pt x="15249" y="43200"/>
                  </a:cubicBezTo>
                  <a:cubicBezTo>
                    <a:pt x="9532" y="43200"/>
                    <a:pt x="4048" y="40933"/>
                    <a:pt x="0" y="36897"/>
                  </a:cubicBezTo>
                  <a:lnTo>
                    <a:pt x="152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45"/>
          <p:cNvSpPr/>
          <p:nvPr/>
        </p:nvSpPr>
        <p:spPr>
          <a:xfrm>
            <a:off x="1753920" y="41148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3430800" y="5410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49"/>
          <p:cNvGrpSpPr/>
          <p:nvPr/>
        </p:nvGrpSpPr>
        <p:grpSpPr>
          <a:xfrm>
            <a:off x="685800" y="76320"/>
            <a:ext cx="9067680" cy="1152360"/>
            <a:chOff x="685800" y="76320"/>
            <a:chExt cx="9067680" cy="1152360"/>
          </a:xfrm>
        </p:grpSpPr>
        <mc:AlternateContent>
          <mc:Choice xmlns:a14="http://schemas.microsoft.com/office/drawing/2010/main" Requires="a14">
            <p:sp>
              <p:nvSpPr>
                <p:cNvPr id="452" name="Object 44"/>
                <p:cNvSpPr txBox="1"/>
                <p:nvPr/>
              </p:nvSpPr>
              <p:spPr>
                <a:xfrm>
                  <a:off x="5486040" y="76320"/>
                  <a:ext cx="25142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Б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П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Text Box 47"/>
            <p:cNvSpPr/>
            <p:nvPr/>
          </p:nvSpPr>
          <p:spPr>
            <a:xfrm>
              <a:off x="685800" y="228600"/>
              <a:ext cx="9067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Развертка конуса – сектор.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4" name="Object 48"/>
              <p:cNvSpPr txBox="1"/>
              <p:nvPr/>
            </p:nvSpPr>
            <p:spPr>
              <a:xfrm>
                <a:off x="2590920" y="6235560"/>
                <a:ext cx="1409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0"/>
              <p:cNvSpPr txBox="1"/>
              <p:nvPr/>
            </p:nvSpPr>
            <p:spPr>
              <a:xfrm>
                <a:off x="5095800" y="1371600"/>
                <a:ext cx="3143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С</m:t>
                    </m:r>
                    <m:r>
                      <m:t xml:space="preserve">1</m:t>
                    </m:r>
                    <m:r>
                      <m:t xml:space="preserve">С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51"/>
              <p:cNvSpPr txBox="1"/>
              <p:nvPr/>
            </p:nvSpPr>
            <p:spPr>
              <a:xfrm>
                <a:off x="1981080" y="990720"/>
                <a:ext cx="1409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52"/>
              <p:cNvSpPr txBox="1"/>
              <p:nvPr/>
            </p:nvSpPr>
            <p:spPr>
              <a:xfrm>
                <a:off x="5638680" y="2514600"/>
                <a:ext cx="232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3"/>
              <p:cNvSpPr txBox="1"/>
              <p:nvPr/>
            </p:nvSpPr>
            <p:spPr>
              <a:xfrm>
                <a:off x="5715000" y="3733920"/>
                <a:ext cx="1697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Freeform 54"/>
          <p:cNvSpPr/>
          <p:nvPr/>
        </p:nvSpPr>
        <p:spPr>
          <a:xfrm>
            <a:off x="7543800" y="838080"/>
            <a:ext cx="1270080" cy="33530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800" h="2352">
                <a:moveTo>
                  <a:pt x="0" y="2352"/>
                </a:moveTo>
                <a:cubicBezTo>
                  <a:pt x="124" y="2191"/>
                  <a:pt x="688" y="1776"/>
                  <a:pt x="744" y="1384"/>
                </a:cubicBezTo>
                <a:cubicBezTo>
                  <a:pt x="800" y="992"/>
                  <a:pt x="421" y="288"/>
                  <a:pt x="3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55"/>
              <p:cNvSpPr txBox="1"/>
              <p:nvPr/>
            </p:nvSpPr>
            <p:spPr>
              <a:xfrm>
                <a:off x="5638680" y="4876920"/>
                <a:ext cx="2484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Group 64"/>
          <p:cNvGrpSpPr/>
          <p:nvPr/>
        </p:nvGrpSpPr>
        <p:grpSpPr>
          <a:xfrm>
            <a:off x="5587200" y="5972040"/>
            <a:ext cx="1769400" cy="707040"/>
            <a:chOff x="5587200" y="5972040"/>
            <a:chExt cx="1769400" cy="707040"/>
          </a:xfrm>
        </p:grpSpPr>
        <p:sp>
          <p:nvSpPr>
            <p:cNvPr id="462" name="Rectangle 60"/>
            <p:cNvSpPr/>
            <p:nvPr/>
          </p:nvSpPr>
          <p:spPr>
            <a:xfrm>
              <a:off x="7000920" y="599616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rl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1"/>
            <p:cNvSpPr/>
            <p:nvPr/>
          </p:nvSpPr>
          <p:spPr>
            <a:xfrm>
              <a:off x="5587200" y="6033960"/>
              <a:ext cx="64116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Б.П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2"/>
            <p:cNvSpPr/>
            <p:nvPr/>
          </p:nvSpPr>
          <p:spPr>
            <a:xfrm>
              <a:off x="6628680" y="5972040"/>
              <a:ext cx="293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3"/>
            <p:cNvSpPr/>
            <p:nvPr/>
          </p:nvSpPr>
          <p:spPr>
            <a:xfrm>
              <a:off x="6236280" y="597204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1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05 -0.69074 L -0.06459 -0.76505 E">
                                      <p:cBhvr>
                                        <p:cTn id="56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L 0.22847 0.04237 L 0.30208 0.03681 L 0.35069 0.03311 E">
                                      <p:cBhvr>
                                        <p:cTn id="581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3"/>
          <p:cNvGrpSpPr/>
          <p:nvPr/>
        </p:nvGrpSpPr>
        <p:grpSpPr>
          <a:xfrm>
            <a:off x="685800" y="4876920"/>
            <a:ext cx="5410080" cy="1447560"/>
            <a:chOff x="685800" y="4876920"/>
            <a:chExt cx="5410080" cy="1447560"/>
          </a:xfrm>
        </p:grpSpPr>
        <p:grpSp>
          <p:nvGrpSpPr>
            <p:cNvPr id="61" name="Group 4"/>
            <p:cNvGrpSpPr/>
            <p:nvPr/>
          </p:nvGrpSpPr>
          <p:grpSpPr>
            <a:xfrm>
              <a:off x="685800" y="4876920"/>
              <a:ext cx="5410080" cy="1447560"/>
              <a:chOff x="685800" y="4876920"/>
              <a:chExt cx="5410080" cy="1447560"/>
            </a:xfrm>
          </p:grpSpPr>
          <p:sp>
            <p:nvSpPr>
              <p:cNvPr id="62" name="Freeform 5"/>
              <p:cNvSpPr/>
              <p:nvPr/>
            </p:nvSpPr>
            <p:spPr>
              <a:xfrm>
                <a:off x="685800" y="4897080"/>
                <a:ext cx="5410080" cy="1427400"/>
              </a:xfrm>
              <a:custGeom>
                <a:avLst/>
                <a:gdLst>
                  <a:gd name="textAreaLeft" fmla="*/ 0 w 5410080"/>
                  <a:gd name="textAreaRight" fmla="*/ 5410440 w 5410080"/>
                  <a:gd name="textAreaTop" fmla="*/ 0 h 1427400"/>
                  <a:gd name="textAreaBottom" fmla="*/ 1427760 h 1427400"/>
                </a:gdLst>
                <a:ahLst/>
                <a:rect l="textAreaLeft" t="textAreaTop" r="textAreaRight" b="textAreaBottom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blipFill rotWithShape="0">
                <a:blip r:embed="rId1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"/>
              <p:cNvSpPr/>
              <p:nvPr/>
            </p:nvSpPr>
            <p:spPr>
              <a:xfrm>
                <a:off x="5023800" y="4876920"/>
                <a:ext cx="1071720" cy="1429920"/>
              </a:xfrm>
              <a:custGeom>
                <a:avLst/>
                <a:gdLst>
                  <a:gd name="textAreaLeft" fmla="*/ 0 w 1071720"/>
                  <a:gd name="textAreaRight" fmla="*/ 1072080 w 107172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blipFill rotWithShape="0">
                <a:blip r:embed="rId2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"/>
              <p:cNvSpPr/>
              <p:nvPr/>
            </p:nvSpPr>
            <p:spPr>
              <a:xfrm>
                <a:off x="685800" y="6240240"/>
                <a:ext cx="4353480" cy="73800"/>
              </a:xfrm>
              <a:custGeom>
                <a:avLst/>
                <a:gdLst>
                  <a:gd name="textAreaLeft" fmla="*/ 0 w 4353480"/>
                  <a:gd name="textAreaRight" fmla="*/ 4353840 w 43534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blipFill rotWithShape="0">
                <a:blip r:embed="rId3">
                  <a:alphaModFix amt="68000"/>
                </a:blip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" name="Object 8"/>
                <p:cNvSpPr txBox="1"/>
                <p:nvPr/>
              </p:nvSpPr>
              <p:spPr>
                <a:xfrm>
                  <a:off x="5486400" y="4952880"/>
                  <a:ext cx="380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1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Freeform 1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0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окружность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3"/>
          <p:cNvSpPr/>
          <p:nvPr/>
        </p:nvSpPr>
        <p:spPr>
          <a:xfrm>
            <a:off x="2440080" y="3178080"/>
            <a:ext cx="900000" cy="2511360"/>
          </a:xfrm>
          <a:custGeom>
            <a:avLst/>
            <a:gdLst>
              <a:gd name="textAreaLeft" fmla="*/ 0 w 900000"/>
              <a:gd name="textAreaRight" fmla="*/ 900360 w 900000"/>
              <a:gd name="textAreaTop" fmla="*/ 0 h 2511360"/>
              <a:gd name="textAreaBottom" fmla="*/ 2511720 h 2511360"/>
            </a:gdLst>
            <a:ahLst/>
            <a:rect l="textAreaLeft" t="textAreaTop" r="textAreaRight" b="textAreaBottom"/>
            <a:pathLst>
              <a:path w="567" h="1582">
                <a:moveTo>
                  <a:pt x="567" y="0"/>
                </a:moveTo>
                <a:lnTo>
                  <a:pt x="0" y="1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4"/>
          <p:cNvSpPr/>
          <p:nvPr/>
        </p:nvSpPr>
        <p:spPr>
          <a:xfrm>
            <a:off x="2668680" y="3178080"/>
            <a:ext cx="687240" cy="2613240"/>
          </a:xfrm>
          <a:custGeom>
            <a:avLst/>
            <a:gdLst>
              <a:gd name="textAreaLeft" fmla="*/ 0 w 687240"/>
              <a:gd name="textAreaRight" fmla="*/ 687600 w 687240"/>
              <a:gd name="textAreaTop" fmla="*/ 0 h 2613240"/>
              <a:gd name="textAreaBottom" fmla="*/ 2613240 h 2613240"/>
            </a:gdLst>
            <a:ahLst/>
            <a:rect l="textAreaLeft" t="textAreaTop" r="textAreaRight" b="textAreaBottom"/>
            <a:pathLst>
              <a:path w="433" h="1646">
                <a:moveTo>
                  <a:pt x="433" y="0"/>
                </a:moveTo>
                <a:lnTo>
                  <a:pt x="0" y="16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5"/>
          <p:cNvSpPr/>
          <p:nvPr/>
        </p:nvSpPr>
        <p:spPr>
          <a:xfrm>
            <a:off x="2897280" y="3187800"/>
            <a:ext cx="452520" cy="2628720"/>
          </a:xfrm>
          <a:custGeom>
            <a:avLst/>
            <a:gdLst>
              <a:gd name="textAreaLeft" fmla="*/ 0 w 452520"/>
              <a:gd name="textAreaRight" fmla="*/ 452880 w 45252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285" h="1656">
                <a:moveTo>
                  <a:pt x="285" y="0"/>
                </a:moveTo>
                <a:lnTo>
                  <a:pt x="0" y="16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6"/>
          <p:cNvSpPr/>
          <p:nvPr/>
        </p:nvSpPr>
        <p:spPr>
          <a:xfrm>
            <a:off x="2516040" y="3174840"/>
            <a:ext cx="830520" cy="2540160"/>
          </a:xfrm>
          <a:custGeom>
            <a:avLst/>
            <a:gdLst>
              <a:gd name="textAreaLeft" fmla="*/ 0 w 830520"/>
              <a:gd name="textAreaRight" fmla="*/ 830880 w 830520"/>
              <a:gd name="textAreaTop" fmla="*/ 0 h 2540160"/>
              <a:gd name="textAreaBottom" fmla="*/ 2540160 h 2540160"/>
            </a:gdLst>
            <a:ahLst/>
            <a:rect l="textAreaLeft" t="textAreaTop" r="textAreaRight" b="textAreaBottom"/>
            <a:pathLst>
              <a:path w="523" h="1600">
                <a:moveTo>
                  <a:pt x="523" y="0"/>
                </a:moveTo>
                <a:lnTo>
                  <a:pt x="0" y="16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7"/>
          <p:cNvSpPr/>
          <p:nvPr/>
        </p:nvSpPr>
        <p:spPr>
          <a:xfrm>
            <a:off x="2744640" y="3193920"/>
            <a:ext cx="608040" cy="2597400"/>
          </a:xfrm>
          <a:custGeom>
            <a:avLst/>
            <a:gdLst>
              <a:gd name="textAreaLeft" fmla="*/ 0 w 608040"/>
              <a:gd name="textAreaRight" fmla="*/ 608400 w 608040"/>
              <a:gd name="textAreaTop" fmla="*/ 0 h 2597400"/>
              <a:gd name="textAreaBottom" fmla="*/ 2597400 h 2597400"/>
            </a:gdLst>
            <a:ahLst/>
            <a:rect l="textAreaLeft" t="textAreaTop" r="textAreaRight" b="textAreaBottom"/>
            <a:pathLst>
              <a:path w="383" h="1636">
                <a:moveTo>
                  <a:pt x="383" y="0"/>
                </a:moveTo>
                <a:lnTo>
                  <a:pt x="0" y="16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8"/>
          <p:cNvSpPr/>
          <p:nvPr/>
        </p:nvSpPr>
        <p:spPr>
          <a:xfrm>
            <a:off x="3049560" y="3191040"/>
            <a:ext cx="303120" cy="2676240"/>
          </a:xfrm>
          <a:custGeom>
            <a:avLst/>
            <a:gdLst>
              <a:gd name="textAreaLeft" fmla="*/ 0 w 303120"/>
              <a:gd name="textAreaRight" fmla="*/ 303480 w 303120"/>
              <a:gd name="textAreaTop" fmla="*/ 0 h 2676240"/>
              <a:gd name="textAreaBottom" fmla="*/ 2676600 h 2676240"/>
            </a:gdLst>
            <a:ahLst/>
            <a:rect l="textAreaLeft" t="textAreaTop" r="textAreaRight" b="textAreaBottom"/>
            <a:pathLst>
              <a:path w="191" h="1686">
                <a:moveTo>
                  <a:pt x="191" y="0"/>
                </a:moveTo>
                <a:lnTo>
                  <a:pt x="0" y="16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9"/>
          <p:cNvSpPr/>
          <p:nvPr/>
        </p:nvSpPr>
        <p:spPr>
          <a:xfrm>
            <a:off x="2287440" y="3165480"/>
            <a:ext cx="1055880" cy="239724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665" h="1510">
                <a:moveTo>
                  <a:pt x="665" y="0"/>
                </a:moveTo>
                <a:lnTo>
                  <a:pt x="0" y="15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1"/>
          <p:cNvSpPr/>
          <p:nvPr/>
        </p:nvSpPr>
        <p:spPr>
          <a:xfrm>
            <a:off x="3359160" y="3200400"/>
            <a:ext cx="681120" cy="2590920"/>
          </a:xfrm>
          <a:custGeom>
            <a:avLst/>
            <a:gdLst>
              <a:gd name="textAreaLeft" fmla="*/ 0 w 681120"/>
              <a:gd name="textAreaRight" fmla="*/ 681480 w 68112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429" h="1632">
                <a:moveTo>
                  <a:pt x="0" y="0"/>
                </a:moveTo>
                <a:lnTo>
                  <a:pt x="429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2"/>
          <p:cNvSpPr/>
          <p:nvPr/>
        </p:nvSpPr>
        <p:spPr>
          <a:xfrm>
            <a:off x="3346560" y="3191040"/>
            <a:ext cx="1074600" cy="234612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2346120"/>
              <a:gd name="textAreaBottom" fmla="*/ 2346480 h 2346120"/>
            </a:gdLst>
            <a:ahLst/>
            <a:rect l="textAreaLeft" t="textAreaTop" r="textAreaRight" b="textAreaBottom"/>
            <a:pathLst>
              <a:path w="677" h="1478">
                <a:moveTo>
                  <a:pt x="0" y="0"/>
                </a:moveTo>
                <a:lnTo>
                  <a:pt x="677" y="14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3"/>
          <p:cNvSpPr/>
          <p:nvPr/>
        </p:nvSpPr>
        <p:spPr>
          <a:xfrm>
            <a:off x="3355920" y="3191040"/>
            <a:ext cx="912960" cy="2498400"/>
          </a:xfrm>
          <a:custGeom>
            <a:avLst/>
            <a:gdLst>
              <a:gd name="textAreaLeft" fmla="*/ 0 w 912960"/>
              <a:gd name="textAreaRight" fmla="*/ 913320 w 912960"/>
              <a:gd name="textAreaTop" fmla="*/ 0 h 2498400"/>
              <a:gd name="textAreaBottom" fmla="*/ 2498760 h 2498400"/>
            </a:gdLst>
            <a:ahLst/>
            <a:rect l="textAreaLeft" t="textAreaTop" r="textAreaRight" b="textAreaBottom"/>
            <a:pathLst>
              <a:path w="575" h="1574">
                <a:moveTo>
                  <a:pt x="0" y="0"/>
                </a:moveTo>
                <a:lnTo>
                  <a:pt x="575" y="15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4"/>
          <p:cNvSpPr/>
          <p:nvPr/>
        </p:nvSpPr>
        <p:spPr>
          <a:xfrm>
            <a:off x="3355920" y="3197160"/>
            <a:ext cx="506520" cy="2632320"/>
          </a:xfrm>
          <a:custGeom>
            <a:avLst/>
            <a:gdLst>
              <a:gd name="textAreaLeft" fmla="*/ 0 w 506520"/>
              <a:gd name="textAreaRight" fmla="*/ 506880 w 506520"/>
              <a:gd name="textAreaTop" fmla="*/ 0 h 2632320"/>
              <a:gd name="textAreaBottom" fmla="*/ 2632680 h 2632320"/>
            </a:gdLst>
            <a:ahLst/>
            <a:rect l="textAreaLeft" t="textAreaTop" r="textAreaRight" b="textAreaBottom"/>
            <a:pathLst>
              <a:path w="319" h="1658">
                <a:moveTo>
                  <a:pt x="0" y="0"/>
                </a:moveTo>
                <a:lnTo>
                  <a:pt x="319" y="16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685800" y="7621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Р и каждую точку окружности проведем прямую. Поверхность, образованная этими прям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конической поверхностью. Сами прямые называются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разующими конической поверхности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2"/>
          <p:cNvGrpSpPr/>
          <p:nvPr/>
        </p:nvGrpSpPr>
        <p:grpSpPr>
          <a:xfrm>
            <a:off x="1907280" y="3508200"/>
            <a:ext cx="1228680" cy="2285640"/>
            <a:chOff x="1907280" y="3508200"/>
            <a:chExt cx="1228680" cy="2285640"/>
          </a:xfrm>
        </p:grpSpPr>
        <p:sp>
          <p:nvSpPr>
            <p:cNvPr id="89" name="Text Box 35"/>
            <p:cNvSpPr/>
            <p:nvPr/>
          </p:nvSpPr>
          <p:spPr>
            <a:xfrm rot="17485200">
              <a:off x="1734480" y="421020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бразующа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9"/>
            <p:cNvSpPr/>
            <p:nvPr/>
          </p:nvSpPr>
          <p:spPr>
            <a:xfrm>
              <a:off x="1907280" y="533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Object 53"/>
              <p:cNvSpPr txBox="1"/>
              <p:nvPr/>
            </p:nvSpPr>
            <p:spPr>
              <a:xfrm>
                <a:off x="5410080" y="304920"/>
                <a:ext cx="1371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</m:t>
                    </m:r>
                    <m:r>
                      <m:t xml:space="preserve">⊥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" name="Group 61"/>
          <p:cNvGrpSpPr/>
          <p:nvPr/>
        </p:nvGrpSpPr>
        <p:grpSpPr>
          <a:xfrm>
            <a:off x="3202200" y="2666880"/>
            <a:ext cx="383400" cy="2895840"/>
            <a:chOff x="3202200" y="2666880"/>
            <a:chExt cx="383400" cy="2895840"/>
          </a:xfrm>
        </p:grpSpPr>
        <p:sp>
          <p:nvSpPr>
            <p:cNvPr id="93" name="Line 30"/>
            <p:cNvSpPr/>
            <p:nvPr/>
          </p:nvSpPr>
          <p:spPr>
            <a:xfrm>
              <a:off x="3352680" y="3200400"/>
              <a:ext cx="180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7"/>
            <p:cNvSpPr/>
            <p:nvPr/>
          </p:nvSpPr>
          <p:spPr>
            <a:xfrm>
              <a:off x="3202200" y="2666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0"/>
          <p:cNvGrpSpPr/>
          <p:nvPr/>
        </p:nvGrpSpPr>
        <p:grpSpPr>
          <a:xfrm>
            <a:off x="2286000" y="5143680"/>
            <a:ext cx="2130480" cy="732960"/>
            <a:chOff x="2286000" y="5143680"/>
            <a:chExt cx="2130480" cy="732960"/>
          </a:xfrm>
        </p:grpSpPr>
        <p:sp>
          <p:nvSpPr>
            <p:cNvPr id="96" name="Arc 9"/>
            <p:cNvSpPr/>
            <p:nvPr/>
          </p:nvSpPr>
          <p:spPr>
            <a:xfrm rot="5400000">
              <a:off x="3156120" y="4273560"/>
              <a:ext cx="390240" cy="21304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fill="none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</a:path>
                <a:path stroke="0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  <a:lnTo>
                    <a:pt x="21600" y="2153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rc 56"/>
            <p:cNvSpPr/>
            <p:nvPr/>
          </p:nvSpPr>
          <p:spPr>
            <a:xfrm flipV="1" rot="16200000">
              <a:off x="3155760" y="4615560"/>
              <a:ext cx="390600" cy="21304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360 h 2130480"/>
                <a:gd name="textAreaBottom" fmla="*/ 2131200 h 2130480"/>
              </a:gdLst>
              <a:ahLst/>
              <a:rect l="textAreaLeft" t="textAreaTop" r="textAreaRight" b="textAreaBottom"/>
              <a:pathLst>
                <a:path fill="none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</a:path>
                <a:path stroke="0" w="22165" h="43138">
                  <a:moveTo>
                    <a:pt x="22164" y="43130"/>
                  </a:moveTo>
                  <a:cubicBezTo>
                    <a:pt x="21976" y="43135"/>
                    <a:pt x="21788" y="43137"/>
                    <a:pt x="21600" y="43138"/>
                  </a:cubicBezTo>
                  <a:cubicBezTo>
                    <a:pt x="9670" y="43138"/>
                    <a:pt x="0" y="33467"/>
                    <a:pt x="0" y="21538"/>
                  </a:cubicBezTo>
                  <a:cubicBezTo>
                    <a:pt x="-1" y="10244"/>
                    <a:pt x="8699" y="857"/>
                    <a:pt x="19961" y="0"/>
                  </a:cubicBezTo>
                  <a:lnTo>
                    <a:pt x="21600" y="2153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8"/>
            <p:cNvSpPr/>
            <p:nvPr/>
          </p:nvSpPr>
          <p:spPr>
            <a:xfrm>
              <a:off x="3353760" y="5334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9"/>
            <p:cNvSpPr/>
            <p:nvPr/>
          </p:nvSpPr>
          <p:spPr>
            <a:xfrm>
              <a:off x="3314880" y="5524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rc 64"/>
          <p:cNvSpPr/>
          <p:nvPr/>
        </p:nvSpPr>
        <p:spPr>
          <a:xfrm rot="5400000">
            <a:off x="3125160" y="4309920"/>
            <a:ext cx="458640" cy="2135160"/>
          </a:xfrm>
          <a:custGeom>
            <a:avLst/>
            <a:gdLst>
              <a:gd name="textAreaLeft" fmla="*/ 0 w 458640"/>
              <a:gd name="textAreaRight" fmla="*/ 459000 w 458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fill="none" w="26041" h="43200">
                <a:moveTo>
                  <a:pt x="22164" y="43192"/>
                </a:moveTo>
                <a:cubicBezTo>
                  <a:pt x="21976" y="43197"/>
                  <a:pt x="2178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92" y="-1"/>
                  <a:pt x="24580" y="154"/>
                  <a:pt x="26041" y="461"/>
                </a:cubicBezTo>
              </a:path>
              <a:path stroke="0" w="26041" h="43200">
                <a:moveTo>
                  <a:pt x="22164" y="43192"/>
                </a:moveTo>
                <a:cubicBezTo>
                  <a:pt x="21976" y="43197"/>
                  <a:pt x="2178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92" y="-1"/>
                  <a:pt x="24580" y="154"/>
                  <a:pt x="26041" y="461"/>
                </a:cubicBezTo>
                <a:lnTo>
                  <a:pt x="2160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9"/>
          <p:cNvSpPr/>
          <p:nvPr/>
        </p:nvSpPr>
        <p:spPr>
          <a:xfrm>
            <a:off x="3922560" y="1219320"/>
            <a:ext cx="25560" cy="5079960"/>
          </a:xfrm>
          <a:custGeom>
            <a:avLst/>
            <a:gdLst>
              <a:gd name="textAreaLeft" fmla="*/ 0 w 25560"/>
              <a:gd name="textAreaRight" fmla="*/ 25920 w 25560"/>
              <a:gd name="textAreaTop" fmla="*/ 0 h 5079960"/>
              <a:gd name="textAreaBottom" fmla="*/ 5080320 h 5079960"/>
            </a:gdLst>
            <a:ahLst/>
            <a:rect l="textAreaLeft" t="textAreaTop" r="textAreaRight" b="textAreaBottom"/>
            <a:pathLst>
              <a:path w="16" h="3200">
                <a:moveTo>
                  <a:pt x="16" y="0"/>
                </a:moveTo>
                <a:lnTo>
                  <a:pt x="0" y="320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3933720" y="1981080"/>
            <a:ext cx="14400" cy="2718000"/>
          </a:xfrm>
          <a:custGeom>
            <a:avLst/>
            <a:gdLst>
              <a:gd name="textAreaLeft" fmla="*/ 0 w 14400"/>
              <a:gd name="textAreaRight" fmla="*/ 14760 w 1440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2386080" y="4686480"/>
            <a:ext cx="1536480" cy="36828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8" h="232">
                <a:moveTo>
                  <a:pt x="0" y="232"/>
                </a:moveTo>
                <a:lnTo>
                  <a:pt x="9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5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4"/>
          <p:cNvSpPr/>
          <p:nvPr/>
        </p:nvSpPr>
        <p:spPr>
          <a:xfrm>
            <a:off x="19832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9366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8"/>
          <p:cNvSpPr/>
          <p:nvPr/>
        </p:nvSpPr>
        <p:spPr>
          <a:xfrm flipV="1" rot="16200000">
            <a:off x="362088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52280" y="304920"/>
            <a:ext cx="44960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ело, ограниченное конической поверхностью и кругом с границей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называется конусом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2093760" y="1981080"/>
            <a:ext cx="3772080" cy="2527560"/>
          </a:xfrm>
          <a:custGeom>
            <a:avLst/>
            <a:gdLst>
              <a:gd name="textAreaLeft" fmla="*/ 0 w 3772080"/>
              <a:gd name="textAreaRight" fmla="*/ 3772440 w 377208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AutoShape 41"/>
          <p:cNvGrpSpPr/>
          <p:nvPr/>
        </p:nvGrpSpPr>
        <p:grpSpPr>
          <a:xfrm>
            <a:off x="3925800" y="828720"/>
            <a:ext cx="3938760" cy="708120"/>
            <a:chOff x="3925800" y="828720"/>
            <a:chExt cx="3938760" cy="708120"/>
          </a:xfrm>
        </p:grpSpPr>
        <p:pic>
          <p:nvPicPr>
            <p:cNvPr id="119" name="AutoShape 41" descr=""/>
            <p:cNvPicPr/>
            <p:nvPr/>
          </p:nvPicPr>
          <p:blipFill>
            <a:blip r:embed="rId1"/>
            <a:stretch/>
          </p:blipFill>
          <p:spPr>
            <a:xfrm>
              <a:off x="3925800" y="828720"/>
              <a:ext cx="39387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15000" y="83808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ь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45"/>
          <p:cNvGrpSpPr/>
          <p:nvPr/>
        </p:nvGrpSpPr>
        <p:grpSpPr>
          <a:xfrm>
            <a:off x="3925800" y="1590840"/>
            <a:ext cx="3938760" cy="707760"/>
            <a:chOff x="3925800" y="1590840"/>
            <a:chExt cx="3938760" cy="707760"/>
          </a:xfrm>
        </p:grpSpPr>
        <p:pic>
          <p:nvPicPr>
            <p:cNvPr id="122" name="AutoShape 45" descr=""/>
            <p:cNvPicPr/>
            <p:nvPr/>
          </p:nvPicPr>
          <p:blipFill>
            <a:blip r:embed="rId2"/>
            <a:stretch/>
          </p:blipFill>
          <p:spPr>
            <a:xfrm>
              <a:off x="3925800" y="1590840"/>
              <a:ext cx="39387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715000" y="16002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ершина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47"/>
          <p:cNvGrpSpPr/>
          <p:nvPr/>
        </p:nvGrpSpPr>
        <p:grpSpPr>
          <a:xfrm>
            <a:off x="3925800" y="2505240"/>
            <a:ext cx="3938760" cy="707760"/>
            <a:chOff x="3925800" y="2505240"/>
            <a:chExt cx="3938760" cy="707760"/>
          </a:xfrm>
        </p:grpSpPr>
        <p:pic>
          <p:nvPicPr>
            <p:cNvPr id="125" name="AutoShape 47" descr=""/>
            <p:cNvPicPr/>
            <p:nvPr/>
          </p:nvPicPr>
          <p:blipFill>
            <a:blip r:embed="rId3"/>
            <a:stretch/>
          </p:blipFill>
          <p:spPr>
            <a:xfrm>
              <a:off x="3925800" y="2505240"/>
              <a:ext cx="39387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15000" y="2514600"/>
              <a:ext cx="2133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сота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48"/>
          <p:cNvGrpSpPr/>
          <p:nvPr/>
        </p:nvGrpSpPr>
        <p:grpSpPr>
          <a:xfrm>
            <a:off x="676440" y="2273400"/>
            <a:ext cx="2597040" cy="1135080"/>
            <a:chOff x="676440" y="2273400"/>
            <a:chExt cx="2597040" cy="1135080"/>
          </a:xfrm>
        </p:grpSpPr>
        <p:pic>
          <p:nvPicPr>
            <p:cNvPr id="128" name="AutoShape 48" descr=""/>
            <p:cNvPicPr/>
            <p:nvPr/>
          </p:nvPicPr>
          <p:blipFill>
            <a:blip r:embed="rId4"/>
            <a:stretch/>
          </p:blipFill>
          <p:spPr>
            <a:xfrm>
              <a:off x="676440" y="2273400"/>
              <a:ext cx="259704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228600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разующая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49"/>
          <p:cNvGrpSpPr/>
          <p:nvPr/>
        </p:nvGrpSpPr>
        <p:grpSpPr>
          <a:xfrm>
            <a:off x="4675320" y="4711680"/>
            <a:ext cx="3566880" cy="714240"/>
            <a:chOff x="4675320" y="4711680"/>
            <a:chExt cx="3566880" cy="714240"/>
          </a:xfrm>
        </p:grpSpPr>
        <p:pic>
          <p:nvPicPr>
            <p:cNvPr id="131" name="AutoShape 49" descr=""/>
            <p:cNvPicPr/>
            <p:nvPr/>
          </p:nvPicPr>
          <p:blipFill>
            <a:blip r:embed="rId5"/>
            <a:stretch/>
          </p:blipFill>
          <p:spPr>
            <a:xfrm>
              <a:off x="4675320" y="4711680"/>
              <a:ext cx="35668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172200" y="472428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е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50"/>
          <p:cNvGrpSpPr/>
          <p:nvPr/>
        </p:nvGrpSpPr>
        <p:grpSpPr>
          <a:xfrm>
            <a:off x="4456080" y="3340080"/>
            <a:ext cx="4322880" cy="714240"/>
            <a:chOff x="4456080" y="3340080"/>
            <a:chExt cx="4322880" cy="714240"/>
          </a:xfrm>
        </p:grpSpPr>
        <p:pic>
          <p:nvPicPr>
            <p:cNvPr id="134" name="AutoShape 50" descr=""/>
            <p:cNvPicPr/>
            <p:nvPr/>
          </p:nvPicPr>
          <p:blipFill>
            <a:blip r:embed="rId6"/>
            <a:stretch/>
          </p:blipFill>
          <p:spPr>
            <a:xfrm>
              <a:off x="4456080" y="3340080"/>
              <a:ext cx="43228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943600" y="3352680"/>
              <a:ext cx="2819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ая поверхность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53"/>
          <p:cNvGrpSpPr/>
          <p:nvPr/>
        </p:nvGrpSpPr>
        <p:grpSpPr>
          <a:xfrm>
            <a:off x="1133640" y="4870440"/>
            <a:ext cx="2463480" cy="1622520"/>
            <a:chOff x="1133640" y="4870440"/>
            <a:chExt cx="2463480" cy="1622520"/>
          </a:xfrm>
        </p:grpSpPr>
        <p:pic>
          <p:nvPicPr>
            <p:cNvPr id="137" name="AutoShape 53" descr=""/>
            <p:cNvPicPr/>
            <p:nvPr/>
          </p:nvPicPr>
          <p:blipFill>
            <a:blip r:embed="rId7"/>
            <a:stretch/>
          </p:blipFill>
          <p:spPr>
            <a:xfrm>
              <a:off x="1133640" y="4870440"/>
              <a:ext cx="2463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143000" y="5715000"/>
              <a:ext cx="2438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адиус основания конус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reeform 37"/>
          <p:cNvSpPr/>
          <p:nvPr/>
        </p:nvSpPr>
        <p:spPr>
          <a:xfrm>
            <a:off x="2043000" y="1981080"/>
            <a:ext cx="3900600" cy="3403800"/>
          </a:xfrm>
          <a:custGeom>
            <a:avLst/>
            <a:gdLst>
              <a:gd name="textAreaLeft" fmla="*/ 0 w 3900600"/>
              <a:gd name="textAreaRight" fmla="*/ 3900960 w 390060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7"/>
          <p:cNvSpPr/>
          <p:nvPr/>
        </p:nvSpPr>
        <p:spPr>
          <a:xfrm rot="5400000">
            <a:off x="351540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237348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39376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6"/>
          <p:cNvSpPr/>
          <p:nvPr/>
        </p:nvSpPr>
        <p:spPr>
          <a:xfrm>
            <a:off x="3911760" y="19558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1333440" y="1981080"/>
            <a:ext cx="1562040" cy="307368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3073680"/>
              <a:gd name="textAreaBottom" fmla="*/ 3074040 h 3073680"/>
            </a:gdLst>
            <a:ahLst/>
            <a:rect l="textAreaLeft" t="textAreaTop" r="textAreaRight" b="textAreaBottom"/>
            <a:pathLst>
              <a:path w="984" h="1936">
                <a:moveTo>
                  <a:pt x="968" y="1704"/>
                </a:moveTo>
                <a:lnTo>
                  <a:pt x="984" y="0"/>
                </a:lnTo>
                <a:lnTo>
                  <a:pt x="984" y="0"/>
                </a:lnTo>
                <a:lnTo>
                  <a:pt x="0" y="1936"/>
                </a:lnTo>
                <a:lnTo>
                  <a:pt x="968" y="170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"/>
          <p:cNvSpPr/>
          <p:nvPr/>
        </p:nvSpPr>
        <p:spPr>
          <a:xfrm>
            <a:off x="1333440" y="4686480"/>
            <a:ext cx="1536840" cy="36828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8" h="232">
                <a:moveTo>
                  <a:pt x="0" y="232"/>
                </a:moveTo>
                <a:lnTo>
                  <a:pt x="9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132084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48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5"/>
          <p:cNvSpPr/>
          <p:nvPr/>
        </p:nvSpPr>
        <p:spPr>
          <a:xfrm>
            <a:off x="97992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88504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"/>
          <p:cNvSpPr/>
          <p:nvPr/>
        </p:nvSpPr>
        <p:spPr>
          <a:xfrm>
            <a:off x="2881440" y="19810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9"/>
          <p:cNvSpPr/>
          <p:nvPr/>
        </p:nvSpPr>
        <p:spPr>
          <a:xfrm rot="5400000">
            <a:off x="246276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20"/>
          <p:cNvSpPr/>
          <p:nvPr/>
        </p:nvSpPr>
        <p:spPr>
          <a:xfrm flipV="1" rot="16200000">
            <a:off x="256860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152280" y="304920"/>
            <a:ext cx="906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ус может быть получен путем вращения прямоугольного треугольника вокруг одного из его катетов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4"/>
          <p:cNvSpPr/>
          <p:nvPr/>
        </p:nvSpPr>
        <p:spPr>
          <a:xfrm>
            <a:off x="1663560" y="1974960"/>
            <a:ext cx="1222560" cy="32320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3232080"/>
              <a:gd name="textAreaBottom" fmla="*/ 3232440 h 3232080"/>
            </a:gdLst>
            <a:ahLst/>
            <a:rect l="textAreaLeft" t="textAreaTop" r="textAreaRight" b="textAreaBottom"/>
            <a:pathLst>
              <a:path w="770" h="2036">
                <a:moveTo>
                  <a:pt x="0" y="2020"/>
                </a:moveTo>
                <a:lnTo>
                  <a:pt x="770" y="0"/>
                </a:lnTo>
                <a:lnTo>
                  <a:pt x="768" y="4"/>
                </a:lnTo>
                <a:lnTo>
                  <a:pt x="752" y="1708"/>
                </a:lnTo>
                <a:lnTo>
                  <a:pt x="16" y="2036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5"/>
          <p:cNvSpPr/>
          <p:nvPr/>
        </p:nvSpPr>
        <p:spPr>
          <a:xfrm>
            <a:off x="2057400" y="1981080"/>
            <a:ext cx="851040" cy="3340080"/>
          </a:xfrm>
          <a:custGeom>
            <a:avLst/>
            <a:gdLst>
              <a:gd name="textAreaLeft" fmla="*/ 0 w 851040"/>
              <a:gd name="textAreaRight" fmla="*/ 851400 w 85104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536" h="2104">
                <a:moveTo>
                  <a:pt x="0" y="2104"/>
                </a:moveTo>
                <a:lnTo>
                  <a:pt x="526" y="0"/>
                </a:lnTo>
                <a:lnTo>
                  <a:pt x="536" y="0"/>
                </a:lnTo>
                <a:lnTo>
                  <a:pt x="528" y="1704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6"/>
          <p:cNvSpPr/>
          <p:nvPr/>
        </p:nvSpPr>
        <p:spPr>
          <a:xfrm>
            <a:off x="2527200" y="1994040"/>
            <a:ext cx="393840" cy="3378240"/>
          </a:xfrm>
          <a:custGeom>
            <a:avLst/>
            <a:gdLst>
              <a:gd name="textAreaLeft" fmla="*/ 0 w 393840"/>
              <a:gd name="textAreaRight" fmla="*/ 394200 w 393840"/>
              <a:gd name="textAreaTop" fmla="*/ 0 h 3378240"/>
              <a:gd name="textAreaBottom" fmla="*/ 3378600 h 3378240"/>
            </a:gdLst>
            <a:ahLst/>
            <a:rect l="textAreaLeft" t="textAreaTop" r="textAreaRight" b="textAreaBottom"/>
            <a:pathLst>
              <a:path w="248" h="2128">
                <a:moveTo>
                  <a:pt x="8" y="2104"/>
                </a:moveTo>
                <a:lnTo>
                  <a:pt x="232" y="0"/>
                </a:lnTo>
                <a:lnTo>
                  <a:pt x="208" y="8"/>
                </a:lnTo>
                <a:lnTo>
                  <a:pt x="248" y="1720"/>
                </a:lnTo>
                <a:lnTo>
                  <a:pt x="0" y="2128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7"/>
          <p:cNvSpPr/>
          <p:nvPr/>
        </p:nvSpPr>
        <p:spPr>
          <a:xfrm>
            <a:off x="2857680" y="1955880"/>
            <a:ext cx="190440" cy="3429000"/>
          </a:xfrm>
          <a:custGeom>
            <a:avLst/>
            <a:gdLst>
              <a:gd name="textAreaLeft" fmla="*/ 0 w 190440"/>
              <a:gd name="textAreaRight" fmla="*/ 190800 w 1904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0" h="2160">
                <a:moveTo>
                  <a:pt x="120" y="2160"/>
                </a:moveTo>
                <a:lnTo>
                  <a:pt x="24" y="0"/>
                </a:lnTo>
                <a:lnTo>
                  <a:pt x="32" y="8"/>
                </a:lnTo>
                <a:lnTo>
                  <a:pt x="0" y="1736"/>
                </a:lnTo>
                <a:lnTo>
                  <a:pt x="120" y="2144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8"/>
          <p:cNvSpPr/>
          <p:nvPr/>
        </p:nvSpPr>
        <p:spPr>
          <a:xfrm>
            <a:off x="2882880" y="1930320"/>
            <a:ext cx="571680" cy="3479760"/>
          </a:xfrm>
          <a:custGeom>
            <a:avLst/>
            <a:gdLst>
              <a:gd name="textAreaLeft" fmla="*/ 0 w 571680"/>
              <a:gd name="textAreaRight" fmla="*/ 572040 w 571680"/>
              <a:gd name="textAreaTop" fmla="*/ 0 h 3479760"/>
              <a:gd name="textAreaBottom" fmla="*/ 3480120 h 3479760"/>
            </a:gdLst>
            <a:ahLst/>
            <a:rect l="textAreaLeft" t="textAreaTop" r="textAreaRight" b="textAreaBottom"/>
            <a:pathLst>
              <a:path w="360" h="2192">
                <a:moveTo>
                  <a:pt x="360" y="2192"/>
                </a:moveTo>
                <a:lnTo>
                  <a:pt x="8" y="0"/>
                </a:lnTo>
                <a:lnTo>
                  <a:pt x="8" y="24"/>
                </a:lnTo>
                <a:lnTo>
                  <a:pt x="0" y="1736"/>
                </a:lnTo>
                <a:lnTo>
                  <a:pt x="360" y="2176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2882880" y="1981080"/>
            <a:ext cx="952560" cy="3353040"/>
          </a:xfrm>
          <a:custGeom>
            <a:avLst/>
            <a:gdLst>
              <a:gd name="textAreaLeft" fmla="*/ 0 w 952560"/>
              <a:gd name="textAreaRight" fmla="*/ 952920 w 95256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600" h="2112">
                <a:moveTo>
                  <a:pt x="600" y="2112"/>
                </a:moveTo>
                <a:lnTo>
                  <a:pt x="10" y="0"/>
                </a:lnTo>
                <a:lnTo>
                  <a:pt x="0" y="0"/>
                </a:lnTo>
                <a:lnTo>
                  <a:pt x="8" y="1728"/>
                </a:lnTo>
                <a:lnTo>
                  <a:pt x="60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0"/>
          <p:cNvSpPr/>
          <p:nvPr/>
        </p:nvSpPr>
        <p:spPr>
          <a:xfrm>
            <a:off x="2882880" y="1987560"/>
            <a:ext cx="1333440" cy="32068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3206880"/>
              <a:gd name="textAreaBottom" fmla="*/ 3207240 h 3206880"/>
            </a:gdLst>
            <a:ahLst/>
            <a:rect l="textAreaLeft" t="textAreaTop" r="textAreaRight" b="textAreaBottom"/>
            <a:pathLst>
              <a:path w="840" h="2020">
                <a:moveTo>
                  <a:pt x="840" y="2012"/>
                </a:moveTo>
                <a:lnTo>
                  <a:pt x="8" y="0"/>
                </a:lnTo>
                <a:lnTo>
                  <a:pt x="8" y="4"/>
                </a:lnTo>
                <a:lnTo>
                  <a:pt x="0" y="1724"/>
                </a:lnTo>
                <a:lnTo>
                  <a:pt x="832" y="2020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1"/>
          <p:cNvSpPr/>
          <p:nvPr/>
        </p:nvSpPr>
        <p:spPr>
          <a:xfrm>
            <a:off x="2870280" y="1971720"/>
            <a:ext cx="1727280" cy="3070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1088" h="1934">
                <a:moveTo>
                  <a:pt x="1088" y="1926"/>
                </a:moveTo>
                <a:lnTo>
                  <a:pt x="8" y="0"/>
                </a:lnTo>
                <a:lnTo>
                  <a:pt x="0" y="14"/>
                </a:lnTo>
                <a:lnTo>
                  <a:pt x="8" y="1718"/>
                </a:lnTo>
                <a:lnTo>
                  <a:pt x="1080" y="1934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2"/>
          <p:cNvSpPr/>
          <p:nvPr/>
        </p:nvSpPr>
        <p:spPr>
          <a:xfrm>
            <a:off x="2889360" y="1971720"/>
            <a:ext cx="1974600" cy="2752560"/>
          </a:xfrm>
          <a:custGeom>
            <a:avLst/>
            <a:gdLst>
              <a:gd name="textAreaLeft" fmla="*/ 0 w 1974600"/>
              <a:gd name="textAreaRight" fmla="*/ 1974960 w 197460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1244" h="1734">
                <a:moveTo>
                  <a:pt x="1244" y="1726"/>
                </a:moveTo>
                <a:lnTo>
                  <a:pt x="0" y="0"/>
                </a:lnTo>
                <a:lnTo>
                  <a:pt x="12" y="6"/>
                </a:lnTo>
                <a:lnTo>
                  <a:pt x="4" y="1710"/>
                </a:lnTo>
                <a:lnTo>
                  <a:pt x="1236" y="1734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3"/>
          <p:cNvSpPr/>
          <p:nvPr/>
        </p:nvSpPr>
        <p:spPr>
          <a:xfrm>
            <a:off x="2889360" y="1981080"/>
            <a:ext cx="1657080" cy="271800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2718000"/>
              <a:gd name="textAreaBottom" fmla="*/ 2718360 h 2718000"/>
            </a:gdLst>
            <a:ahLst/>
            <a:rect l="textAreaLeft" t="textAreaTop" r="textAreaRight" b="textAreaBottom"/>
            <a:pathLst>
              <a:path w="1044" h="1712">
                <a:moveTo>
                  <a:pt x="1044" y="1432"/>
                </a:moveTo>
                <a:lnTo>
                  <a:pt x="0" y="0"/>
                </a:lnTo>
                <a:lnTo>
                  <a:pt x="4" y="0"/>
                </a:lnTo>
                <a:lnTo>
                  <a:pt x="4" y="1712"/>
                </a:lnTo>
                <a:lnTo>
                  <a:pt x="1036" y="1440"/>
                </a:lnTo>
              </a:path>
            </a:pathLst>
          </a:custGeom>
          <a:blipFill rotWithShape="0">
            <a:blip r:embed="rId11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4"/>
          <p:cNvSpPr/>
          <p:nvPr/>
        </p:nvSpPr>
        <p:spPr>
          <a:xfrm>
            <a:off x="2895480" y="1974960"/>
            <a:ext cx="952560" cy="2736720"/>
          </a:xfrm>
          <a:custGeom>
            <a:avLst/>
            <a:gdLst>
              <a:gd name="textAreaLeft" fmla="*/ 0 w 952560"/>
              <a:gd name="textAreaRight" fmla="*/ 952920 w 952560"/>
              <a:gd name="textAreaTop" fmla="*/ 0 h 2736720"/>
              <a:gd name="textAreaBottom" fmla="*/ 2736720 h 2736720"/>
            </a:gdLst>
            <a:ahLst/>
            <a:rect l="textAreaLeft" t="textAreaTop" r="textAreaRight" b="textAreaBottom"/>
            <a:pathLst>
              <a:path w="600" h="1724">
                <a:moveTo>
                  <a:pt x="600" y="1284"/>
                </a:moveTo>
                <a:lnTo>
                  <a:pt x="0" y="0"/>
                </a:lnTo>
                <a:lnTo>
                  <a:pt x="0" y="4"/>
                </a:lnTo>
                <a:lnTo>
                  <a:pt x="0" y="1724"/>
                </a:lnTo>
                <a:lnTo>
                  <a:pt x="592" y="1292"/>
                </a:lnTo>
              </a:path>
            </a:pathLst>
          </a:custGeom>
          <a:blipFill rotWithShape="0">
            <a:blip r:embed="rId1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5"/>
          <p:cNvSpPr/>
          <p:nvPr/>
        </p:nvSpPr>
        <p:spPr>
          <a:xfrm>
            <a:off x="2870280" y="1974960"/>
            <a:ext cx="355680" cy="2711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711520"/>
              <a:gd name="textAreaBottom" fmla="*/ 2711880 h 2711520"/>
            </a:gdLst>
            <a:ahLst/>
            <a:rect l="textAreaLeft" t="textAreaTop" r="textAreaRight" b="textAreaBottom"/>
            <a:pathLst>
              <a:path w="224" h="1708">
                <a:moveTo>
                  <a:pt x="224" y="1236"/>
                </a:moveTo>
                <a:lnTo>
                  <a:pt x="14" y="0"/>
                </a:lnTo>
                <a:lnTo>
                  <a:pt x="0" y="4"/>
                </a:lnTo>
                <a:lnTo>
                  <a:pt x="24" y="1708"/>
                </a:lnTo>
                <a:lnTo>
                  <a:pt x="216" y="1244"/>
                </a:lnTo>
              </a:path>
            </a:pathLst>
          </a:custGeom>
          <a:blipFill rotWithShape="0">
            <a:blip r:embed="rId1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6"/>
          <p:cNvSpPr/>
          <p:nvPr/>
        </p:nvSpPr>
        <p:spPr>
          <a:xfrm>
            <a:off x="2540160" y="1968480"/>
            <a:ext cx="355320" cy="2755800"/>
          </a:xfrm>
          <a:custGeom>
            <a:avLst/>
            <a:gdLst>
              <a:gd name="textAreaLeft" fmla="*/ 0 w 355320"/>
              <a:gd name="textAreaRight" fmla="*/ 355680 w 355320"/>
              <a:gd name="textAreaTop" fmla="*/ 0 h 2755800"/>
              <a:gd name="textAreaBottom" fmla="*/ 2756160 h 2755800"/>
            </a:gdLst>
            <a:ahLst/>
            <a:rect l="textAreaLeft" t="textAreaTop" r="textAreaRight" b="textAreaBottom"/>
            <a:pathLst>
              <a:path w="224" h="1736">
                <a:moveTo>
                  <a:pt x="8" y="1240"/>
                </a:moveTo>
                <a:lnTo>
                  <a:pt x="222" y="0"/>
                </a:lnTo>
                <a:lnTo>
                  <a:pt x="224" y="8"/>
                </a:lnTo>
                <a:lnTo>
                  <a:pt x="216" y="1736"/>
                </a:lnTo>
                <a:lnTo>
                  <a:pt x="0" y="1248"/>
                </a:lnTo>
              </a:path>
            </a:pathLst>
          </a:custGeom>
          <a:blipFill rotWithShape="0">
            <a:blip r:embed="rId14">
              <a:alphaModFix amt="3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2057400" y="1981080"/>
            <a:ext cx="838080" cy="2730600"/>
          </a:xfrm>
          <a:custGeom>
            <a:avLst/>
            <a:gdLst>
              <a:gd name="textAreaLeft" fmla="*/ 0 w 838080"/>
              <a:gd name="textAreaRight" fmla="*/ 838440 w 838080"/>
              <a:gd name="textAreaTop" fmla="*/ 0 h 2730600"/>
              <a:gd name="textAreaBottom" fmla="*/ 2730600 h 2730600"/>
            </a:gdLst>
            <a:ahLst/>
            <a:rect l="textAreaLeft" t="textAreaTop" r="textAreaRight" b="textAreaBottom"/>
            <a:pathLst>
              <a:path w="528" h="1720">
                <a:moveTo>
                  <a:pt x="8" y="1280"/>
                </a:moveTo>
                <a:lnTo>
                  <a:pt x="524" y="0"/>
                </a:lnTo>
                <a:lnTo>
                  <a:pt x="528" y="2"/>
                </a:lnTo>
                <a:lnTo>
                  <a:pt x="520" y="1720"/>
                </a:lnTo>
                <a:lnTo>
                  <a:pt x="0" y="1288"/>
                </a:lnTo>
              </a:path>
            </a:pathLst>
          </a:custGeom>
          <a:blipFill rotWithShape="0">
            <a:blip r:embed="rId1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8"/>
          <p:cNvSpPr/>
          <p:nvPr/>
        </p:nvSpPr>
        <p:spPr>
          <a:xfrm>
            <a:off x="1523880" y="1984320"/>
            <a:ext cx="1376640" cy="2727360"/>
          </a:xfrm>
          <a:custGeom>
            <a:avLst/>
            <a:gdLst>
              <a:gd name="textAreaLeft" fmla="*/ 0 w 1376640"/>
              <a:gd name="textAreaRight" fmla="*/ 1377000 w 1376640"/>
              <a:gd name="textAreaTop" fmla="*/ 0 h 2727360"/>
              <a:gd name="textAreaBottom" fmla="*/ 2727720 h 2727360"/>
            </a:gdLst>
            <a:ahLst/>
            <a:rect l="textAreaLeft" t="textAreaTop" r="textAreaRight" b="textAreaBottom"/>
            <a:pathLst>
              <a:path w="867" h="1718">
                <a:moveTo>
                  <a:pt x="8" y="1374"/>
                </a:moveTo>
                <a:lnTo>
                  <a:pt x="860" y="0"/>
                </a:lnTo>
                <a:lnTo>
                  <a:pt x="867" y="1"/>
                </a:lnTo>
                <a:lnTo>
                  <a:pt x="864" y="1718"/>
                </a:lnTo>
                <a:lnTo>
                  <a:pt x="0" y="1382"/>
                </a:lnTo>
              </a:path>
            </a:pathLst>
          </a:custGeom>
          <a:blipFill rotWithShape="0">
            <a:blip r:embed="rId1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9"/>
          <p:cNvSpPr/>
          <p:nvPr/>
        </p:nvSpPr>
        <p:spPr>
          <a:xfrm>
            <a:off x="1143000" y="1968480"/>
            <a:ext cx="1754280" cy="277812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2778120"/>
              <a:gd name="textAreaBottom" fmla="*/ 2778480 h 2778120"/>
            </a:gdLst>
            <a:ahLst/>
            <a:rect l="textAreaLeft" t="textAreaTop" r="textAreaRight" b="textAreaBottom"/>
            <a:pathLst>
              <a:path w="1105" h="1750">
                <a:moveTo>
                  <a:pt x="8" y="1528"/>
                </a:moveTo>
                <a:lnTo>
                  <a:pt x="1096" y="0"/>
                </a:lnTo>
                <a:lnTo>
                  <a:pt x="1105" y="3"/>
                </a:lnTo>
                <a:lnTo>
                  <a:pt x="1096" y="1750"/>
                </a:lnTo>
                <a:lnTo>
                  <a:pt x="0" y="1536"/>
                </a:lnTo>
              </a:path>
            </a:pathLst>
          </a:custGeom>
          <a:blipFill rotWithShape="0">
            <a:blip r:embed="rId1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288504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44"/>
          <p:cNvSpPr/>
          <p:nvPr/>
        </p:nvSpPr>
        <p:spPr>
          <a:xfrm>
            <a:off x="990720" y="1981080"/>
            <a:ext cx="3900240" cy="3403800"/>
          </a:xfrm>
          <a:custGeom>
            <a:avLst/>
            <a:gdLst>
              <a:gd name="textAreaLeft" fmla="*/ 0 w 3900240"/>
              <a:gd name="textAreaRight" fmla="*/ 3900600 w 390024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5"/>
          <p:cNvSpPr/>
          <p:nvPr/>
        </p:nvSpPr>
        <p:spPr>
          <a:xfrm>
            <a:off x="1041480" y="1981080"/>
            <a:ext cx="3771720" cy="252756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37"/>
          <p:cNvSpPr/>
          <p:nvPr/>
        </p:nvSpPr>
        <p:spPr>
          <a:xfrm>
            <a:off x="990720" y="1981080"/>
            <a:ext cx="3900240" cy="3403800"/>
          </a:xfrm>
          <a:custGeom>
            <a:avLst/>
            <a:gdLst>
              <a:gd name="textAreaLeft" fmla="*/ 0 w 3900240"/>
              <a:gd name="textAreaRight" fmla="*/ 3900600 w 390024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2457" h="2144">
                <a:moveTo>
                  <a:pt x="1189" y="5"/>
                </a:moveTo>
                <a:cubicBezTo>
                  <a:pt x="1213" y="2"/>
                  <a:pt x="1220" y="37"/>
                  <a:pt x="1258" y="86"/>
                </a:cubicBezTo>
                <a:cubicBezTo>
                  <a:pt x="1296" y="135"/>
                  <a:pt x="1245" y="76"/>
                  <a:pt x="1417" y="302"/>
                </a:cubicBezTo>
                <a:cubicBezTo>
                  <a:pt x="1589" y="528"/>
                  <a:pt x="2129" y="1231"/>
                  <a:pt x="2293" y="1445"/>
                </a:cubicBezTo>
                <a:cubicBezTo>
                  <a:pt x="2457" y="1659"/>
                  <a:pt x="2377" y="1543"/>
                  <a:pt x="2401" y="1586"/>
                </a:cubicBezTo>
                <a:cubicBezTo>
                  <a:pt x="2425" y="1629"/>
                  <a:pt x="2453" y="1658"/>
                  <a:pt x="2440" y="1706"/>
                </a:cubicBezTo>
                <a:cubicBezTo>
                  <a:pt x="2427" y="1754"/>
                  <a:pt x="2387" y="1825"/>
                  <a:pt x="2323" y="1877"/>
                </a:cubicBezTo>
                <a:cubicBezTo>
                  <a:pt x="2259" y="1929"/>
                  <a:pt x="2178" y="1981"/>
                  <a:pt x="2053" y="2021"/>
                </a:cubicBezTo>
                <a:cubicBezTo>
                  <a:pt x="1928" y="2061"/>
                  <a:pt x="1734" y="2097"/>
                  <a:pt x="1573" y="2117"/>
                </a:cubicBezTo>
                <a:cubicBezTo>
                  <a:pt x="1412" y="2137"/>
                  <a:pt x="1239" y="2144"/>
                  <a:pt x="1087" y="2141"/>
                </a:cubicBezTo>
                <a:cubicBezTo>
                  <a:pt x="935" y="2138"/>
                  <a:pt x="793" y="2124"/>
                  <a:pt x="658" y="2096"/>
                </a:cubicBezTo>
                <a:cubicBezTo>
                  <a:pt x="523" y="2068"/>
                  <a:pt x="376" y="2016"/>
                  <a:pt x="277" y="1973"/>
                </a:cubicBezTo>
                <a:cubicBezTo>
                  <a:pt x="178" y="1930"/>
                  <a:pt x="109" y="1889"/>
                  <a:pt x="64" y="1838"/>
                </a:cubicBezTo>
                <a:cubicBezTo>
                  <a:pt x="19" y="1787"/>
                  <a:pt x="11" y="1713"/>
                  <a:pt x="7" y="1670"/>
                </a:cubicBezTo>
                <a:cubicBezTo>
                  <a:pt x="3" y="1627"/>
                  <a:pt x="0" y="1638"/>
                  <a:pt x="37" y="1577"/>
                </a:cubicBezTo>
                <a:cubicBezTo>
                  <a:pt x="74" y="1516"/>
                  <a:pt x="112" y="1458"/>
                  <a:pt x="229" y="1301"/>
                </a:cubicBezTo>
                <a:cubicBezTo>
                  <a:pt x="346" y="1144"/>
                  <a:pt x="592" y="831"/>
                  <a:pt x="739" y="632"/>
                </a:cubicBezTo>
                <a:cubicBezTo>
                  <a:pt x="886" y="433"/>
                  <a:pt x="1036" y="208"/>
                  <a:pt x="1111" y="104"/>
                </a:cubicBezTo>
                <a:cubicBezTo>
                  <a:pt x="1186" y="0"/>
                  <a:pt x="1173" y="26"/>
                  <a:pt x="1189" y="5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7058"/>
                </a:srgbClr>
              </a:gs>
              <a:gs pos="50000">
                <a:srgbClr val="ffffff">
                  <a:alpha val="46274"/>
                </a:srgbClr>
              </a:gs>
              <a:gs pos="100000">
                <a:srgbClr val="bbe0e3">
                  <a:alpha val="4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"/>
          <p:cNvSpPr/>
          <p:nvPr/>
        </p:nvSpPr>
        <p:spPr>
          <a:xfrm>
            <a:off x="1333440" y="1981080"/>
            <a:ext cx="3225960" cy="307368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3073680"/>
              <a:gd name="textAreaBottom" fmla="*/ 3074040 h 3073680"/>
            </a:gdLst>
            <a:ahLst/>
            <a:rect l="textAreaLeft" t="textAreaTop" r="textAreaRight" b="textAreaBottom"/>
            <a:pathLst>
              <a:path w="2032" h="1936">
                <a:moveTo>
                  <a:pt x="2032" y="1440"/>
                </a:moveTo>
                <a:lnTo>
                  <a:pt x="984" y="0"/>
                </a:lnTo>
                <a:lnTo>
                  <a:pt x="984" y="0"/>
                </a:lnTo>
                <a:lnTo>
                  <a:pt x="0" y="1936"/>
                </a:lnTo>
                <a:lnTo>
                  <a:pt x="2032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333440" y="1994040"/>
            <a:ext cx="3238560" cy="30607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2040" h="1928">
                <a:moveTo>
                  <a:pt x="0" y="1928"/>
                </a:moveTo>
                <a:lnTo>
                  <a:pt x="2040" y="1440"/>
                </a:lnTo>
                <a:lnTo>
                  <a:pt x="97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"/>
          <p:cNvSpPr/>
          <p:nvPr/>
        </p:nvSpPr>
        <p:spPr>
          <a:xfrm>
            <a:off x="1320840" y="1981080"/>
            <a:ext cx="1574640" cy="30862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992" h="1944">
                <a:moveTo>
                  <a:pt x="0" y="1944"/>
                </a:moveTo>
                <a:lnTo>
                  <a:pt x="992" y="0"/>
                </a:lnTo>
                <a:lnTo>
                  <a:pt x="992" y="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86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4"/>
          <p:cNvSpPr/>
          <p:nvPr/>
        </p:nvSpPr>
        <p:spPr>
          <a:xfrm>
            <a:off x="97992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416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6"/>
          <p:cNvSpPr/>
          <p:nvPr/>
        </p:nvSpPr>
        <p:spPr>
          <a:xfrm>
            <a:off x="2881440" y="1981080"/>
            <a:ext cx="14040" cy="2718000"/>
          </a:xfrm>
          <a:custGeom>
            <a:avLst/>
            <a:gdLst>
              <a:gd name="textAreaLeft" fmla="*/ 0 w 14040"/>
              <a:gd name="textAreaRight" fmla="*/ 14400 w 14040"/>
              <a:gd name="textAreaTop" fmla="*/ 0 h 2718000"/>
              <a:gd name="textAreaBottom" fmla="*/ 2718000 h 2718000"/>
            </a:gdLst>
            <a:ahLst/>
            <a:rect l="textAreaLeft" t="textAreaTop" r="textAreaRight" b="textAreaBottom"/>
            <a:pathLst>
              <a:path w="7" h="1456">
                <a:moveTo>
                  <a:pt x="7" y="0"/>
                </a:moveTo>
                <a:lnTo>
                  <a:pt x="0" y="145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17"/>
          <p:cNvSpPr/>
          <p:nvPr/>
        </p:nvSpPr>
        <p:spPr>
          <a:xfrm rot="5400000">
            <a:off x="2462760" y="2973960"/>
            <a:ext cx="939960" cy="3859200"/>
          </a:xfrm>
          <a:custGeom>
            <a:avLst/>
            <a:gdLst>
              <a:gd name="textAreaLeft" fmla="*/ 0 w 939960"/>
              <a:gd name="textAreaRight" fmla="*/ 940320 w 939960"/>
              <a:gd name="textAreaTop" fmla="*/ 0 h 3859200"/>
              <a:gd name="textAreaBottom" fmla="*/ 3859560 h 3859200"/>
            </a:gdLst>
            <a:ahLst/>
            <a:rect l="textAreaLeft" t="textAreaTop" r="textAreaRight" b="textAreaBottom"/>
            <a:pathLst>
              <a:path fill="none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</a:path>
              <a:path stroke="0" w="28356" h="43200">
                <a:moveTo>
                  <a:pt x="-1" y="1083"/>
                </a:moveTo>
                <a:cubicBezTo>
                  <a:pt x="2180" y="365"/>
                  <a:pt x="4460" y="-1"/>
                  <a:pt x="6756" y="0"/>
                </a:cubicBezTo>
                <a:cubicBezTo>
                  <a:pt x="18685" y="0"/>
                  <a:pt x="28356" y="9670"/>
                  <a:pt x="28356" y="21600"/>
                </a:cubicBezTo>
                <a:cubicBezTo>
                  <a:pt x="28356" y="33529"/>
                  <a:pt x="18685" y="43200"/>
                  <a:pt x="6756" y="43200"/>
                </a:cubicBezTo>
                <a:cubicBezTo>
                  <a:pt x="5068" y="43200"/>
                  <a:pt x="3385" y="43002"/>
                  <a:pt x="1744" y="42610"/>
                </a:cubicBezTo>
                <a:lnTo>
                  <a:pt x="675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18"/>
          <p:cNvSpPr/>
          <p:nvPr/>
        </p:nvSpPr>
        <p:spPr>
          <a:xfrm flipV="1" rot="16200000">
            <a:off x="2568600" y="2363760"/>
            <a:ext cx="719280" cy="3859200"/>
          </a:xfrm>
          <a:custGeom>
            <a:avLst/>
            <a:gdLst>
              <a:gd name="textAreaLeft" fmla="*/ 0 w 719280"/>
              <a:gd name="textAreaRight" fmla="*/ 719640 w 719280"/>
              <a:gd name="textAreaTop" fmla="*/ 360 h 3859200"/>
              <a:gd name="textAreaBottom" fmla="*/ 3859920 h 3859200"/>
            </a:gdLst>
            <a:ahLst/>
            <a:rect l="textAreaLeft" t="textAreaTop" r="textAreaRight" b="textAreaBottom"/>
            <a:pathLst>
              <a:path fill="none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</a:path>
              <a:path stroke="0" w="21696" h="43200">
                <a:moveTo>
                  <a:pt x="96" y="0"/>
                </a:moveTo>
                <a:cubicBezTo>
                  <a:pt x="12025" y="0"/>
                  <a:pt x="21696" y="9670"/>
                  <a:pt x="21696" y="21600"/>
                </a:cubicBezTo>
                <a:cubicBezTo>
                  <a:pt x="21696" y="-32007"/>
                  <a:pt x="12025" y="-22336"/>
                  <a:pt x="96" y="-22336"/>
                </a:cubicBezTo>
                <a:cubicBezTo>
                  <a:pt x="64" y="-22336"/>
                  <a:pt x="32" y="-22337"/>
                  <a:pt x="0" y="-22337"/>
                </a:cubicBezTo>
                <a:lnTo>
                  <a:pt x="96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28600" y="68580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ус может быть получен путем вращения равнобедренного треугольника вокруг его высоты, опущенной на основание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0"/>
          <p:cNvSpPr/>
          <p:nvPr/>
        </p:nvSpPr>
        <p:spPr>
          <a:xfrm>
            <a:off x="1663560" y="1974960"/>
            <a:ext cx="2413080" cy="323208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3232080"/>
              <a:gd name="textAreaBottom" fmla="*/ 3232440 h 3232080"/>
            </a:gdLst>
            <a:ahLst/>
            <a:rect l="textAreaLeft" t="textAreaTop" r="textAreaRight" b="textAreaBottom"/>
            <a:pathLst>
              <a:path w="1520" h="2036">
                <a:moveTo>
                  <a:pt x="0" y="2020"/>
                </a:moveTo>
                <a:lnTo>
                  <a:pt x="770" y="0"/>
                </a:lnTo>
                <a:lnTo>
                  <a:pt x="768" y="4"/>
                </a:lnTo>
                <a:lnTo>
                  <a:pt x="1520" y="1324"/>
                </a:lnTo>
                <a:lnTo>
                  <a:pt x="16" y="2036"/>
                </a:lnTo>
              </a:path>
            </a:pathLst>
          </a:custGeom>
          <a:blipFill rotWithShape="0">
            <a:blip r:embed="rId2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1"/>
          <p:cNvSpPr/>
          <p:nvPr/>
        </p:nvSpPr>
        <p:spPr>
          <a:xfrm>
            <a:off x="2057400" y="1981080"/>
            <a:ext cx="1676520" cy="33400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1056" h="2104">
                <a:moveTo>
                  <a:pt x="0" y="2104"/>
                </a:moveTo>
                <a:lnTo>
                  <a:pt x="526" y="0"/>
                </a:lnTo>
                <a:lnTo>
                  <a:pt x="536" y="0"/>
                </a:lnTo>
                <a:lnTo>
                  <a:pt x="1056" y="1272"/>
                </a:lnTo>
                <a:lnTo>
                  <a:pt x="8" y="2104"/>
                </a:lnTo>
              </a:path>
            </a:pathLst>
          </a:custGeom>
          <a:blipFill rotWithShape="0">
            <a:blip r:embed="rId3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2527200" y="1994040"/>
            <a:ext cx="736560" cy="3378240"/>
          </a:xfrm>
          <a:custGeom>
            <a:avLst/>
            <a:gdLst>
              <a:gd name="textAreaLeft" fmla="*/ 0 w 736560"/>
              <a:gd name="textAreaRight" fmla="*/ 736920 w 736560"/>
              <a:gd name="textAreaTop" fmla="*/ 0 h 3378240"/>
              <a:gd name="textAreaBottom" fmla="*/ 3378600 h 3378240"/>
            </a:gdLst>
            <a:ahLst/>
            <a:rect l="textAreaLeft" t="textAreaTop" r="textAreaRight" b="textAreaBottom"/>
            <a:pathLst>
              <a:path w="464" h="2128">
                <a:moveTo>
                  <a:pt x="8" y="2104"/>
                </a:moveTo>
                <a:lnTo>
                  <a:pt x="232" y="0"/>
                </a:lnTo>
                <a:lnTo>
                  <a:pt x="208" y="8"/>
                </a:lnTo>
                <a:lnTo>
                  <a:pt x="464" y="1224"/>
                </a:lnTo>
                <a:lnTo>
                  <a:pt x="0" y="2128"/>
                </a:lnTo>
              </a:path>
            </a:pathLst>
          </a:custGeom>
          <a:blipFill rotWithShape="0">
            <a:blip r:embed="rId4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2629080" y="1955880"/>
            <a:ext cx="419040" cy="3429000"/>
          </a:xfrm>
          <a:custGeom>
            <a:avLst/>
            <a:gdLst>
              <a:gd name="textAreaLeft" fmla="*/ 0 w 419040"/>
              <a:gd name="textAreaRight" fmla="*/ 419400 w 4190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4" h="2160">
                <a:moveTo>
                  <a:pt x="264" y="2160"/>
                </a:moveTo>
                <a:lnTo>
                  <a:pt x="168" y="0"/>
                </a:lnTo>
                <a:lnTo>
                  <a:pt x="176" y="8"/>
                </a:lnTo>
                <a:lnTo>
                  <a:pt x="0" y="1176"/>
                </a:lnTo>
                <a:lnTo>
                  <a:pt x="256" y="2160"/>
                </a:lnTo>
                <a:lnTo>
                  <a:pt x="264" y="2144"/>
                </a:lnTo>
              </a:path>
            </a:pathLst>
          </a:custGeom>
          <a:blipFill rotWithShape="0">
            <a:blip r:embed="rId5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2336760" y="1930320"/>
            <a:ext cx="1117800" cy="347976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3479760"/>
              <a:gd name="textAreaBottom" fmla="*/ 3480120 h 3479760"/>
            </a:gdLst>
            <a:ahLst/>
            <a:rect l="textAreaLeft" t="textAreaTop" r="textAreaRight" b="textAreaBottom"/>
            <a:pathLst>
              <a:path w="704" h="2192">
                <a:moveTo>
                  <a:pt x="704" y="2192"/>
                </a:moveTo>
                <a:lnTo>
                  <a:pt x="352" y="0"/>
                </a:lnTo>
                <a:lnTo>
                  <a:pt x="352" y="24"/>
                </a:lnTo>
                <a:lnTo>
                  <a:pt x="0" y="1296"/>
                </a:lnTo>
                <a:lnTo>
                  <a:pt x="704" y="2176"/>
                </a:lnTo>
              </a:path>
            </a:pathLst>
          </a:custGeom>
          <a:blipFill rotWithShape="0">
            <a:blip r:embed="rId6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1994040" y="1981080"/>
            <a:ext cx="1841400" cy="335304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3353040"/>
              <a:gd name="textAreaBottom" fmla="*/ 3353400 h 3353040"/>
            </a:gdLst>
            <a:ahLst/>
            <a:rect l="textAreaLeft" t="textAreaTop" r="textAreaRight" b="textAreaBottom"/>
            <a:pathLst>
              <a:path w="1160" h="2112">
                <a:moveTo>
                  <a:pt x="1160" y="2112"/>
                </a:moveTo>
                <a:lnTo>
                  <a:pt x="570" y="0"/>
                </a:lnTo>
                <a:lnTo>
                  <a:pt x="560" y="0"/>
                </a:lnTo>
                <a:lnTo>
                  <a:pt x="0" y="1288"/>
                </a:lnTo>
                <a:lnTo>
                  <a:pt x="1160" y="2096"/>
                </a:lnTo>
              </a:path>
            </a:pathLst>
          </a:custGeom>
          <a:blipFill rotWithShape="0">
            <a:blip r:embed="rId7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1549440" y="1987560"/>
            <a:ext cx="2666880" cy="32068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3206880"/>
              <a:gd name="textAreaBottom" fmla="*/ 3207240 h 3206880"/>
            </a:gdLst>
            <a:ahLst/>
            <a:rect l="textAreaLeft" t="textAreaTop" r="textAreaRight" b="textAreaBottom"/>
            <a:pathLst>
              <a:path w="1680" h="2020">
                <a:moveTo>
                  <a:pt x="1680" y="2012"/>
                </a:moveTo>
                <a:lnTo>
                  <a:pt x="848" y="0"/>
                </a:lnTo>
                <a:lnTo>
                  <a:pt x="848" y="4"/>
                </a:lnTo>
                <a:lnTo>
                  <a:pt x="0" y="1372"/>
                </a:lnTo>
                <a:lnTo>
                  <a:pt x="1672" y="2020"/>
                </a:lnTo>
              </a:path>
            </a:pathLst>
          </a:custGeom>
          <a:blipFill rotWithShape="0">
            <a:blip r:embed="rId8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7"/>
          <p:cNvSpPr/>
          <p:nvPr/>
        </p:nvSpPr>
        <p:spPr>
          <a:xfrm>
            <a:off x="1231920" y="1971720"/>
            <a:ext cx="3365640" cy="307008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3070080"/>
              <a:gd name="textAreaBottom" fmla="*/ 3070440 h 3070080"/>
            </a:gdLst>
            <a:ahLst/>
            <a:rect l="textAreaLeft" t="textAreaTop" r="textAreaRight" b="textAreaBottom"/>
            <a:pathLst>
              <a:path w="2120" h="1934">
                <a:moveTo>
                  <a:pt x="2120" y="1926"/>
                </a:moveTo>
                <a:lnTo>
                  <a:pt x="1040" y="0"/>
                </a:lnTo>
                <a:lnTo>
                  <a:pt x="1032" y="14"/>
                </a:lnTo>
                <a:lnTo>
                  <a:pt x="0" y="1502"/>
                </a:lnTo>
                <a:lnTo>
                  <a:pt x="2112" y="1934"/>
                </a:lnTo>
              </a:path>
            </a:pathLst>
          </a:custGeom>
          <a:blipFill rotWithShape="0">
            <a:blip r:embed="rId9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8"/>
          <p:cNvSpPr/>
          <p:nvPr/>
        </p:nvSpPr>
        <p:spPr>
          <a:xfrm>
            <a:off x="977760" y="1971720"/>
            <a:ext cx="3886200" cy="2752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752560"/>
              <a:gd name="textAreaBottom" fmla="*/ 2752920 h 2752560"/>
            </a:gdLst>
            <a:ahLst/>
            <a:rect l="textAreaLeft" t="textAreaTop" r="textAreaRight" b="textAreaBottom"/>
            <a:pathLst>
              <a:path w="2448" h="1734">
                <a:moveTo>
                  <a:pt x="2448" y="1726"/>
                </a:moveTo>
                <a:lnTo>
                  <a:pt x="1204" y="0"/>
                </a:lnTo>
                <a:lnTo>
                  <a:pt x="1216" y="6"/>
                </a:lnTo>
                <a:lnTo>
                  <a:pt x="0" y="1694"/>
                </a:lnTo>
                <a:lnTo>
                  <a:pt x="2440" y="1734"/>
                </a:lnTo>
              </a:path>
            </a:pathLst>
          </a:custGeom>
          <a:blipFill rotWithShape="0">
            <a:blip r:embed="rId10">
              <a:alphaModFix amt="7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288504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1041480" y="1981080"/>
            <a:ext cx="3771720" cy="2527560"/>
          </a:xfrm>
          <a:custGeom>
            <a:avLst/>
            <a:gdLst>
              <a:gd name="textAreaLeft" fmla="*/ 0 w 3771720"/>
              <a:gd name="textAreaRight" fmla="*/ 3772080 w 377172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2376" h="1592">
                <a:moveTo>
                  <a:pt x="2376" y="1592"/>
                </a:moveTo>
                <a:lnTo>
                  <a:pt x="1160" y="0"/>
                </a:lnTo>
                <a:lnTo>
                  <a:pt x="0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3811320" y="2666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34"/>
          <p:cNvSpPr/>
          <p:nvPr/>
        </p:nvSpPr>
        <p:spPr>
          <a:xfrm>
            <a:off x="685800" y="800280"/>
            <a:ext cx="1600200" cy="3911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911400"/>
              <a:gd name="textAreaBottom" fmla="*/ 3911760 h 3911400"/>
            </a:gdLst>
            <a:ahLst/>
            <a:rect l="textAreaLeft" t="textAreaTop" r="textAreaRight" b="textAreaBottom"/>
            <a:pathLst>
              <a:path w="1008" h="2464">
                <a:moveTo>
                  <a:pt x="352" y="2464"/>
                </a:moveTo>
                <a:lnTo>
                  <a:pt x="1008" y="368"/>
                </a:lnTo>
                <a:lnTo>
                  <a:pt x="8" y="0"/>
                </a:lnTo>
                <a:lnTo>
                  <a:pt x="0" y="2328"/>
                </a:lnTo>
                <a:lnTo>
                  <a:pt x="352" y="2464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14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13"/>
          <p:cNvSpPr/>
          <p:nvPr/>
        </p:nvSpPr>
        <p:spPr>
          <a:xfrm>
            <a:off x="2286000" y="1390680"/>
            <a:ext cx="1440" cy="3664080"/>
          </a:xfrm>
          <a:custGeom>
            <a:avLst/>
            <a:gdLst>
              <a:gd name="textAreaLeft" fmla="*/ 0 w 1440"/>
              <a:gd name="textAreaRight" fmla="*/ 1800 w 1440"/>
              <a:gd name="textAreaTop" fmla="*/ 0 h 3664080"/>
              <a:gd name="textAreaBottom" fmla="*/ 3664440 h 366408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448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2"/>
          <p:cNvGrpSpPr/>
          <p:nvPr/>
        </p:nvGrpSpPr>
        <p:grpSpPr>
          <a:xfrm>
            <a:off x="977760" y="4495680"/>
            <a:ext cx="2679840" cy="1128600"/>
            <a:chOff x="977760" y="4495680"/>
            <a:chExt cx="2679840" cy="1128600"/>
          </a:xfrm>
        </p:grpSpPr>
        <p:sp>
          <p:nvSpPr>
            <p:cNvPr id="225" name="Arc 14"/>
            <p:cNvSpPr/>
            <p:nvPr/>
          </p:nvSpPr>
          <p:spPr>
            <a:xfrm rot="5400000">
              <a:off x="1942920" y="3909600"/>
              <a:ext cx="749160" cy="267984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rc 15"/>
            <p:cNvSpPr/>
            <p:nvPr/>
          </p:nvSpPr>
          <p:spPr>
            <a:xfrm flipV="1" rot="16200000">
              <a:off x="2059920" y="3427200"/>
              <a:ext cx="524160" cy="266076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-360 h 2660760"/>
                <a:gd name="textAreaBottom" fmla="*/ 2660760 h 26607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17"/>
          <p:cNvSpPr/>
          <p:nvPr/>
        </p:nvSpPr>
        <p:spPr>
          <a:xfrm>
            <a:off x="995400" y="1384200"/>
            <a:ext cx="2647800" cy="3578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3578400"/>
              <a:gd name="textAreaBottom" fmla="*/ 3578760 h 357840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1231920" y="1422360"/>
            <a:ext cx="2108160" cy="4000680"/>
            <a:chOff x="1231920" y="1422360"/>
            <a:chExt cx="2108160" cy="4000680"/>
          </a:xfrm>
        </p:grpSpPr>
        <p:sp>
          <p:nvSpPr>
            <p:cNvPr id="229" name="Freeform 19"/>
            <p:cNvSpPr/>
            <p:nvPr/>
          </p:nvSpPr>
          <p:spPr>
            <a:xfrm>
              <a:off x="1231920" y="1422360"/>
              <a:ext cx="2095560" cy="4000680"/>
            </a:xfrm>
            <a:custGeom>
              <a:avLst/>
              <a:gdLst>
                <a:gd name="textAreaLeft" fmla="*/ 0 w 2095560"/>
                <a:gd name="textAreaRight" fmla="*/ 2095560 w 2095560"/>
                <a:gd name="textAreaTop" fmla="*/ 0 h 4000680"/>
                <a:gd name="textAreaBottom" fmla="*/ 4001040 h 4000680"/>
              </a:gdLst>
              <a:ahLst/>
              <a:rect l="textAreaLeft" t="textAreaTop" r="textAreaRight" b="textAreaBottom"/>
              <a:pathLst>
                <a:path w="1320" h="2520">
                  <a:moveTo>
                    <a:pt x="1320" y="2520"/>
                  </a:moveTo>
                  <a:lnTo>
                    <a:pt x="0" y="2064"/>
                  </a:lnTo>
                  <a:lnTo>
                    <a:pt x="664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2286000" y="1422360"/>
              <a:ext cx="1054080" cy="398772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3987720"/>
                <a:gd name="textAreaBottom" fmla="*/ 3988080 h 3987720"/>
              </a:gdLst>
              <a:ahLst/>
              <a:rect l="textAreaLeft" t="textAreaTop" r="textAreaRight" b="textAreaBottom"/>
              <a:pathLst>
                <a:path w="664" h="2512">
                  <a:moveTo>
                    <a:pt x="664" y="2512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2058480" y="5029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9"/>
          <p:cNvSpPr/>
          <p:nvPr/>
        </p:nvSpPr>
        <p:spPr>
          <a:xfrm>
            <a:off x="955800" y="1330200"/>
            <a:ext cx="2725560" cy="42944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4294440"/>
              <a:gd name="textAreaBottom" fmla="*/ 4294800 h 429444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50000">
                <a:srgbClr val="f1f8f9">
                  <a:alpha val="32156"/>
                </a:srgbClr>
              </a:gs>
              <a:gs pos="100000">
                <a:srgbClr val="bbe0e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5330880" y="236232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4495680" y="28195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остр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2273400" y="1384200"/>
            <a:ext cx="2413080" cy="448308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1520" h="2824">
                <a:moveTo>
                  <a:pt x="1448" y="2824"/>
                </a:moveTo>
                <a:lnTo>
                  <a:pt x="1520" y="568"/>
                </a:lnTo>
                <a:lnTo>
                  <a:pt x="0" y="0"/>
                </a:lnTo>
                <a:lnTo>
                  <a:pt x="672" y="2544"/>
                </a:lnTo>
                <a:lnTo>
                  <a:pt x="1448" y="2824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38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7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2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"/>
          <p:cNvSpPr/>
          <p:nvPr/>
        </p:nvSpPr>
        <p:spPr>
          <a:xfrm>
            <a:off x="863640" y="2044800"/>
            <a:ext cx="2824200" cy="290196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1779" h="1828">
                <a:moveTo>
                  <a:pt x="361" y="1828"/>
                </a:moveTo>
                <a:lnTo>
                  <a:pt x="1779" y="157"/>
                </a:lnTo>
                <a:lnTo>
                  <a:pt x="504" y="0"/>
                </a:lnTo>
                <a:lnTo>
                  <a:pt x="0" y="1776"/>
                </a:lnTo>
                <a:lnTo>
                  <a:pt x="361" y="1828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3687840" y="2298600"/>
            <a:ext cx="3240" cy="2921040"/>
          </a:xfrm>
          <a:custGeom>
            <a:avLst/>
            <a:gdLst>
              <a:gd name="textAreaLeft" fmla="*/ 0 w 3240"/>
              <a:gd name="textAreaRight" fmla="*/ 3600 w 324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" h="2308">
                <a:moveTo>
                  <a:pt x="0" y="0"/>
                </a:moveTo>
                <a:lnTo>
                  <a:pt x="0" y="23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852720" y="2103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4"/>
          <p:cNvGrpSpPr/>
          <p:nvPr/>
        </p:nvGrpSpPr>
        <p:grpSpPr>
          <a:xfrm>
            <a:off x="922320" y="4773240"/>
            <a:ext cx="5664960" cy="900000"/>
            <a:chOff x="922320" y="4773240"/>
            <a:chExt cx="5664960" cy="900000"/>
          </a:xfrm>
        </p:grpSpPr>
        <p:sp>
          <p:nvSpPr>
            <p:cNvPr id="251" name="Arc 15"/>
            <p:cNvSpPr/>
            <p:nvPr/>
          </p:nvSpPr>
          <p:spPr>
            <a:xfrm rot="5400000">
              <a:off x="3455640" y="2541600"/>
              <a:ext cx="597960" cy="566496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5664960"/>
                <a:gd name="textAreaBottom" fmla="*/ 5665320 h 566496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16"/>
            <p:cNvSpPr/>
            <p:nvPr/>
          </p:nvSpPr>
          <p:spPr>
            <a:xfrm flipV="1" rot="16200000">
              <a:off x="3559680" y="2168640"/>
              <a:ext cx="417240" cy="56253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360 h 5625360"/>
                <a:gd name="textAreaBottom" fmla="*/ 5626080 h 562536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17"/>
          <p:cNvSpPr/>
          <p:nvPr/>
        </p:nvSpPr>
        <p:spPr>
          <a:xfrm>
            <a:off x="958680" y="2293920"/>
            <a:ext cx="5599440" cy="2852640"/>
          </a:xfrm>
          <a:custGeom>
            <a:avLst/>
            <a:gdLst>
              <a:gd name="textAreaLeft" fmla="*/ 0 w 5599440"/>
              <a:gd name="textAreaRight" fmla="*/ 5599800 w 5599440"/>
              <a:gd name="textAreaTop" fmla="*/ 0 h 2852640"/>
              <a:gd name="textAreaBottom" fmla="*/ 2853000 h 285264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8"/>
          <p:cNvGrpSpPr/>
          <p:nvPr/>
        </p:nvGrpSpPr>
        <p:grpSpPr>
          <a:xfrm>
            <a:off x="1459080" y="2324160"/>
            <a:ext cx="4456800" cy="3189240"/>
            <a:chOff x="1459080" y="2324160"/>
            <a:chExt cx="4456800" cy="3189240"/>
          </a:xfrm>
        </p:grpSpPr>
        <p:sp>
          <p:nvSpPr>
            <p:cNvPr id="255" name="Freeform 19"/>
            <p:cNvSpPr/>
            <p:nvPr/>
          </p:nvSpPr>
          <p:spPr>
            <a:xfrm>
              <a:off x="1459080" y="2324160"/>
              <a:ext cx="4430160" cy="3189240"/>
            </a:xfrm>
            <a:custGeom>
              <a:avLst/>
              <a:gdLst>
                <a:gd name="textAreaLeft" fmla="*/ 0 w 4430160"/>
                <a:gd name="textAreaRight" fmla="*/ 4430520 w 4430160"/>
                <a:gd name="textAreaTop" fmla="*/ 0 h 3189240"/>
                <a:gd name="textAreaBottom" fmla="*/ 3189600 h 3189240"/>
              </a:gdLst>
              <a:ahLst/>
              <a:rect l="textAreaLeft" t="textAreaTop" r="textAreaRight" b="textAreaBottom"/>
              <a:pathLst>
                <a:path w="1320" h="2520">
                  <a:moveTo>
                    <a:pt x="1320" y="2520"/>
                  </a:moveTo>
                  <a:lnTo>
                    <a:pt x="0" y="2064"/>
                  </a:lnTo>
                  <a:lnTo>
                    <a:pt x="664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"/>
            <p:cNvSpPr/>
            <p:nvPr/>
          </p:nvSpPr>
          <p:spPr>
            <a:xfrm>
              <a:off x="3687480" y="2324160"/>
              <a:ext cx="2228400" cy="317880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3178800"/>
                <a:gd name="textAreaBottom" fmla="*/ 3179160 h 3178800"/>
              </a:gdLst>
              <a:ahLst/>
              <a:rect l="textAreaLeft" t="textAreaTop" r="textAreaRight" b="textAreaBottom"/>
              <a:pathLst>
                <a:path w="664" h="2512">
                  <a:moveTo>
                    <a:pt x="664" y="2512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21"/>
          <p:cNvSpPr/>
          <p:nvPr/>
        </p:nvSpPr>
        <p:spPr>
          <a:xfrm>
            <a:off x="3205440" y="5197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5178240" y="6094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343400" y="1066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прям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4"/>
          <p:cNvSpPr/>
          <p:nvPr/>
        </p:nvSpPr>
        <p:spPr>
          <a:xfrm>
            <a:off x="874800" y="2251080"/>
            <a:ext cx="5763960" cy="3422520"/>
          </a:xfrm>
          <a:custGeom>
            <a:avLst/>
            <a:gdLst>
              <a:gd name="textAreaLeft" fmla="*/ 0 w 5763960"/>
              <a:gd name="textAreaRight" fmla="*/ 5764320 w 576396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717" h="2705">
                <a:moveTo>
                  <a:pt x="847" y="83"/>
                </a:moveTo>
                <a:cubicBezTo>
                  <a:pt x="868" y="120"/>
                  <a:pt x="852" y="83"/>
                  <a:pt x="955" y="350"/>
                </a:cubicBezTo>
                <a:cubicBezTo>
                  <a:pt x="1058" y="617"/>
                  <a:pt x="1340" y="1354"/>
                  <a:pt x="1465" y="1688"/>
                </a:cubicBezTo>
                <a:cubicBezTo>
                  <a:pt x="1590" y="2022"/>
                  <a:pt x="1687" y="2211"/>
                  <a:pt x="1702" y="2351"/>
                </a:cubicBezTo>
                <a:cubicBezTo>
                  <a:pt x="1717" y="2491"/>
                  <a:pt x="1605" y="2487"/>
                  <a:pt x="1558" y="2530"/>
                </a:cubicBezTo>
                <a:cubicBezTo>
                  <a:pt x="1511" y="2573"/>
                  <a:pt x="1506" y="2586"/>
                  <a:pt x="1420" y="2612"/>
                </a:cubicBezTo>
                <a:cubicBezTo>
                  <a:pt x="1334" y="2638"/>
                  <a:pt x="1160" y="2675"/>
                  <a:pt x="1044" y="2689"/>
                </a:cubicBezTo>
                <a:cubicBezTo>
                  <a:pt x="928" y="2703"/>
                  <a:pt x="827" y="2705"/>
                  <a:pt x="723" y="2698"/>
                </a:cubicBezTo>
                <a:cubicBezTo>
                  <a:pt x="619" y="2691"/>
                  <a:pt x="511" y="2673"/>
                  <a:pt x="418" y="2648"/>
                </a:cubicBezTo>
                <a:cubicBezTo>
                  <a:pt x="325" y="2623"/>
                  <a:pt x="233" y="2598"/>
                  <a:pt x="166" y="2546"/>
                </a:cubicBezTo>
                <a:cubicBezTo>
                  <a:pt x="99" y="2494"/>
                  <a:pt x="0" y="2488"/>
                  <a:pt x="16" y="2336"/>
                </a:cubicBezTo>
                <a:cubicBezTo>
                  <a:pt x="32" y="2184"/>
                  <a:pt x="164" y="1900"/>
                  <a:pt x="259" y="1634"/>
                </a:cubicBezTo>
                <a:cubicBezTo>
                  <a:pt x="354" y="1368"/>
                  <a:pt x="493" y="997"/>
                  <a:pt x="586" y="743"/>
                </a:cubicBezTo>
                <a:cubicBezTo>
                  <a:pt x="679" y="489"/>
                  <a:pt x="774" y="220"/>
                  <a:pt x="817" y="110"/>
                </a:cubicBezTo>
                <a:cubicBezTo>
                  <a:pt x="860" y="0"/>
                  <a:pt x="841" y="89"/>
                  <a:pt x="847" y="83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36078"/>
                </a:srgbClr>
              </a:gs>
              <a:gs pos="50000">
                <a:srgbClr val="f1f8f9">
                  <a:alpha val="38039"/>
                </a:srgbClr>
              </a:gs>
              <a:gs pos="100000">
                <a:srgbClr val="bbe0e3">
                  <a:alpha val="3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8"/>
          <p:cNvSpPr/>
          <p:nvPr/>
        </p:nvSpPr>
        <p:spPr>
          <a:xfrm>
            <a:off x="3467160" y="2579760"/>
            <a:ext cx="415800" cy="222120"/>
          </a:xfrm>
          <a:custGeom>
            <a:avLst/>
            <a:gdLst>
              <a:gd name="textAreaLeft" fmla="*/ 0 w 415800"/>
              <a:gd name="textAreaRight" fmla="*/ 416160 w 415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62" h="140">
                <a:moveTo>
                  <a:pt x="262" y="20"/>
                </a:moveTo>
                <a:lnTo>
                  <a:pt x="118" y="1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"/>
          <p:cNvSpPr/>
          <p:nvPr/>
        </p:nvSpPr>
        <p:spPr>
          <a:xfrm>
            <a:off x="3660840" y="2293920"/>
            <a:ext cx="4048200" cy="34718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550" h="2187">
                <a:moveTo>
                  <a:pt x="2550" y="2187"/>
                </a:moveTo>
                <a:lnTo>
                  <a:pt x="1966" y="283"/>
                </a:lnTo>
                <a:lnTo>
                  <a:pt x="0" y="0"/>
                </a:lnTo>
                <a:lnTo>
                  <a:pt x="1421" y="2028"/>
                </a:lnTo>
                <a:lnTo>
                  <a:pt x="2550" y="2187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9"/>
          <p:cNvGrpSpPr/>
          <p:nvPr/>
        </p:nvGrpSpPr>
        <p:grpSpPr>
          <a:xfrm>
            <a:off x="1219320" y="3135240"/>
            <a:ext cx="5448240" cy="2059200"/>
            <a:chOff x="1219320" y="3135240"/>
            <a:chExt cx="5448240" cy="2059200"/>
          </a:xfrm>
        </p:grpSpPr>
        <p:sp>
          <p:nvSpPr>
            <p:cNvPr id="264" name="Freeform 20"/>
            <p:cNvSpPr/>
            <p:nvPr/>
          </p:nvSpPr>
          <p:spPr>
            <a:xfrm>
              <a:off x="1219320" y="3135240"/>
              <a:ext cx="5422680" cy="2046240"/>
            </a:xfrm>
            <a:custGeom>
              <a:avLst/>
              <a:gdLst>
                <a:gd name="textAreaLeft" fmla="*/ 0 w 5422680"/>
                <a:gd name="textAreaRight" fmla="*/ 5423040 w 5422680"/>
                <a:gd name="textAreaTop" fmla="*/ 0 h 2046240"/>
                <a:gd name="textAreaBottom" fmla="*/ 2046240 h 2046240"/>
              </a:gdLst>
              <a:ahLst/>
              <a:rect l="textAreaLeft" t="textAreaTop" r="textAreaRight" b="textAreaBottom"/>
              <a:pathLst>
                <a:path w="3416" h="1289">
                  <a:moveTo>
                    <a:pt x="3416" y="1289"/>
                  </a:moveTo>
                  <a:lnTo>
                    <a:pt x="1312" y="1077"/>
                  </a:lnTo>
                  <a:lnTo>
                    <a:pt x="0" y="945"/>
                  </a:lnTo>
                  <a:lnTo>
                    <a:pt x="1737" y="0"/>
                  </a:lnTo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3976560" y="3135240"/>
              <a:ext cx="2691000" cy="2059200"/>
            </a:xfrm>
            <a:custGeom>
              <a:avLst/>
              <a:gdLst>
                <a:gd name="textAreaLeft" fmla="*/ 0 w 2691000"/>
                <a:gd name="textAreaRight" fmla="*/ 2691360 w 2691000"/>
                <a:gd name="textAreaTop" fmla="*/ 0 h 2059200"/>
                <a:gd name="textAreaBottom" fmla="*/ 2059560 h 2059200"/>
              </a:gdLst>
              <a:ahLst/>
              <a:rect l="textAreaLeft" t="textAreaTop" r="textAreaRight" b="textAreaBottom"/>
              <a:pathLst>
                <a:path w="1695" h="1297">
                  <a:moveTo>
                    <a:pt x="1695" y="1297"/>
                  </a:moveTo>
                  <a:lnTo>
                    <a:pt x="0" y="0"/>
                  </a:lnTo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6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1"/>
          <p:cNvSpPr/>
          <p:nvPr/>
        </p:nvSpPr>
        <p:spPr>
          <a:xfrm>
            <a:off x="685080" y="22860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чения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8127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581640" y="4800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5178240" y="6094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евое сечение кону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4343400" y="1066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туп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2"/>
          <p:cNvSpPr/>
          <p:nvPr/>
        </p:nvSpPr>
        <p:spPr>
          <a:xfrm>
            <a:off x="216000" y="2832120"/>
            <a:ext cx="3759120" cy="180324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1803240"/>
              <a:gd name="textAreaBottom" fmla="*/ 1803600 h 1803240"/>
            </a:gdLst>
            <a:ahLst/>
            <a:rect l="textAreaLeft" t="textAreaTop" r="textAreaRight" b="textAreaBottom"/>
            <a:pathLst>
              <a:path w="2368" h="1136">
                <a:moveTo>
                  <a:pt x="624" y="1136"/>
                </a:moveTo>
                <a:lnTo>
                  <a:pt x="2368" y="192"/>
                </a:lnTo>
                <a:lnTo>
                  <a:pt x="824" y="0"/>
                </a:lnTo>
                <a:lnTo>
                  <a:pt x="0" y="1072"/>
                </a:lnTo>
                <a:lnTo>
                  <a:pt x="624" y="1136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3"/>
          <p:cNvSpPr/>
          <p:nvPr/>
        </p:nvSpPr>
        <p:spPr>
          <a:xfrm>
            <a:off x="3976560" y="3121200"/>
            <a:ext cx="11160" cy="1806480"/>
          </a:xfrm>
          <a:custGeom>
            <a:avLst/>
            <a:gdLst>
              <a:gd name="textAreaLeft" fmla="*/ 0 w 11160"/>
              <a:gd name="textAreaRight" fmla="*/ 11520 w 11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7" h="1138">
                <a:moveTo>
                  <a:pt x="0" y="0"/>
                </a:moveTo>
                <a:lnTo>
                  <a:pt x="7" y="113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5"/>
          <p:cNvGrpSpPr/>
          <p:nvPr/>
        </p:nvGrpSpPr>
        <p:grpSpPr>
          <a:xfrm>
            <a:off x="753840" y="4395600"/>
            <a:ext cx="6599880" cy="988920"/>
            <a:chOff x="753840" y="4395600"/>
            <a:chExt cx="6599880" cy="988920"/>
          </a:xfrm>
        </p:grpSpPr>
        <p:sp>
          <p:nvSpPr>
            <p:cNvPr id="283" name="Arc 16"/>
            <p:cNvSpPr/>
            <p:nvPr/>
          </p:nvSpPr>
          <p:spPr>
            <a:xfrm rot="5400000">
              <a:off x="3725640" y="1756080"/>
              <a:ext cx="656280" cy="6599880"/>
            </a:xfrm>
            <a:custGeom>
              <a:avLst/>
              <a:gdLst>
                <a:gd name="textAreaLeft" fmla="*/ 0 w 656280"/>
                <a:gd name="textAreaRight" fmla="*/ 656640 w 656280"/>
                <a:gd name="textAreaTop" fmla="*/ 0 h 6599880"/>
                <a:gd name="textAreaBottom" fmla="*/ 6600240 h 659988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rc 17"/>
            <p:cNvSpPr/>
            <p:nvPr/>
          </p:nvSpPr>
          <p:spPr>
            <a:xfrm flipV="1" rot="16200000">
              <a:off x="3848040" y="1347840"/>
              <a:ext cx="458280" cy="65530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-360 h 6553080"/>
                <a:gd name="textAreaBottom" fmla="*/ 6553080 h 6553080"/>
              </a:gdLst>
              <a:ahLst/>
              <a:rect l="textAreaLeft" t="textAreaTop" r="textAreaRight" b="textAreaBottom"/>
              <a:pathLst>
                <a:path fill="none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</a:path>
                <a:path stroke="0" w="21696" h="43200">
                  <a:moveTo>
                    <a:pt x="96" y="0"/>
                  </a:moveTo>
                  <a:cubicBezTo>
                    <a:pt x="12025" y="0"/>
                    <a:pt x="21696" y="9670"/>
                    <a:pt x="21696" y="21600"/>
                  </a:cubicBezTo>
                  <a:cubicBezTo>
                    <a:pt x="21696" y="-32007"/>
                    <a:pt x="12025" y="-22336"/>
                    <a:pt x="96" y="-22336"/>
                  </a:cubicBezTo>
                  <a:cubicBezTo>
                    <a:pt x="64" y="-22336"/>
                    <a:pt x="32" y="-22337"/>
                    <a:pt x="0" y="-22337"/>
                  </a:cubicBezTo>
                  <a:lnTo>
                    <a:pt x="9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Freeform 18"/>
          <p:cNvSpPr/>
          <p:nvPr/>
        </p:nvSpPr>
        <p:spPr>
          <a:xfrm>
            <a:off x="797040" y="3117960"/>
            <a:ext cx="6522840" cy="1674720"/>
          </a:xfrm>
          <a:custGeom>
            <a:avLst/>
            <a:gdLst>
              <a:gd name="textAreaLeft" fmla="*/ 0 w 6522840"/>
              <a:gd name="textAreaRight" fmla="*/ 6523200 w 6522840"/>
              <a:gd name="textAreaTop" fmla="*/ 0 h 1674720"/>
              <a:gd name="textAreaBottom" fmla="*/ 1674720 h 1674720"/>
            </a:gdLst>
            <a:ahLst/>
            <a:rect l="textAreaLeft" t="textAreaTop" r="textAreaRight" b="textAreaBottom"/>
            <a:pathLst>
              <a:path w="1668" h="2254">
                <a:moveTo>
                  <a:pt x="1668" y="2254"/>
                </a:moveTo>
                <a:lnTo>
                  <a:pt x="812" y="0"/>
                </a:lnTo>
                <a:lnTo>
                  <a:pt x="0" y="2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3581280" y="3352680"/>
            <a:ext cx="762120" cy="204840"/>
          </a:xfrm>
          <a:custGeom>
            <a:avLst/>
            <a:gdLst>
              <a:gd name="textAreaLeft" fmla="*/ 0 w 762120"/>
              <a:gd name="textAreaRight" fmla="*/ 762480 w 7621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80" h="129">
                <a:moveTo>
                  <a:pt x="0" y="0"/>
                </a:moveTo>
                <a:cubicBezTo>
                  <a:pt x="24" y="17"/>
                  <a:pt x="91" y="84"/>
                  <a:pt x="144" y="104"/>
                </a:cubicBezTo>
                <a:cubicBezTo>
                  <a:pt x="197" y="124"/>
                  <a:pt x="264" y="129"/>
                  <a:pt x="320" y="120"/>
                </a:cubicBezTo>
                <a:cubicBezTo>
                  <a:pt x="376" y="111"/>
                  <a:pt x="447" y="63"/>
                  <a:pt x="48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6"/>
          <p:cNvSpPr/>
          <p:nvPr/>
        </p:nvSpPr>
        <p:spPr>
          <a:xfrm>
            <a:off x="731880" y="3092400"/>
            <a:ext cx="6681600" cy="2278080"/>
          </a:xfrm>
          <a:custGeom>
            <a:avLst/>
            <a:gdLst>
              <a:gd name="textAreaLeft" fmla="*/ 0 w 6681600"/>
              <a:gd name="textAreaRight" fmla="*/ 6681960 w 6681600"/>
              <a:gd name="textAreaTop" fmla="*/ 0 h 2278080"/>
              <a:gd name="textAreaBottom" fmla="*/ 2278080 h 2278080"/>
            </a:gdLst>
            <a:ahLst/>
            <a:rect l="textAreaLeft" t="textAreaTop" r="textAreaRight" b="textAreaBottom"/>
            <a:pathLst>
              <a:path w="4209" h="1435">
                <a:moveTo>
                  <a:pt x="2066" y="40"/>
                </a:moveTo>
                <a:cubicBezTo>
                  <a:pt x="2118" y="58"/>
                  <a:pt x="2080" y="45"/>
                  <a:pt x="2332" y="170"/>
                </a:cubicBezTo>
                <a:cubicBezTo>
                  <a:pt x="2584" y="295"/>
                  <a:pt x="3290" y="644"/>
                  <a:pt x="3579" y="788"/>
                </a:cubicBezTo>
                <a:cubicBezTo>
                  <a:pt x="3868" y="932"/>
                  <a:pt x="3968" y="977"/>
                  <a:pt x="4067" y="1036"/>
                </a:cubicBezTo>
                <a:cubicBezTo>
                  <a:pt x="4166" y="1095"/>
                  <a:pt x="4209" y="1104"/>
                  <a:pt x="4173" y="1144"/>
                </a:cubicBezTo>
                <a:cubicBezTo>
                  <a:pt x="4137" y="1184"/>
                  <a:pt x="3965" y="1242"/>
                  <a:pt x="3851" y="1276"/>
                </a:cubicBezTo>
                <a:cubicBezTo>
                  <a:pt x="3737" y="1310"/>
                  <a:pt x="3704" y="1324"/>
                  <a:pt x="3491" y="1348"/>
                </a:cubicBezTo>
                <a:cubicBezTo>
                  <a:pt x="3278" y="1372"/>
                  <a:pt x="2859" y="1407"/>
                  <a:pt x="2571" y="1420"/>
                </a:cubicBezTo>
                <a:cubicBezTo>
                  <a:pt x="2283" y="1433"/>
                  <a:pt x="2023" y="1435"/>
                  <a:pt x="1763" y="1428"/>
                </a:cubicBezTo>
                <a:cubicBezTo>
                  <a:pt x="1503" y="1421"/>
                  <a:pt x="1242" y="1403"/>
                  <a:pt x="1011" y="1380"/>
                </a:cubicBezTo>
                <a:cubicBezTo>
                  <a:pt x="780" y="1357"/>
                  <a:pt x="524" y="1319"/>
                  <a:pt x="379" y="1292"/>
                </a:cubicBezTo>
                <a:cubicBezTo>
                  <a:pt x="234" y="1265"/>
                  <a:pt x="199" y="1246"/>
                  <a:pt x="139" y="1220"/>
                </a:cubicBezTo>
                <a:cubicBezTo>
                  <a:pt x="79" y="1194"/>
                  <a:pt x="26" y="1164"/>
                  <a:pt x="18" y="1136"/>
                </a:cubicBezTo>
                <a:cubicBezTo>
                  <a:pt x="10" y="1108"/>
                  <a:pt x="0" y="1107"/>
                  <a:pt x="91" y="1052"/>
                </a:cubicBezTo>
                <a:cubicBezTo>
                  <a:pt x="182" y="997"/>
                  <a:pt x="341" y="919"/>
                  <a:pt x="563" y="804"/>
                </a:cubicBezTo>
                <a:cubicBezTo>
                  <a:pt x="785" y="689"/>
                  <a:pt x="1185" y="486"/>
                  <a:pt x="1423" y="361"/>
                </a:cubicBezTo>
                <a:cubicBezTo>
                  <a:pt x="1661" y="236"/>
                  <a:pt x="1886" y="107"/>
                  <a:pt x="1992" y="54"/>
                </a:cubicBezTo>
                <a:cubicBezTo>
                  <a:pt x="2098" y="0"/>
                  <a:pt x="2051" y="43"/>
                  <a:pt x="2066" y="40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36078"/>
                </a:srgbClr>
              </a:gs>
              <a:gs pos="50000">
                <a:srgbClr val="f1f8f9">
                  <a:alpha val="38039"/>
                </a:srgbClr>
              </a:gs>
              <a:gs pos="100000">
                <a:srgbClr val="bbe0e3">
                  <a:alpha val="3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3"/>
          <p:cNvSpPr/>
          <p:nvPr/>
        </p:nvSpPr>
        <p:spPr>
          <a:xfrm>
            <a:off x="3944880" y="3117960"/>
            <a:ext cx="4729320" cy="2279520"/>
          </a:xfrm>
          <a:custGeom>
            <a:avLst/>
            <a:gdLst>
              <a:gd name="textAreaLeft" fmla="*/ 0 w 4729320"/>
              <a:gd name="textAreaRight" fmla="*/ 4729680 w 472932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79" h="1436">
                <a:moveTo>
                  <a:pt x="2979" y="1436"/>
                </a:moveTo>
                <a:lnTo>
                  <a:pt x="2363" y="332"/>
                </a:lnTo>
                <a:lnTo>
                  <a:pt x="0" y="0"/>
                </a:lnTo>
                <a:lnTo>
                  <a:pt x="1723" y="1300"/>
                </a:lnTo>
                <a:lnTo>
                  <a:pt x="2979" y="1436"/>
                </a:lnTo>
                <a:close/>
              </a:path>
            </a:pathLst>
          </a:custGeom>
          <a:solidFill>
            <a:srgbClr val="ff33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2"/>
          <p:cNvSpPr/>
          <p:nvPr/>
        </p:nvSpPr>
        <p:spPr>
          <a:xfrm>
            <a:off x="736560" y="2438280"/>
            <a:ext cx="4437000" cy="279396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2795" h="1760">
                <a:moveTo>
                  <a:pt x="2795" y="1754"/>
                </a:moveTo>
                <a:lnTo>
                  <a:pt x="1352" y="0"/>
                </a:lnTo>
                <a:lnTo>
                  <a:pt x="0" y="17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91" name="Freeform 10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129240" y="540720"/>
              <a:ext cx="21240" cy="576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3960"/>
                <a:gd name="textAreaBottom" fmla="*/ 5764320 h 576396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677520" y="4603320"/>
            <a:ext cx="4571640" cy="1690920"/>
            <a:chOff x="677520" y="4603320"/>
            <a:chExt cx="4571640" cy="1690920"/>
          </a:xfrm>
        </p:grpSpPr>
        <p:sp>
          <p:nvSpPr>
            <p:cNvPr id="300" name="Arc 21"/>
            <p:cNvSpPr/>
            <p:nvPr/>
          </p:nvSpPr>
          <p:spPr>
            <a:xfrm rot="5400000">
              <a:off x="2398320" y="3443400"/>
              <a:ext cx="1129680" cy="4571640"/>
            </a:xfrm>
            <a:custGeom>
              <a:avLst/>
              <a:gdLst>
                <a:gd name="textAreaLeft" fmla="*/ 0 w 1129680"/>
                <a:gd name="textAreaRight" fmla="*/ 1130040 w 1129680"/>
                <a:gd name="textAreaTop" fmla="*/ 0 h 4571640"/>
                <a:gd name="textAreaBottom" fmla="*/ 4571640 h 4571640"/>
              </a:gdLst>
              <a:ahLst/>
              <a:rect l="textAreaLeft" t="textAreaTop" r="textAreaRight" b="textAreaBottom"/>
              <a:pathLst>
                <a:path fill="none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</a:path>
                <a:path stroke="0" w="28356" h="43200">
                  <a:moveTo>
                    <a:pt x="-1" y="1083"/>
                  </a:moveTo>
                  <a:cubicBezTo>
                    <a:pt x="2180" y="365"/>
                    <a:pt x="4460" y="-1"/>
                    <a:pt x="6756" y="0"/>
                  </a:cubicBezTo>
                  <a:cubicBezTo>
                    <a:pt x="18685" y="0"/>
                    <a:pt x="28356" y="9670"/>
                    <a:pt x="28356" y="21600"/>
                  </a:cubicBezTo>
                  <a:cubicBezTo>
                    <a:pt x="28356" y="33529"/>
                    <a:pt x="18685" y="43200"/>
                    <a:pt x="6756" y="43200"/>
                  </a:cubicBezTo>
                  <a:cubicBezTo>
                    <a:pt x="5068" y="43200"/>
                    <a:pt x="3385" y="43002"/>
                    <a:pt x="1744" y="42610"/>
                  </a:cubicBezTo>
                  <a:lnTo>
                    <a:pt x="6756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22"/>
            <p:cNvSpPr/>
            <p:nvPr/>
          </p:nvSpPr>
          <p:spPr>
            <a:xfrm flipV="1" rot="16200000">
              <a:off x="2511720" y="2845080"/>
              <a:ext cx="787320" cy="430272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360 h 4302720"/>
                <a:gd name="textAreaBottom" fmla="*/ 4303440 h 4302720"/>
              </a:gdLst>
              <a:ahLst/>
              <a:rect l="textAreaLeft" t="textAreaTop" r="textAreaRight" b="textAreaBottom"/>
              <a:pathLst>
                <a:path fill="none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</a:path>
                <a:path stroke="0" w="21600" h="40947">
                  <a:moveTo>
                    <a:pt x="8880" y="0"/>
                  </a:moveTo>
                  <a:cubicBezTo>
                    <a:pt x="16622" y="3492"/>
                    <a:pt x="21600" y="11196"/>
                    <a:pt x="21600" y="19690"/>
                  </a:cubicBezTo>
                  <a:cubicBezTo>
                    <a:pt x="21600" y="30140"/>
                    <a:pt x="14117" y="-26444"/>
                    <a:pt x="3833" y="-24589"/>
                  </a:cubicBezTo>
                  <a:lnTo>
                    <a:pt x="0" y="1969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23"/>
          <p:cNvSpPr/>
          <p:nvPr/>
        </p:nvSpPr>
        <p:spPr>
          <a:xfrm>
            <a:off x="2857680" y="2454120"/>
            <a:ext cx="29880" cy="3032280"/>
          </a:xfrm>
          <a:custGeom>
            <a:avLst/>
            <a:gdLst>
              <a:gd name="textAreaLeft" fmla="*/ 0 w 29880"/>
              <a:gd name="textAreaRight" fmla="*/ 30240 w 2988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19" h="1910">
                <a:moveTo>
                  <a:pt x="19" y="0"/>
                </a:moveTo>
                <a:lnTo>
                  <a:pt x="0" y="191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8976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2514600" y="54100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7"/>
          <p:cNvGrpSpPr/>
          <p:nvPr/>
        </p:nvGrpSpPr>
        <p:grpSpPr>
          <a:xfrm>
            <a:off x="1041480" y="2438280"/>
            <a:ext cx="1854000" cy="3733920"/>
            <a:chOff x="1041480" y="2438280"/>
            <a:chExt cx="1854000" cy="3733920"/>
          </a:xfrm>
        </p:grpSpPr>
        <p:sp>
          <p:nvSpPr>
            <p:cNvPr id="306" name="Line 28"/>
            <p:cNvSpPr/>
            <p:nvPr/>
          </p:nvSpPr>
          <p:spPr>
            <a:xfrm flipH="1">
              <a:off x="1904760" y="2438280"/>
              <a:ext cx="99036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9"/>
            <p:cNvGrpSpPr/>
            <p:nvPr/>
          </p:nvGrpSpPr>
          <p:grpSpPr>
            <a:xfrm>
              <a:off x="1041480" y="2438280"/>
              <a:ext cx="1854000" cy="3733920"/>
              <a:chOff x="1041480" y="2438280"/>
              <a:chExt cx="1854000" cy="3733920"/>
            </a:xfrm>
          </p:grpSpPr>
          <p:sp>
            <p:nvSpPr>
              <p:cNvPr id="308" name="Freeform 30"/>
              <p:cNvSpPr/>
              <p:nvPr/>
            </p:nvSpPr>
            <p:spPr>
              <a:xfrm>
                <a:off x="1041480" y="4991040"/>
                <a:ext cx="863640" cy="118116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81160"/>
                  <a:gd name="textAreaBottom" fmla="*/ 1181520 h 1181160"/>
                </a:gdLst>
                <a:ahLst/>
                <a:rect l="textAreaLeft" t="textAreaTop" r="textAreaRight" b="textAreaBottom"/>
                <a:pathLst>
                  <a:path w="544" h="744">
                    <a:moveTo>
                      <a:pt x="0" y="0"/>
                    </a:moveTo>
                    <a:lnTo>
                      <a:pt x="544" y="7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1"/>
              <p:cNvSpPr/>
              <p:nvPr/>
            </p:nvSpPr>
            <p:spPr>
              <a:xfrm>
                <a:off x="1041480" y="2438280"/>
                <a:ext cx="1854000" cy="3733920"/>
              </a:xfrm>
              <a:custGeom>
                <a:avLst/>
                <a:gdLst>
                  <a:gd name="textAreaLeft" fmla="*/ 0 w 1854000"/>
                  <a:gd name="textAreaRight" fmla="*/ 1854360 w 1854000"/>
                  <a:gd name="textAreaTop" fmla="*/ 0 h 3733920"/>
                  <a:gd name="textAreaBottom" fmla="*/ 3734280 h 3733920"/>
                </a:gdLst>
                <a:ahLst/>
                <a:rect l="textAreaLeft" t="textAreaTop" r="textAreaRight" b="textAreaBottom"/>
                <a:pathLst>
                  <a:path w="1168" h="2352">
                    <a:moveTo>
                      <a:pt x="544" y="2352"/>
                    </a:moveTo>
                    <a:lnTo>
                      <a:pt x="1168" y="0"/>
                    </a:lnTo>
                    <a:lnTo>
                      <a:pt x="0" y="1608"/>
                    </a:lnTo>
                    <a:lnTo>
                      <a:pt x="544" y="2352"/>
                    </a:lnTo>
                    <a:close/>
                  </a:path>
                </a:pathLst>
              </a:custGeom>
              <a:solidFill>
                <a:srgbClr val="ffff00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Freeform 6"/>
          <p:cNvSpPr/>
          <p:nvPr/>
        </p:nvSpPr>
        <p:spPr>
          <a:xfrm>
            <a:off x="1028880" y="2463840"/>
            <a:ext cx="1866600" cy="2512800"/>
          </a:xfrm>
          <a:custGeom>
            <a:avLst/>
            <a:gdLst>
              <a:gd name="textAreaLeft" fmla="*/ 0 w 1866600"/>
              <a:gd name="textAreaRight" fmla="*/ 1866960 w 186660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1176" h="1583">
                <a:moveTo>
                  <a:pt x="0" y="1583"/>
                </a:moveTo>
                <a:lnTo>
                  <a:pt x="117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7268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1753920" y="6172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4419720" y="13716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внобедренный остроугольный треуголь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Елена Жалыбина</cp:lastModifiedBy>
  <dcterms:modified xsi:type="dcterms:W3CDTF">2017-12-24T10:32:48Z</dcterms:modified>
  <cp:revision>6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