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AD6-F9E5-464D-A99B-771E7CAF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FAF-296E-4920-975E-6B028DE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BE6-0BC3-48AB-99FE-933820B5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769-E799-4802-AC33-40D53E8D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C42D-3710-493E-9011-30E70E8E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429A-EF71-40E4-8555-A86C52A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ABC4-8BD7-4DC8-821E-7A3E42C3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BE2-3AA2-4647-9BE9-767E3908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5626-4E5C-4244-BBD0-3EE8E601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C11D-F2C8-45E0-83AD-0DCE645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AF6-4CC4-42A4-B517-393D8BB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C34-5F08-4911-9D95-B147EC71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547A-5FEF-49CF-85AA-281C116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10C-A51E-4607-A64A-C22401E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315A-8C77-44E9-9A40-81029DC2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008-CAAF-4231-A218-887AF9E6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97E-BE1B-441D-AA8B-6BEEB13A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92D-EB2E-4F34-95F0-8287476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FF7-AA83-484B-8F21-8486D57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6B7-E3FA-4802-A354-D2F8D07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D1B-BA4E-4B4C-B279-8EC6C9C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225-4DA6-4195-8531-2FC775E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FDB-FD1C-460E-A236-213AA17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3A4-C110-4208-8D5B-0D19FF2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1E4-B1B8-4044-B779-BFFC1F726A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4285-E2A3-48E4-856B-7C6703351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ткосрочный проект по экологическому воспитанию детей 2мл группы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«Птицы зимо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07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ила- воспитатель МАДОУ№6 Кильдишева Елена Антонас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рашивание силуэтов пти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ппликация «Воробьи зим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вижные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DSC00067"/>
          <p:cNvPicPr/>
          <p:nvPr/>
        </p:nvPicPr>
        <p:blipFill>
          <a:blip r:embed="rId1"/>
          <a:stretch/>
        </p:blipFill>
        <p:spPr>
          <a:xfrm>
            <a:off x="5724360" y="1773360"/>
            <a:ext cx="2908440" cy="218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DSC00068"/>
          <p:cNvPicPr/>
          <p:nvPr/>
        </p:nvPicPr>
        <p:blipFill>
          <a:blip r:embed="rId2"/>
          <a:stretch/>
        </p:blipFill>
        <p:spPr>
          <a:xfrm>
            <a:off x="5724360" y="3645000"/>
            <a:ext cx="2880000" cy="282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DSC00015"/>
          <p:cNvPicPr/>
          <p:nvPr/>
        </p:nvPicPr>
        <p:blipFill>
          <a:blip r:embed="rId3"/>
          <a:stretch/>
        </p:blipFill>
        <p:spPr>
          <a:xfrm>
            <a:off x="2700360" y="414972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ОД «Птицы зимо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Защита проекта в виде непосредственно организованной деятельности де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занятие 017"/>
          <p:cNvPicPr/>
          <p:nvPr/>
        </p:nvPicPr>
        <p:blipFill>
          <a:blip r:embed="rId1"/>
          <a:stretch/>
        </p:blipFill>
        <p:spPr>
          <a:xfrm>
            <a:off x="4427640" y="1700280"/>
            <a:ext cx="2952720" cy="271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SC00021"/>
          <p:cNvPicPr/>
          <p:nvPr/>
        </p:nvPicPr>
        <p:blipFill>
          <a:blip r:embed="rId2"/>
          <a:stretch/>
        </p:blipFill>
        <p:spPr>
          <a:xfrm>
            <a:off x="1979640" y="4437000"/>
            <a:ext cx="2475000" cy="21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SC00015"/>
          <p:cNvPicPr/>
          <p:nvPr/>
        </p:nvPicPr>
        <p:blipFill>
          <a:blip r:embed="rId3"/>
          <a:stretch/>
        </p:blipFill>
        <p:spPr>
          <a:xfrm>
            <a:off x="4427640" y="440064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общего представления дошкольников о зимующих птицах, их образе жизни, характерных признаках связи с окружающей средой, роли человека в жизни пти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ширять знания об окружающем, о пользе птиц в природ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ь узнавать пернатых по внешнему вид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гатить словарный запас де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тивизировать познавательную деятельность, конструктивные умения, художественно- 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ние ответственного и бережного отношения к природным объектам, воспитывать заботливое отношение к птицам, желание помогать в трудных зимних условиях, научить правильно их подкармлив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человека с природой чрезвычайно актуальная тема современности. Задача взрослых- воспитывать интерес у детей к нашим соседям по планете- птицам, желание узнавать новые факты их жизни, заботиться о них, радоваться от сознания того, что делясь крохами, можно спасти птиц зимой от гибели. В совместной работе с родителями мы должны создать условия для общения ребенка с миром природы и для посильной помощи нашим пернатым друзь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 к проект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В.Аджи «Конспекты занятий во второй младшей группе детского са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.Н.Волчкова, Н.В.Степанова «Конспекты занятий во второй младшей группе детского са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.В.Лаптева «Развивающие прогулки для детей 3-4 лет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.А.Тимофеева «Подвижные игры с детьми младшего дошкольного возраст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работы с деть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готовительный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одготовка наглядного материала с изображением зимующих птиц, подготовка художественной литературы, изготовление кормуш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следовательский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блюдения, индивидуальные беседы с целью выяснения уровня знаний по те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лючительный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оздание ситуаций вовлечения детей в реализацию цикла игр- занят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матический план к проек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людение «Птицы зим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Д. Аппликация «воробьи зим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Д. Речевое развитие «Птицы зим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исование «Птиц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ение художественной литературы о птиц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вижные иг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ка наглядного материала,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готовление кормуш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DSC09999"/>
          <p:cNvPicPr/>
          <p:nvPr/>
        </p:nvPicPr>
        <p:blipFill>
          <a:blip r:embed="rId1"/>
          <a:stretch/>
        </p:blipFill>
        <p:spPr>
          <a:xfrm>
            <a:off x="4932360" y="1628640"/>
            <a:ext cx="3411720" cy="255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DSC00002"/>
          <p:cNvPicPr/>
          <p:nvPr/>
        </p:nvPicPr>
        <p:blipFill>
          <a:blip r:embed="rId2"/>
          <a:stretch/>
        </p:blipFill>
        <p:spPr>
          <a:xfrm>
            <a:off x="5724360" y="422100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DSC00065"/>
          <p:cNvPicPr/>
          <p:nvPr/>
        </p:nvPicPr>
        <p:blipFill>
          <a:blip r:embed="rId3"/>
          <a:stretch/>
        </p:blipFill>
        <p:spPr>
          <a:xfrm>
            <a:off x="3348000" y="4221000"/>
            <a:ext cx="2378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следовательски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людения, беседы , игры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рмление пти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DSCN1649"/>
          <p:cNvPicPr/>
          <p:nvPr/>
        </p:nvPicPr>
        <p:blipFill>
          <a:blip r:embed="rId1"/>
          <a:stretch/>
        </p:blipFill>
        <p:spPr>
          <a:xfrm>
            <a:off x="4716360" y="1916280"/>
            <a:ext cx="2979720" cy="2234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DSCN1654"/>
          <p:cNvPicPr/>
          <p:nvPr/>
        </p:nvPicPr>
        <p:blipFill>
          <a:blip r:embed="rId2"/>
          <a:stretch/>
        </p:blipFill>
        <p:spPr>
          <a:xfrm>
            <a:off x="4716360" y="4149720"/>
            <a:ext cx="3024360" cy="2378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DSCN1652"/>
          <p:cNvPicPr/>
          <p:nvPr/>
        </p:nvPicPr>
        <p:blipFill>
          <a:blip r:embed="rId3"/>
          <a:stretch/>
        </p:blipFill>
        <p:spPr>
          <a:xfrm>
            <a:off x="1403280" y="335772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25:15Z</dcterms:created>
  <dc:creator>user</dc:creator>
  <dc:description/>
  <dc:language>en-US</dc:language>
  <cp:lastModifiedBy>OLGA</cp:lastModifiedBy>
  <dcterms:modified xsi:type="dcterms:W3CDTF">2015-02-03T13:30:35Z</dcterms:modified>
  <cp:revision>7</cp:revision>
  <dc:subject/>
  <dc:title>Краткосрочный проект по экологическому воспитанию</dc:title>
</cp:coreProperties>
</file>