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ACE-0F21-4810-9792-9E244A06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F27-4489-4447-84C4-D64DE3A0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5C3-D55E-4334-9A82-4B119030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B42-B811-4B91-837F-4D69057B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37B-52C8-4554-98D4-F886B4D4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961-B57F-4919-B9C6-B69D303B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CD2-5FDB-4F0E-825E-E19F2BA2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C02-AAD6-4492-AF71-17619F69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586-9833-4FF3-B107-0835E7A7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98D-1EFB-4E29-A9C6-1F4472C6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E97-73C5-48D3-B8AB-747EB4F5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027-5A2E-44B7-ABD6-876FA477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50000">
              <a:srgbClr val="99ff99"/>
            </a:gs>
            <a:gs pos="100000">
              <a:srgbClr val="47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E209-04A9-407C-8379-308472970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D01021_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Comic Sans MS"/>
              </a:rPr>
              <a:t>КУР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РЯБ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Курочка Ряба.mp3" descr=""/>
          <p:cNvPicPr/>
          <p:nvPr/>
        </p:nvPicPr>
        <p:blipFill>
          <a:blip r:embed="rId2"/>
          <a:stretch/>
        </p:blipFill>
        <p:spPr>
          <a:xfrm>
            <a:off x="975672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student\Desktop\гр.07271с\курочка.png"/>
          <p:cNvPicPr/>
          <p:nvPr/>
        </p:nvPicPr>
        <p:blipFill>
          <a:blip r:embed="rId3"/>
          <a:stretch/>
        </p:blipFill>
        <p:spPr>
          <a:xfrm>
            <a:off x="2411280" y="2781360"/>
            <a:ext cx="4346640" cy="3187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5796000" y="508464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Эмдэйн Клавдия Сандыковна, учитель начальных классов МАОУИволгин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1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И БЫЛИ ДЕД ДА 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5"/>
          <p:cNvSpPr/>
          <p:nvPr/>
        </p:nvSpPr>
        <p:spPr>
          <a:xfrm>
            <a:off x="4067280" y="4221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C:\Users\student\Desktop\гр.07271с\IMG_6612And7more_tonemapped.jpg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395280" y="593100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C:\Users\student\Desktop\гр.07271с\Бабка.png"/>
          <p:cNvPicPr/>
          <p:nvPr/>
        </p:nvPicPr>
        <p:blipFill>
          <a:blip r:embed="rId3"/>
          <a:stretch/>
        </p:blipFill>
        <p:spPr>
          <a:xfrm>
            <a:off x="3995640" y="2205000"/>
            <a:ext cx="2298960" cy="41594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0"/>
          <p:cNvSpPr/>
          <p:nvPr/>
        </p:nvSpPr>
        <p:spPr>
          <a:xfrm>
            <a:off x="5076720" y="2997360"/>
            <a:ext cx="9684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4859280" y="3213000"/>
            <a:ext cx="96840" cy="1447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student\Desktop\гр.07271с\разбитое яйцо.png"/>
          <p:cNvPicPr/>
          <p:nvPr/>
        </p:nvPicPr>
        <p:blipFill>
          <a:blip r:embed="rId4"/>
          <a:stretch/>
        </p:blipFill>
        <p:spPr>
          <a:xfrm>
            <a:off x="2268360" y="5229360"/>
            <a:ext cx="1873440" cy="94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4.39306E-006 L 0.00521 0.33294 E">
                                      <p:cBhvr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8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72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И БЫЛИ ДЕД ДА 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5"/>
          <p:cNvSpPr/>
          <p:nvPr/>
        </p:nvSpPr>
        <p:spPr>
          <a:xfrm>
            <a:off x="4067280" y="4221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C:\Users\student\Desktop\гр.07271с\IMG_6612And7more_tonemapped.jpg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student\Desktop\гр.07271с\Ряба.png"/>
          <p:cNvPicPr/>
          <p:nvPr/>
        </p:nvPicPr>
        <p:blipFill>
          <a:blip r:embed="rId3"/>
          <a:stretch/>
        </p:blipFill>
        <p:spPr>
          <a:xfrm>
            <a:off x="0" y="4005360"/>
            <a:ext cx="2230560" cy="217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Users\student\Desktop\гр.07271с\Бабка.png"/>
          <p:cNvPicPr/>
          <p:nvPr/>
        </p:nvPicPr>
        <p:blipFill>
          <a:blip r:embed="rId4"/>
          <a:stretch/>
        </p:blipFill>
        <p:spPr>
          <a:xfrm>
            <a:off x="3059280" y="2349360"/>
            <a:ext cx="2160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Users\student\Desktop\гр.07271с\ДЕД 2.png"/>
          <p:cNvPicPr/>
          <p:nvPr/>
        </p:nvPicPr>
        <p:blipFill>
          <a:blip r:embed="rId5"/>
          <a:stretch/>
        </p:blipFill>
        <p:spPr>
          <a:xfrm>
            <a:off x="4572000" y="2421000"/>
            <a:ext cx="2503440" cy="443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student\Desktop\гр.07271с\разбитое яйцо.png"/>
          <p:cNvPicPr/>
          <p:nvPr/>
        </p:nvPicPr>
        <p:blipFill>
          <a:blip r:embed="rId6"/>
          <a:stretch/>
        </p:blipFill>
        <p:spPr>
          <a:xfrm>
            <a:off x="1692360" y="5445000"/>
            <a:ext cx="165564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C 0.0033 -0.00069 0.01232 -0.00416 0.01545 0.00162 C 0.01666 0.00371 0.01458 0.00695 0.01423 0.00949 C 0.01684 0.01968 0.01302 0.00949 0.02257 0.01273 C 0.02396 0.0132 0.02413 0.01574 0.025 0.01736 C 0.02534 0.02107 0.02465 0.02523 0.02621 0.02848 C 0.02639 0.02871 0.03576 0.02269 0.03698 0.02223 C 0.04288 0.02732 0.04514 0.03635 0.05001 0.04283 E">
                                      <p:cBhvr>
                                        <p:cTn id="7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И БЫЛИ ДЕД ДА 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5"/>
          <p:cNvSpPr/>
          <p:nvPr/>
        </p:nvSpPr>
        <p:spPr>
          <a:xfrm>
            <a:off x="4067280" y="4221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C:\Users\student\Desktop\гр.07271с\IMG_6612And7more_tonemapped.jpg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395280" y="593100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C:\Users\student\Desktop\гр.07271с\Ряба.png"/>
          <p:cNvPicPr/>
          <p:nvPr/>
        </p:nvPicPr>
        <p:blipFill>
          <a:blip r:embed="rId3"/>
          <a:stretch/>
        </p:blipFill>
        <p:spPr>
          <a:xfrm>
            <a:off x="468360" y="3645000"/>
            <a:ext cx="2549520" cy="2482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student\Desktop\гр.07271с\Яйцо 2.png"/>
          <p:cNvPicPr/>
          <p:nvPr/>
        </p:nvPicPr>
        <p:blipFill>
          <a:blip r:embed="rId4"/>
          <a:stretch/>
        </p:blipFill>
        <p:spPr>
          <a:xfrm>
            <a:off x="3635280" y="3500280"/>
            <a:ext cx="419040" cy="5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40741E-007 C 0.00746 0.00116 0.01614 -0.00185 0.02257 0.00324 C 0.02604 0.00602 0.02187 0.01435 0.02378 0.01898 C 0.02465 0.02083 0.02587 0.01551 0.02725 0.01435 C 0.0283 0.01343 0.02968 0.0132 0.0309 0.01273 C 0.04237 0.01667 0.03003 0.01042 0.03681 0.03495 C 0.03733 0.03704 0.04011 0.03611 0.04167 0.03657 C 0.0441 0.03542 0.04636 0.03449 0.04879 0.03333 C 0.05001 0.03287 0.05226 0.03171 0.05226 0.03171 E">
                                      <p:cBhvr>
                                        <p:cTn id="8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1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И БЫЛИ ДЕД ДА 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5"/>
          <p:cNvSpPr/>
          <p:nvPr/>
        </p:nvSpPr>
        <p:spPr>
          <a:xfrm>
            <a:off x="4067280" y="4221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C:\Users\student\Desktop\гр.07271с\IMG_6612And7more_tonemapped.jpg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student\Desktop\гр.07271с\Ряба.png"/>
          <p:cNvPicPr/>
          <p:nvPr/>
        </p:nvPicPr>
        <p:blipFill>
          <a:blip r:embed="rId3"/>
          <a:stretch/>
        </p:blipFill>
        <p:spPr>
          <a:xfrm>
            <a:off x="684360" y="3933720"/>
            <a:ext cx="2303280" cy="224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tudent\Desktop\гр.07271с\Бабка.png"/>
          <p:cNvPicPr/>
          <p:nvPr/>
        </p:nvPicPr>
        <p:blipFill>
          <a:blip r:embed="rId4"/>
          <a:stretch/>
        </p:blipFill>
        <p:spPr>
          <a:xfrm>
            <a:off x="4067280" y="2276640"/>
            <a:ext cx="2160360" cy="4190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:\Users\student\Desktop\гр.07271с\ДЕД 2.png"/>
          <p:cNvPicPr/>
          <p:nvPr/>
        </p:nvPicPr>
        <p:blipFill>
          <a:blip r:embed="rId5"/>
          <a:stretch/>
        </p:blipFill>
        <p:spPr>
          <a:xfrm>
            <a:off x="5148360" y="2421000"/>
            <a:ext cx="2503440" cy="4437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student\Desktop\гр.07271с\Яйцо 2.png"/>
          <p:cNvPicPr/>
          <p:nvPr/>
        </p:nvPicPr>
        <p:blipFill>
          <a:blip r:embed="rId6"/>
          <a:stretch/>
        </p:blipFill>
        <p:spPr>
          <a:xfrm>
            <a:off x="3635280" y="3500280"/>
            <a:ext cx="419040" cy="5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5.92593E-006 C 0.00434 0.00138 0.01007 -0.00093 0.0132 0.00323 C 0.01511 0.00578 0.01337 0.01087 0.01441 0.01434 C 0.01493 0.01597 0.01667 0.01643 0.01789 0.01759 C 0.02275 0.0155 0.02518 0.01087 0.02987 0.00786 C 0.03473 0.01018 0.03316 0.00833 0.03577 0.01597 C 0.03629 0.01735 0.03594 0.0199 0.03698 0.02059 C 0.03959 0.02222 0.04254 0.02175 0.04532 0.02222 C 0.04966 0.02615 0.04844 0.0236 0.05 0.0287 E">
                                      <p:cBhvr>
                                        <p:cTn id="9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DD01021_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1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И БЫЛИ ДЕД ДА 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5"/>
          <p:cNvSpPr/>
          <p:nvPr/>
        </p:nvSpPr>
        <p:spPr>
          <a:xfrm>
            <a:off x="4067280" y="4221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C:\Users\student\Desktop\гр.07271с\IMG_6612And7more_tonemapped.jpg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student\Desktop\гр.07271с\ДЕД 2.png"/>
          <p:cNvPicPr/>
          <p:nvPr/>
        </p:nvPicPr>
        <p:blipFill>
          <a:blip r:embed="rId3"/>
          <a:stretch/>
        </p:blipFill>
        <p:spPr>
          <a:xfrm>
            <a:off x="5364000" y="2133720"/>
            <a:ext cx="2376720" cy="42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Users\student\Desktop\гр.07271с\Бабка.png"/>
          <p:cNvPicPr/>
          <p:nvPr/>
        </p:nvPicPr>
        <p:blipFill>
          <a:blip r:embed="rId4"/>
          <a:stretch/>
        </p:blipFill>
        <p:spPr>
          <a:xfrm>
            <a:off x="1187280" y="2349360"/>
            <a:ext cx="26812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2963E-006 C -0.01892 -0.00117 -0.02708 -0.00302 -0.04514 -6.2963E-006 C -0.04843 0.00045 -0.05156 0.00208 -0.05468 0.00323 C -0.05625 0.0037 -0.05955 0.00485 -0.05955 0.00485 C -0.06076 0.00578 -0.0618 0.00717 -0.06302 0.00786 C -0.06527 0.00925 -0.07014 0.0111 -0.07014 0.0111 C -0.07257 0.01434 -0.07448 0.01805 -0.07725 0.02059 C -0.08003 0.02337 -0.08559 0.0287 -0.08559 0.0287 C -0.08993 0.03703 -0.09236 0.03981 -0.1 0.03981 E">
                                      <p:cBhvr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1.48148E-006 C 0.0026 0.00208 0.00434 0.00602 0.00711 0.00787 C 0.01562 0.01389 0.03177 0.0213 0.04166 0.02523 C 0.04288 0.02685 0.04374 0.02893 0.04531 0.03009 C 0.0467 0.03125 0.04861 0.03056 0.04999 0.03171 C 0.05121 0.03264 0.05138 0.03495 0.05243 0.03634 C 0.05486 0.03958 0.05642 0.03981 0.05954 0.0412 C 0.06493 0.04005 0.06979 0.03866 0.07499 0.03634 C 0.07812 0.03681 0.08454 0.03796 0.08454 0.03796 E">
                                      <p:cBhvr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И БЫЛИ ДЕД ДА 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5"/>
          <p:cNvSpPr/>
          <p:nvPr/>
        </p:nvSpPr>
        <p:spPr>
          <a:xfrm>
            <a:off x="4067280" y="4221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C:\Users\student\Desktop\гр.07271с\IMG_6612And7more_tonemapped.jpg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student\Desktop\гр.07271с\Ряба.png"/>
          <p:cNvPicPr/>
          <p:nvPr/>
        </p:nvPicPr>
        <p:blipFill>
          <a:blip r:embed="rId3"/>
          <a:stretch/>
        </p:blipFill>
        <p:spPr>
          <a:xfrm>
            <a:off x="0" y="4005360"/>
            <a:ext cx="2230560" cy="217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C:\Users\student\Desktop\гр.07271с\Бабка.png"/>
          <p:cNvPicPr/>
          <p:nvPr/>
        </p:nvPicPr>
        <p:blipFill>
          <a:blip r:embed="rId4"/>
          <a:stretch/>
        </p:blipFill>
        <p:spPr>
          <a:xfrm>
            <a:off x="3059280" y="2349360"/>
            <a:ext cx="2160360" cy="419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student\Desktop\гр.07271с\ДЕД 2.png"/>
          <p:cNvPicPr/>
          <p:nvPr/>
        </p:nvPicPr>
        <p:blipFill>
          <a:blip r:embed="rId5"/>
          <a:stretch/>
        </p:blipFill>
        <p:spPr>
          <a:xfrm>
            <a:off x="4572000" y="2421000"/>
            <a:ext cx="2503440" cy="44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3.33333E-006 C 0.01146 -0.00231 0.02188 -0.00486 0.03333 -0.00625 C 0.04219 -0.01018 0.04115 -0.01273 0.03924 -0.00162 C 0.03889 0.00047 0.03837 0.00278 0.03802 0.00486 C 0.03889 0.00695 0.03872 0.01065 0.04045 0.01111 C 0.0441 0.01227 0.04757 0.00787 0.05122 0.00648 C 0.05243 0.00695 0.05417 0.00648 0.05469 0.00787 C 0.05625 0.01181 0.05712 0.0206 0.05712 0.0206 C 0.06146 0.01922 0.06598 0.01736 0.07031 0.01598 C 0.0731 0.01644 0.07605 0.01598 0.07865 0.0176 C 0.08108 0.01898 0.08091 0.02477 0.08213 0.02709 C 0.083 0.02894 0.08577 0.03172 0.08577 0.03172 E">
                                      <p:cBhvr>
                                        <p:cTn id="2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И БЫЛИ ДЕД ДА 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5"/>
          <p:cNvSpPr/>
          <p:nvPr/>
        </p:nvSpPr>
        <p:spPr>
          <a:xfrm>
            <a:off x="4067280" y="4221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C:\Users\student\Desktop\гр.07271с\IMG_6612And7more_tonemapped.jpg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395280" y="593100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student\Desktop\гр.07271с\золотое яйцо.png"/>
          <p:cNvPicPr/>
          <p:nvPr/>
        </p:nvPicPr>
        <p:blipFill>
          <a:blip r:embed="rId3"/>
          <a:stretch/>
        </p:blipFill>
        <p:spPr>
          <a:xfrm rot="4871400">
            <a:off x="3566880" y="5344920"/>
            <a:ext cx="754200" cy="944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student\Desktop\гр.07271с\Ряба.png"/>
          <p:cNvPicPr/>
          <p:nvPr/>
        </p:nvPicPr>
        <p:blipFill>
          <a:blip r:embed="rId4"/>
          <a:stretch/>
        </p:blipFill>
        <p:spPr>
          <a:xfrm>
            <a:off x="3635280" y="4076640"/>
            <a:ext cx="2230560" cy="21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40741E-007 C -0.0059 0.0037 -0.00954 0.01042 -0.01545 0.01412 C -0.02309 0.01898 -0.03316 0.02893 -0.04166 0.03009 C -0.046 0.03055 -0.05034 0.03125 -0.05468 0.03171 C -0.06441 0.03449 -0.07447 0.03472 -0.08437 0.03634 C -0.09201 0.04143 -0.09809 0.05023 -0.1059 0.05555 E">
                                      <p:cBhvr>
                                        <p:cTn id="2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4.44444E-006 C 0.00938 -0.00162 0.01251 -0.00347 0.02154 -0.00162 C 0.02379 0.0081 0.02102 0.00949 0.02865 0.01412 C 0.03056 0.0132 0.03265 0.01204 0.03456 0.01111 C 0.03699 0.00996 0.04167 0.00787 0.04167 0.00787 C 0.05053 0.01181 0.04254 0.01667 0.05122 0.0206 C 0.0573 0.01852 0.05904 0.01713 0.06546 0.01898 C 0.07119 0.02408 0.06789 0.02222 0.06789 0.03009 E">
                                      <p:cBhvr>
                                        <p:cTn id="3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И БЫЛИ ДЕД ДА 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4067280" y="4221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C:\Users\student\Desktop\гр.07271с\IMG_6612And7more_tonemapped.jpg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395280" y="593100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C:\Users\student\Desktop\гр.07271с\ДЕД 2.png"/>
          <p:cNvPicPr/>
          <p:nvPr/>
        </p:nvPicPr>
        <p:blipFill>
          <a:blip r:embed="rId3"/>
          <a:stretch/>
        </p:blipFill>
        <p:spPr>
          <a:xfrm>
            <a:off x="4859280" y="1700280"/>
            <a:ext cx="2521080" cy="4465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student\Desktop\гр.07271с\золотое яйцо.png"/>
          <p:cNvPicPr/>
          <p:nvPr/>
        </p:nvPicPr>
        <p:blipFill>
          <a:blip r:embed="rId4"/>
          <a:stretch/>
        </p:blipFill>
        <p:spPr>
          <a:xfrm>
            <a:off x="3132000" y="3284640"/>
            <a:ext cx="662040" cy="83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student\Desktop\гр.07271с\колотушка.png"/>
          <p:cNvPicPr/>
          <p:nvPr/>
        </p:nvPicPr>
        <p:blipFill>
          <a:blip r:embed="rId5"/>
          <a:stretch/>
        </p:blipFill>
        <p:spPr>
          <a:xfrm rot="1896600">
            <a:off x="3665520" y="3017880"/>
            <a:ext cx="1996920" cy="95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6 C 0.00313 -0.00209 0.00677 -0.00232 0.00955 -0.00486 C 0.01077 -0.00579 0.01094 -0.00834 0.01198 -0.00949 C 0.01302 -0.01042 0.01441 -0.01042 0.01545 -0.01111 C 0.02014 -0.01435 0.02466 -0.0169 0.02986 -0.01898 C 0.03229 -0.02107 0.0342 -0.02431 0.03698 -0.02547 C 0.03941 -0.02662 0.0441 -0.02871 0.0441 -0.02871 C 0.04497 -0.03033 0.04549 -0.03218 0.04653 -0.03334 C 0.04757 -0.03426 0.05122 -0.03496 0.05 -0.03496 C 0.04601 -0.03496 0.03663 -0.03264 0.03212 -0.03172 C 0.02934 -0.03056 0.02639 -0.0301 0.02379 -0.02871 C 0.0224 -0.02801 0.02153 -0.02639 0.02032 -0.02547 C 0.0191 -0.02477 0.01788 -0.02431 0.01667 -0.02385 C 0.01233 -0.01783 0.00729 -0.0132 0.00243 -0.00787 C 0.00104 -0.00648 -3.33333000000009E-006 -0.00463 -0.00121 -0.00324 C -0.00225 -0.00209 -0.0059 -0.00093 -0.00468 3.7037E-006 C -0.0033 0.00092 0.00799 -0.00463 0.00834 -0.00486 C 0.01476 -0.00787 0.02188 -0.0132 0.02622 -0.0206 C 0.03386 -0.03334 0.02778 -0.02709 0.03455 -0.03334 C 0.0349 -0.03496 0.03663 -0.03704 0.03577 -0.0382 C 0.0349 -0.03935 0.03334 -0.03727 0.03212 -0.03658 C 0.029 -0.03449 0.02622 -0.03125 0.02275 -0.0301 C 0.01997 -0.02917 0.01702 -0.02871 0.01441 -0.02709 C 0.00747 -0.02246 -3.33332999999988E-006 -0.0169 -0.00712 -0.01273 C -0.01111 -0.01042 -0.01441 -0.01204 -0.01666 -0.00648 E">
                                      <p:cBhvr>
                                        <p:cTn id="3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И БЫЛИ ДЕД ДА 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5"/>
          <p:cNvSpPr/>
          <p:nvPr/>
        </p:nvSpPr>
        <p:spPr>
          <a:xfrm>
            <a:off x="4067280" y="4221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C:\Users\student\Desktop\гр.07271с\IMG_6612And7more_tonemapped.jpg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395280" y="593100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student\Desktop\гр.07271с\золотое яйцо.png"/>
          <p:cNvPicPr/>
          <p:nvPr/>
        </p:nvPicPr>
        <p:blipFill>
          <a:blip r:embed="rId3"/>
          <a:stretch/>
        </p:blipFill>
        <p:spPr>
          <a:xfrm>
            <a:off x="3132000" y="3284640"/>
            <a:ext cx="662040" cy="83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student\Desktop\гр.07271с\Бабка.png"/>
          <p:cNvPicPr/>
          <p:nvPr/>
        </p:nvPicPr>
        <p:blipFill>
          <a:blip r:embed="rId4"/>
          <a:stretch/>
        </p:blipFill>
        <p:spPr>
          <a:xfrm>
            <a:off x="5003640" y="1844640"/>
            <a:ext cx="2340000" cy="450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student\Desktop\гр.07271с\колотушка.png"/>
          <p:cNvPicPr/>
          <p:nvPr/>
        </p:nvPicPr>
        <p:blipFill>
          <a:blip r:embed="rId5"/>
          <a:stretch/>
        </p:blipFill>
        <p:spPr>
          <a:xfrm rot="1896600">
            <a:off x="3665520" y="3017880"/>
            <a:ext cx="1996920" cy="95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C 0.00642 -0.00162 0.01076 -0.0051 0.01666 -0.00787 C 0.01996 -0.01435 0.02378 -0.0213 0.02864 -0.02547 C 0.03038 -0.03195 0.03177 -0.03635 0.025 -0.03334 C 0.02135 -0.02986 0.01666 -0.02778 0.01319 -0.02385 C 0.01076 -0.02084 0.00885 -0.0169 0.00607 -0.01435 C 0.00364 -0.01227 -0.00122 -0.00787 -0.00122 -0.00787 C -0.00799 0.00602 0.00052 -0.01227 -0.00469 0.00162 C -0.00539 0.00347 -0.00816 0.00787 -0.00712 0.00648 C -0.00105 -0.00162 0.00225 -0.01227 0.00954 -0.01898 C 0.01284 -0.02547 0.01666 -0.03218 0.02152 -0.03658 C 0.02309 -0.03982 0.02465 -0.04283 0.02621 -0.04607 C 0.02708 -0.04792 0.02309 -0.04514 0.02152 -0.04445 C 0.01493 -0.04097 0.01823 -0.04213 0.01319 -0.03658 C 0.00486 -0.02732 -0.00452 -0.01898 -0.01424 -0.01273 C -0.01823 -0.00741 -0.02257 0.00046 -0.02726 0.00486 C -0.02865 0.00995 -0.02726 0.00949 -0.02969 0.00949 E">
                                      <p:cBhvr>
                                        <p:cTn id="4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И БЫЛИ ДЕД ДА 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5"/>
          <p:cNvSpPr/>
          <p:nvPr/>
        </p:nvSpPr>
        <p:spPr>
          <a:xfrm>
            <a:off x="4067280" y="4221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C:\Users\student\Desktop\гр.07271с\IMG_6612And7more_tonemapped.jpg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395280" y="593100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student\Desktop\гр.07271с\золотое яйцо.png"/>
          <p:cNvPicPr/>
          <p:nvPr/>
        </p:nvPicPr>
        <p:blipFill>
          <a:blip r:embed="rId3"/>
          <a:stretch/>
        </p:blipFill>
        <p:spPr>
          <a:xfrm>
            <a:off x="3276720" y="3573360"/>
            <a:ext cx="388800" cy="48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Users\student\Desktop\гр.07271с\мышка.png"/>
          <p:cNvPicPr/>
          <p:nvPr/>
        </p:nvPicPr>
        <p:blipFill>
          <a:blip r:embed="rId4"/>
          <a:stretch/>
        </p:blipFill>
        <p:spPr>
          <a:xfrm>
            <a:off x="4140360" y="3357720"/>
            <a:ext cx="117936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889E-018 C -0.00782 -0.00533 -0.01164 -0.01574 -0.0191 -0.0206 C -0.02309 -0.0169 -0.02587 -0.01343 -0.02865 -0.00787 C -0.02986 -0.00833 -0.03143 -0.0081 -0.03212 -0.00949 C -0.03351 -0.01227 -0.03455 -0.01898 -0.03455 -0.01898 C -0.0415 -0.01574 -0.04497 -0.00833 -0.05122 -0.00324 C -0.05799 -0.00648 -0.05452 -0.01389 -0.06198 -0.0206 C -0.06719 -0.02014 -0.0724 -0.02083 -0.07743 -0.01898 C -0.07865 -0.01852 -0.07795 -0.01574 -0.07865 -0.01435 C -0.08073 -0.01019 -0.08282 -0.0088 -0.08577 -0.00625 C -0.08837 -0.0169 -0.09497 -0.01829 -0.10122 -0.02384 C -0.10591 -0.02176 -0.10851 -0.01875 -0.11198 -0.01435 C -0.11233 -0.01273 -0.11302 -0.00949 -0.11302 -0.00949 E">
                                      <p:cBhvr>
                                        <p:cTn id="5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C 0.00278 0.04236 0.00209 0.08495 -0.00121 0.12708 C 0.00087 0.17037 0.00052 0.15324 -0.00121 0.21736 C -0.00139 0.22222 -0.00173 0.22685 -0.00225 0.23171 C -0.00243 0.23402 -0.00347 0.23819 -0.00347 0.23819 E">
                                      <p:cBhvr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1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И БЫЛИ ДЕД ДА 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5"/>
          <p:cNvSpPr/>
          <p:nvPr/>
        </p:nvSpPr>
        <p:spPr>
          <a:xfrm>
            <a:off x="4067280" y="4221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C:\Users\student\Desktop\гр.07271с\IMG_6612And7more_tonemapped.jpg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395280" y="593100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student\Desktop\гр.07271с\разбитое яйцо.png"/>
          <p:cNvPicPr/>
          <p:nvPr/>
        </p:nvPicPr>
        <p:blipFill>
          <a:blip r:embed="rId3"/>
          <a:stretch/>
        </p:blipFill>
        <p:spPr>
          <a:xfrm>
            <a:off x="2987640" y="5157720"/>
            <a:ext cx="2158920" cy="10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1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И БЫЛИ ДЕД ДА 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5"/>
          <p:cNvSpPr/>
          <p:nvPr/>
        </p:nvSpPr>
        <p:spPr>
          <a:xfrm>
            <a:off x="4067280" y="4221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C:\Users\student\Desktop\гр.07271с\IMG_6612And7more_tonemapped.jpg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395280" y="593100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C:\Users\student\Desktop\гр.07271с\ДЕД 2.png"/>
          <p:cNvPicPr/>
          <p:nvPr/>
        </p:nvPicPr>
        <p:blipFill>
          <a:blip r:embed="rId3"/>
          <a:stretch/>
        </p:blipFill>
        <p:spPr>
          <a:xfrm>
            <a:off x="3203640" y="1557360"/>
            <a:ext cx="2663640" cy="4719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3"/>
          <p:cNvSpPr/>
          <p:nvPr/>
        </p:nvSpPr>
        <p:spPr>
          <a:xfrm>
            <a:off x="3924360" y="2276640"/>
            <a:ext cx="9684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4356000" y="2349360"/>
            <a:ext cx="96840" cy="1447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student\Desktop\гр.07271с\разбитое яйцо.png"/>
          <p:cNvPicPr/>
          <p:nvPr/>
        </p:nvPicPr>
        <p:blipFill>
          <a:blip r:embed="rId4"/>
          <a:stretch/>
        </p:blipFill>
        <p:spPr>
          <a:xfrm>
            <a:off x="1547640" y="5157720"/>
            <a:ext cx="1873440" cy="9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4.39306E-006 L 0.00521 0.33294 E">
                                      <p:cBhvr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4:06:50Z</dcterms:created>
  <dc:creator>home</dc:creator>
  <dc:description/>
  <dc:language>en-US</dc:language>
  <cp:lastModifiedBy>Дарима Эмдэйн</cp:lastModifiedBy>
  <dcterms:modified xsi:type="dcterms:W3CDTF">2019-12-08T09:52:26Z</dcterms:modified>
  <cp:revision>54</cp:revision>
  <dc:subject/>
  <dc:title>Слайд 1</dc:title>
</cp:coreProperties>
</file>