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C2C-368B-4ABE-ACDD-8DCA7D36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35B-CA27-49C5-A81D-631243AE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433-E8DD-468E-A5D9-1B1CD9D2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2E4-AEEC-4203-83D3-5395F5B9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492-0C31-4C71-9D79-BEB5746C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4A5-7631-4371-8D27-D0072DD9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B70-116F-4502-9F49-6FAEC992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C93-F77E-47E2-A310-DB429338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1E6-2846-4B90-AE1A-2EC443F8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5EF-5880-4402-8F55-1E2F373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1DB-1050-4145-8598-4287E479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DD9-006E-418F-A165-D5B7102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6FAE-7FA3-48CD-8BDC-9D7514E40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d2da7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Логопедическое занятие «Автоматизация звуков «З» и «Зь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ff9a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f8d77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8693"/>
                </a:solidFill>
                <a:latin typeface="Calibri"/>
              </a:rPr>
              <a:t>Составила учитель-логопед МАДОУ  №5 «Колокольчик» г.Советска Е.Ч.Да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5520" y="2499840"/>
            <a:ext cx="7643880" cy="3148200"/>
          </a:xfrm>
          <a:prstGeom prst="rect">
            <a:avLst/>
          </a:prstGeom>
          <a:gradFill rotWithShape="0">
            <a:gsLst>
              <a:gs pos="0">
                <a:srgbClr val="ffff9a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f8d77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РЕПЛЯТЬ ПРАВИЛЬНОЕ ПРОИЗНОШЕНИЕ ЗВУКОВ З И ЗЬ, НАВЫКИ ЗВУКОВОГО АНАЛИЗА СЛОВ, ЗНАНИЯ ДЕТЕЙ О ГЛАСНЫХ И СОГЛАСНЫХ ЗВУКАХ 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ТЬ СЛОВАРНЫЙ ЗАПАС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ЗАКРЕПЛЯТЬ НАВЫКИ СОСТАВЛЕНИЯ И РАСПРОСТРАНЕНИЯ  ПРЕДЛОЖ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ВАТЬ СВЯЗНУЮ РЕЧЬ;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ВАТЬ ВНИМАНИЕ, ПАМЯТЬ, МЫШЛЕНИЕ, ФОНЕМАТИЧЕСКИЙ СЛУХ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Текст 2"/>
          <p:cNvGrpSpPr/>
          <p:nvPr/>
        </p:nvGrpSpPr>
        <p:grpSpPr>
          <a:xfrm>
            <a:off x="444600" y="890640"/>
            <a:ext cx="8096040" cy="1608120"/>
            <a:chOff x="444600" y="890640"/>
            <a:chExt cx="8096040" cy="1608120"/>
          </a:xfrm>
        </p:grpSpPr>
        <p:pic>
          <p:nvPicPr>
            <p:cNvPr id="45" name="Текст 2" descr=""/>
            <p:cNvPicPr/>
            <p:nvPr/>
          </p:nvPicPr>
          <p:blipFill>
            <a:blip r:embed="rId1"/>
            <a:stretch/>
          </p:blipFill>
          <p:spPr>
            <a:xfrm>
              <a:off x="444600" y="890640"/>
              <a:ext cx="80960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14240" y="928800"/>
              <a:ext cx="77724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Calibri"/>
                </a:rPr>
                <a:t>Цели занятия</a:t>
              </a:r>
              <a:r>
                <a:rPr b="0" lang="ru-RU" sz="2400" spc="-1" strike="noStrike">
                  <a:solidFill>
                    <a:srgbClr val="c00000"/>
                  </a:solidFill>
                  <a:latin typeface="Calibri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4ac4e"/>
              </a:gs>
              <a:gs pos="100000">
                <a:srgbClr val="dae466"/>
              </a:gs>
            </a:gsLst>
            <a:lin ang="16200000"/>
          </a:gradFill>
          <a:ln w="9360">
            <a:solidFill>
              <a:srgbClr val="cfd77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Это – Звенелочка. Она дружит со звуками  «З» и  «Зь» и очень рада, что ты умеешь их правильно произносить. Она предлагает тебе поиграть. (Что  ты знаешь о звуках «З» и «Зь»?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907240" y="1852560"/>
            <a:ext cx="3260520" cy="9315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857840" y="3000240"/>
            <a:ext cx="914400" cy="91440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4857840" y="4500720"/>
            <a:ext cx="914400" cy="914400"/>
          </a:xfrm>
          <a:prstGeom prst="rect">
            <a:avLst/>
          </a:prstGeom>
          <a:solidFill>
            <a:srgbClr val="00b050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"/>
          <p:cNvPicPr/>
          <p:nvPr/>
        </p:nvPicPr>
        <p:blipFill>
          <a:blip r:embed="rId2"/>
          <a:stretch/>
        </p:blipFill>
        <p:spPr>
          <a:xfrm>
            <a:off x="642960" y="3714840"/>
            <a:ext cx="16398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3008160" cy="1162080"/>
          </a:xfrm>
          <a:prstGeom prst="rect">
            <a:avLst/>
          </a:prstGeom>
          <a:solidFill>
            <a:srgbClr val="d2da7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пражнения для язы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gradFill rotWithShape="0">
            <a:gsLst>
              <a:gs pos="0">
                <a:srgbClr val="ffff9a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f8d77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943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4349"/>
                </a:solidFill>
                <a:latin typeface="Calibri"/>
              </a:rPr>
              <a:t>Рассмотри картин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943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4349"/>
                </a:solidFill>
                <a:latin typeface="Calibri"/>
              </a:rPr>
              <a:t>Вспомни, как они называют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943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4349"/>
                </a:solidFill>
                <a:latin typeface="Calibri"/>
              </a:rPr>
              <a:t>Выполни упражнения перед зеркал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571920" y="214200"/>
            <a:ext cx="1754280" cy="1704960"/>
          </a:xfrm>
          <a:prstGeom prst="rect">
            <a:avLst/>
          </a:prstGeom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55" name="Рисунок 28" descr=""/>
          <p:cNvPicPr/>
          <p:nvPr/>
        </p:nvPicPr>
        <p:blipFill>
          <a:blip r:embed="rId2"/>
          <a:stretch/>
        </p:blipFill>
        <p:spPr>
          <a:xfrm>
            <a:off x="5643720" y="357120"/>
            <a:ext cx="1428480" cy="14288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9T12:40:48Z</dcterms:created>
  <dc:creator>User</dc:creator>
  <dc:description/>
  <dc:language>en-US</dc:language>
  <cp:lastModifiedBy>User</cp:lastModifiedBy>
  <dcterms:modified xsi:type="dcterms:W3CDTF">2019-12-08T19:03:44Z</dcterms:modified>
  <cp:revision>8</cp:revision>
  <dc:subject/>
  <dc:title>Логопедическое занятие «Автоматизация звуков «З» и «Зь».</dc:title>
</cp:coreProperties>
</file>