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7AF-A83D-4EC7-96FF-F194F45C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F8D-0835-4416-AA5F-66413E6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E2E-3B3A-4058-B7E9-F0F430BE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38D-A1EC-4FEB-824C-29A5D70E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EFF-6758-400C-BDF5-19D2760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316-11D1-4B52-8A2B-438429A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72C-5382-49C5-B1D6-1EBFA9ED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43-9C5F-4BE4-AB40-43971AC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966-CAAB-4540-BBF0-5D00D9A4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58F-518A-4FC2-8AC0-98C04E1A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941-98E2-4AF9-9A9F-E5BAAFE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D77-A474-4D2A-93FD-34F9B8C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37C-145B-4D70-BF58-6AE6AE6F2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h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8be4c8adb9387e8b6f429009a1e021f4_209"/>
          <p:cNvPicPr/>
          <p:nvPr/>
        </p:nvPicPr>
        <p:blipFill>
          <a:blip r:embed="rId1"/>
          <a:stretch/>
        </p:blipFill>
        <p:spPr>
          <a:xfrm>
            <a:off x="324000" y="47628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_8be4c8adb9387e8b6f429009a1e021f4_209"/>
          <p:cNvPicPr/>
          <p:nvPr/>
        </p:nvPicPr>
        <p:blipFill>
          <a:blip r:embed="rId2"/>
          <a:stretch/>
        </p:blipFill>
        <p:spPr>
          <a:xfrm>
            <a:off x="3276720" y="256536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1_8be4c8adb9387e8b6f429009a1e021f4_209"/>
          <p:cNvPicPr/>
          <p:nvPr/>
        </p:nvPicPr>
        <p:blipFill>
          <a:blip r:embed="rId3"/>
          <a:stretch/>
        </p:blipFill>
        <p:spPr>
          <a:xfrm>
            <a:off x="1187280" y="2637000"/>
            <a:ext cx="1702080" cy="174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_8be4c8adb9387e8b6f429009a1e021f4_209"/>
          <p:cNvPicPr/>
          <p:nvPr/>
        </p:nvPicPr>
        <p:blipFill>
          <a:blip r:embed="rId4"/>
          <a:stretch/>
        </p:blipFill>
        <p:spPr>
          <a:xfrm>
            <a:off x="468360" y="4508640"/>
            <a:ext cx="1701720" cy="174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_8be4c8adb9387e8b6f429009a1e021f4_209"/>
          <p:cNvPicPr/>
          <p:nvPr/>
        </p:nvPicPr>
        <p:blipFill>
          <a:blip r:embed="rId5"/>
          <a:stretch/>
        </p:blipFill>
        <p:spPr>
          <a:xfrm>
            <a:off x="2124000" y="47628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_8be4c8adb9387e8b6f429009a1e021f4_209"/>
          <p:cNvPicPr/>
          <p:nvPr/>
        </p:nvPicPr>
        <p:blipFill>
          <a:blip r:embed="rId6"/>
          <a:stretch/>
        </p:blipFill>
        <p:spPr>
          <a:xfrm>
            <a:off x="270036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1_8be4c8adb9387e8b6f429009a1e021f4_209"/>
          <p:cNvPicPr/>
          <p:nvPr/>
        </p:nvPicPr>
        <p:blipFill>
          <a:blip r:embed="rId7"/>
          <a:stretch/>
        </p:blipFill>
        <p:spPr>
          <a:xfrm>
            <a:off x="485928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1_8be4c8adb9387e8b6f429009a1e021f4_209"/>
          <p:cNvPicPr/>
          <p:nvPr/>
        </p:nvPicPr>
        <p:blipFill>
          <a:blip r:embed="rId8"/>
          <a:stretch/>
        </p:blipFill>
        <p:spPr>
          <a:xfrm>
            <a:off x="4427640" y="40464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1_8be4c8adb9387e8b6f429009a1e021f4_209"/>
          <p:cNvPicPr/>
          <p:nvPr/>
        </p:nvPicPr>
        <p:blipFill>
          <a:blip r:embed="rId9"/>
          <a:stretch/>
        </p:blipFill>
        <p:spPr>
          <a:xfrm>
            <a:off x="7020000" y="4437000"/>
            <a:ext cx="170172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1_8be4c8adb9387e8b6f429009a1e021f4_209"/>
          <p:cNvPicPr/>
          <p:nvPr/>
        </p:nvPicPr>
        <p:blipFill>
          <a:blip r:embed="rId10"/>
          <a:stretch/>
        </p:blipFill>
        <p:spPr>
          <a:xfrm>
            <a:off x="6948360" y="476280"/>
            <a:ext cx="170208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1_8be4c8adb9387e8b6f429009a1e021f4_209"/>
          <p:cNvPicPr/>
          <p:nvPr/>
        </p:nvPicPr>
        <p:blipFill>
          <a:blip r:embed="rId11"/>
          <a:stretch/>
        </p:blipFill>
        <p:spPr>
          <a:xfrm>
            <a:off x="5651640" y="2565360"/>
            <a:ext cx="1701720" cy="174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5"/>
          <p:cNvSpPr/>
          <p:nvPr/>
        </p:nvSpPr>
        <p:spPr>
          <a:xfrm>
            <a:off x="1692360" y="0"/>
            <a:ext cx="561636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мотри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звездоч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2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2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3008160" cy="11620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Черненькая собачка, свернувшись ле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Не укусит, а пройти нельзя. (Зам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Назови все звуки по порядку. (Назови – гласные, назови – согласны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29040" y="571680"/>
            <a:ext cx="4340160" cy="4214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643200" y="49291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4786200" y="49291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857920" y="49291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6929280" y="49291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7929720" y="49291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3008160" cy="4691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Я капелька лета на тоненькой ножке. Плетут для меня кузовки и лукошки. Кто любит меня, тот и рад поклониться. А имя дала мне родная землица. (Земляник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libri"/>
              </a:rPr>
              <a:t>Какой первый звук в этом слове. («Зь» –мягкий согласный зву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954680" y="1143000"/>
            <a:ext cx="3189240" cy="4357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2428920" y="5000760"/>
            <a:ext cx="914400" cy="9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йди и назови предметы в верхнем ряду (в нижнем ряду, в среднем ряду)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Назови предметы в первом столбике (во втором столбике, в третьем столбик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Elena\Мои документы\Мои рисунки\IMG_1603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ассмотри картинку. Назови, что видишь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В каких словах спрятался звук «З» («Зь»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то быстрее придумает красивое предложение со словом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Сочини рассказ по карти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879480" y="0"/>
            <a:ext cx="1059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343080" indent="0" algn="ctr">
              <a:lnSpc>
                <a:spcPct val="13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Список литературы: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уденная Т.В. Логопедическая гимнастика. – СПб, 2001. – 64с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синова Е.М. Гимнастика для развития речи. – М., 2003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синова Е.М. Моя первая книга знаний. Обо всем на свете. Азбука правильного произношения. – М., 2005. – 120 с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уликовская Т.А. Артикуляционная азбука. – М., 2004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ищева Н.В. Веселая артикуляционная гимнастика. – СПб, 2009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етлова И. Домашний логопед. – М., 2004.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каченко Т.А. Специальные символы. – М, 2000 – 48с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Баскакина И.В. Логопедические игры. Звенелочка / И.В. Баскакина, М.И. Лынская. — М.: Айрис-пресс, 2007. — 32 с: ил </a:t>
            </a:r>
            <a:br>
              <a:rPr sz="1000"/>
            </a:br>
            <a:br>
              <a:rPr sz="1100"/>
            </a:b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oogle.ru/imgh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8T18:48:25Z</dcterms:modified>
  <cp:revision>1</cp:revision>
  <dc:subject/>
  <dc:title>Слайд 1</dc:title>
</cp:coreProperties>
</file>