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1DE0-A46B-4E40-B41C-47008856C9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5EC3-F8EF-4826-9A74-F7E8BEDA0B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C020-AB58-4362-B03F-3D1A7C2D3B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8938-8D95-4DBF-9087-5EB6DA2158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1EBE-9D7D-4870-A426-B840EAA625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DD88-E923-4117-90C5-81C0363AF4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9EAD-AEFE-42E1-B38F-B23355898C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F8A4-DA8C-4A1A-B66D-08EBAB1841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BB34-816E-4CFC-93F8-9C8DF6879F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2855-AF61-4697-9617-0BB008A725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BB1B-C26E-4A43-BAAB-24210B85F1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A772-642F-4F12-997D-ADBCBCA6A9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FE73-B896-482F-856A-3E739F6865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25A-D695-4E78-AAF7-854AEF9A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CDA-D011-49F2-877D-3B0E7FCE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184-ACEA-482B-8D06-BDF05567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2016-328A-4CE6-A32D-82E7DB4A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03E7-CEA4-4CFB-97B7-AA26E488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4EF3-CAAD-43CC-9BBD-1726B8BE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E1C2-BFBE-4AE4-89B9-8D873CC4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333C-F914-4C1B-8F86-2BBE0CBC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7F43-DA06-403A-A1B1-4D1F331B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CC54-1C17-411E-A767-0E77F7AD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F0A8-1673-4504-B40F-23F6E4FB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86E6-8B2F-4B1F-ABBC-8A01D5F2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68B8-34A9-40C6-8194-F9E28D44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B7DA-A092-40D2-954A-79B94917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E0F6-72F7-43A6-A8A2-F2C06981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66DD-5674-4432-B469-DF13D10D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4016-248E-4F21-8575-50E56A0D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8D4E-9104-4E8D-BF27-6BB411EF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7CB93-9EA2-4FC3-83B8-1DF047A4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DB83C-F1D7-49B2-8A6F-0F8FE5D4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22FF2-94D5-4BF7-87B6-C4B9D5F8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2CDC0-0F6A-4566-92F6-787ADC46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81F8-1398-4080-8234-720E654E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51757-115E-4C0A-A2FD-5860194E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F115C-BD61-40D5-A411-4DE4CF3A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3E3D7-3368-4FF4-91C9-9A78F02F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843CD-F171-4E6A-937A-1518B9C0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13035-1AEC-4BB5-A1DD-CED41368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F7544-953C-408C-A734-C929379D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CDEFF-8C35-4825-A45D-B8AB846A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387A7-A6D6-41A8-888B-22F92AE6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96017-3859-4CC2-B852-D1D08AC3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145C5-5CA6-4C17-A1CB-873801BD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2CE-4AB4-43C3-B1BA-2DE5D82E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2D022-8211-4F76-A2C9-C849E78B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F8287-0C13-4ED5-9BB8-B614EF5B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4329B-DFE7-424D-B8D7-DF5407BA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60A3C-8248-421E-A146-036AC693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4EB52-1E77-4A48-BBD3-0A21938F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B7CC1-AA28-4288-AE8B-6968D66B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7F0E5-F4BD-4A20-902E-8A8A3CC3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32CAF-27AE-494E-82F8-ADDD57FF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D6DE6-2EE4-4B4E-B4A7-58364A7E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036F5-8D24-471A-ADBE-3D77C74D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9739-AD0B-452A-849C-0F28B7D4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02B99-5978-4D44-AE4A-F308FE6A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0D048-42BA-4C94-83B9-BCE200F4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C2EF2-1142-4BB6-A330-0E781F2E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309A9-5E5F-4913-BA1C-BEFD3BDA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5A9C8-6ABA-43F5-B45F-4EA78CAF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2E385-66A5-47D5-B83B-9A042F4C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CDF36-3D59-4B44-A3E4-350380BD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353CF-D8FA-4D4A-9A20-5830F6E6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C2178-2AAB-4D9F-8482-AB37439A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A7B0E-4298-47E0-B2D2-E464ECB2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616-38A0-41E1-9EAE-80D47272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52539-B14B-445F-B213-6F0434E1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EEEBB-CC9F-42F2-B4B7-F14C3CA1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85014-322B-40E0-8024-55AB6A4F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5CCC8-E186-405C-AF57-1FBDF884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B2AEC-5C0E-43F1-81C0-CA112883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75AE7-450A-4295-BC5F-6C0A3622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73E21-60D6-48B0-B26B-C7C1BFD2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605F4-EF33-474D-B349-1212699D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A735D-4B7F-41D2-BCE8-5C53C7D7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E0C2D-3DE9-40F1-ACBF-D2FCA00A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3AE-C9FF-488F-8C92-5FB2276D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7A2B6-4666-4FF0-ACD1-5701E81A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9445B-406D-4C73-B912-499FC2DF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C303A-0BFD-4273-B1D0-3542517E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750BF-0609-42EC-B2AB-A66D83EA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8B3D8-8BAA-41C1-BB2B-0431ADBA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D63E9-FAE5-4939-99EF-3536E0A4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5B8D9-AD51-43BD-9C43-3DF09664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EB2C4-12FC-417C-BED7-4BEEDA2A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A7719-573D-48C0-BCF4-E6AD77DA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C333C-F487-4809-8B9B-2E502776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A452-0843-4C09-B594-E9586202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6CF5E-E7DA-4DA0-AC2F-679A6C5C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6B0A6-66D0-45EA-9A22-18EA66E5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90A89-0A7E-4D81-A0C8-69BCD9A2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942BE-BB37-4590-813B-EA213A39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8426C-3C4A-46CF-BBB2-EB44CBAA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C078D-BEC8-4A9B-9984-86970887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3AB72-20A8-4D4F-AD49-72AED31E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F46A5-2B3B-402A-99CE-3EF97174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A85EC-0B64-4799-94E2-629673D0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52E14-D9D7-43A2-B9BC-002F8BEB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24E-394B-46C7-9B87-2B9A19A9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0E42B-173F-415F-98AA-9373C637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99F4B-D684-47CD-B867-1CDFAEF0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C918E-A1DB-405E-8AC1-EB78B112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0D3C2-42BC-446E-B9A4-F7098FDF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22FD3-BAAE-4BA9-A34E-864767FE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0BEC0-C1D3-4C20-9BB6-7544273B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44B00-D36B-4665-ACE1-54383354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DA3B-4DE3-41C9-95E7-764120C96F40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2023-138B-4D2F-B70D-B460DDFB0B4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5" descr="63637715_2caa93e66836.png"/>
          <p:cNvPicPr/>
          <p:nvPr/>
        </p:nvPicPr>
        <p:blipFill>
          <a:blip r:embed="rId5"/>
          <a:stretch/>
        </p:blipFill>
        <p:spPr>
          <a:xfrm>
            <a:off x="5238720" y="3125880"/>
            <a:ext cx="3905280" cy="3732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6" descr="63637715_2caa93e66836.png"/>
          <p:cNvPicPr/>
          <p:nvPr/>
        </p:nvPicPr>
        <p:blipFill>
          <a:blip r:embed="rId6"/>
          <a:stretch/>
        </p:blipFill>
        <p:spPr>
          <a:xfrm>
            <a:off x="0" y="0"/>
            <a:ext cx="3905280" cy="3732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D7ED-F5C3-4E41-9FEA-51C255DD0840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1764-BD32-4F08-BAF6-10FC1906F88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2" descr="63637715_2caa93e66836.png"/>
          <p:cNvPicPr/>
          <p:nvPr/>
        </p:nvPicPr>
        <p:blipFill>
          <a:blip r:embed="rId4"/>
          <a:stretch/>
        </p:blipFill>
        <p:spPr>
          <a:xfrm>
            <a:off x="0" y="0"/>
            <a:ext cx="3689280" cy="35258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3" descr="0_5657a_939aa448_M.png"/>
          <p:cNvPicPr/>
          <p:nvPr/>
        </p:nvPicPr>
        <p:blipFill>
          <a:blip r:embed="rId5"/>
          <a:stretch/>
        </p:blipFill>
        <p:spPr>
          <a:xfrm>
            <a:off x="6558120" y="3645000"/>
            <a:ext cx="2354040" cy="3017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23A5-4D61-4926-A6BC-4B42AD7ADEBD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5CCA-9688-4478-8C7B-F904A738BA7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18C6-3F07-47A1-A5D6-1E1B3AEA43A5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458D-A524-4B36-A65D-CAB41DD3142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D132-A2B2-4289-B0A8-09E4B9A9CACA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485C-CEEE-4C78-87D0-0AA16494AF9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A89C-47A6-46A3-ADC3-ABF241121B17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7F63-CC96-4C3D-8D16-927E536694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8D7A-F4BB-42F9-B0F0-0D084ADC7D8A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8C21-9882-4A17-BD8C-274ADA370D9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2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E053-BE19-45AA-8E48-C0D577F4001D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E452-09D0-4F9D-AED7-DF69A102593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76000" y="2060280"/>
            <a:ext cx="7056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Corbel"/>
                <a:ea typeface="AngsanaUPC"/>
              </a:rPr>
              <a:t>Логоритмика как эффективный метод в работе с речевыми нарушениями у дошкольников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572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Подготовили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учитель-логопед Ильиных Светлана Николаевн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285920" y="428760"/>
            <a:ext cx="740088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br>
              <a:rPr sz="500"/>
            </a:b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Развитие голоса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средствам голосового аппарата издаются звуки, различные по высоте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иле и тембру. Их совокупность и определяет голос человек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ысота голоса – это повышение или понижение тона (переход от высокого голоса к низкому, и наоборот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ила голоса – произнесение звуков с определенной громкостью: громко, нормально, тих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Тембр голоса – это его качественная окраска. Голос может быть звонкий, глухой, дрожащий, тусклый, крикливый и т.д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Задачей педагога является следующее: во – первых, развивать у детей основные качества голоса – силу и высоту, во – вторых, приучать их говорить без напряжения, меняя голос в соответствии с ситуацией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Темп реч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д темпом речи понимается скорость ее протекания во времен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Если темп речи ускорен, то от этого ухудшается внятность, четкость речи, артикуляция звуков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Интонационная выразительность речи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Интонация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– это сложный комплекс всех выразительных средств звучащей речи, включающих общие с музыкой элементы такие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как мелодику, темп, ритм, паузацию и логическое ударение (в музыке это акцент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Благодаря интонации мысль приобретает законченный характер, высказыванию может придаваться дополнительное значени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плоть до изменения смысла на противоположный.</a:t>
            </a:r>
            <a:br>
              <a:rPr sz="1000"/>
            </a:b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285920" y="428760"/>
            <a:ext cx="740088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Артикуля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К подвижным органам артикуляции (речевым органам) относятся язык, губы и челюсти. Артикуляционные упражнения на занятиях выполняются под ритмическую музыку или под счет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Фонематическое восприяти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о четкое различение на слух всех звуковых единиц родного языка, включая и близкие в акустическом отношении звуки такие, как твердые и мягкие, глухие и звонкие. Работа по формированию фонематического восприятия начинается с развития слухового внимания на материале неречевых (шумовых и музыкальных) звуков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Коррекция нарушений звукопроизношен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а этапе автоматизации изолированного звука детям предлагаются игры на четкое его проговаривание. Очень полезно связывать звуки с какими – либо музыкальными образами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285920" y="428760"/>
            <a:ext cx="740088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Грамматик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 логоритмических занятиях возможно закрепление знаний по грамматике, полученных на логопедических занятиях. В форме подвижной игры или игры – вокализации грамматические задания вызывают живой интерес, и, следовательно, лучше усваиваютс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етьми дошкольного возраста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Лексик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рамках логоритмического воспитания необходимо осуществлять одну очень важную задачу – расширять словарный запас детей.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285920" y="428760"/>
            <a:ext cx="740088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Логоритмик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одно из важнейших методических средств. Она самым тесным образом связана и с игротерапией и с психогимнастикой и с методикой музыкального воспитания в цел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Главная задача логоритмик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воспитание и развитие ритма через движение путём развития слухового внимания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Логоритмические занятия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– это методика, опирающая на связь слова, музыки и движения и включает в себя пальчиковые, речевые, музыкально-двигательные и коммуникативные игры. Взаимоотношения указанных компонентов могут быть разнообразными, с преобладанием одного из ни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 занятиях соблюдаются основные педагогические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ринципы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– последовательность, постепенное усложнение и повторяемость материала. Отрабатывается ритмическая структура слова и четкое произношение доступных по возрасту звуков, обогащается словарь дет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285920" y="428760"/>
            <a:ext cx="740088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Основными задачами логоритмического воздействия являются: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- развитие слухового внимания и фонематического слуха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- развитие музыкального, звукового, тембрового, динамического слуха, чувства ритма, певческого диапазона голоса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- развитие общей и тонкой моторики, кинестетических ощущений, мимики, пантомимики, пространственных организаций движений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- воспитание умения перевоплощаться, выразительности и грации движений, умения определять характер музыки, согласовывать ее с движениями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- развитие речевой моторики для формирования артикуляционной базы звуков, физиологического и фонационного дыхания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- формирование и закрепление навыка правильного употребления звуков в различных формах и видах речи, во всех ситуациях общения, воспитание связи между звуком и его музыкальным образом, буквенным обозначением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- формирование, развитие и коррекция слухо-зрительно-двигательной координации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285920" y="428760"/>
            <a:ext cx="740088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разработке любого логоритмического занятия учитывается главный принцип достижения эффективности в работе – индивидуальный подход к каждому ребенку, учитывающий его возрастные, психофизиологические и речевые возможности. А также для более успешного проведения занятий выполняются психолого- педагогические условия: создание благоприятной психологической атмосферы, постоянное привлечение внимания детей и пробуждение у них интереса к выполнению упражнений. Важно правильно организовать общение с детьми. Доброжелательное, внимательное отношение к каждому ребенку – это залог успешной рабо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285920" y="428760"/>
            <a:ext cx="740088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е виды логоритмических игр и упражнений предлагаются детям в сочетании с какой-либо ритмической основой: под музыку, под счет или словесное, чаще стихотворное сопровождени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Развитие неречевых процессов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Ходьба и маршировка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вводные и заключительные упражнения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Ходьба – естественный вид движения человека. Она осуществляется за счет четкой координации движений рук и ног. Дети, имеющие речевые нарушения, как правило, неловки: ходьба их неустойчивая, походка неровная. Часто при ходьбе они шаркают ногами. Поэтому задания по обучению ходьбе и легкому бегу под музыку обязательно включаются в каждое логоритмическое заняти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285920" y="428760"/>
            <a:ext cx="740088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Регуляция мышечного тонус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 детей, имеющих речевую патологию, часто отмечается не только нарушение артикуляции, но и недостатки мелкой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щей моторики. Они, как правило, неловки, движения их плохо координированы. Причина этого кроется в нарушен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онуса мышц. Чаще всего дети - речевики излишне напряжены, резки в движениях, суетливы. Иногда же, наоборот, имеет место снижение мышечного тонуса, а как следствие, вялость общих движений. Для коррекции этих недостатков моторики необходимо научить детей умению регулировать свой мышечный тонус: расслаблять и напрягать определенные групп мышц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285920" y="428760"/>
            <a:ext cx="740088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i="1" lang="ru-RU" sz="1900" spc="-1" strike="noStrike">
                <a:solidFill>
                  <a:srgbClr val="000000"/>
                </a:solidFill>
                <a:latin typeface="Corbel"/>
              </a:rPr>
              <a:t>Развитие внимания и памяти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У детей, имеющих речевые нарушения, часто наблюдается недостаточная сформированность моторного, зрительного, а особенного слухового внимания и памяти. Поэтому на занятиях по логоритмике обязательно проводятся упражнения, направленные на развитие всех видов внимания и памяти. В результате выполнения специально подобранных упражнений у дошкольников постепенно формируется быстрая и точная реакция на различные виды раздражителей. Дети учатся сосредотачиваться, проявляя для этого определенные волевые усилия. Улучшается не только устойчивость. Но и переключаемость внимания – способность переходить от одного действия к другому. Параллельно с развитием всех параметров произвольного внимания у детей постепенно улучшается память. Как моторная и зрительная, так и слуховая.</a:t>
            </a:r>
            <a:br>
              <a:rPr sz="1900"/>
            </a:b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285920" y="428760"/>
            <a:ext cx="740088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0" i="1" lang="ru-RU" sz="1700" spc="-1" strike="noStrike">
                <a:solidFill>
                  <a:srgbClr val="000000"/>
                </a:solidFill>
                <a:latin typeface="Corbel"/>
              </a:rPr>
              <a:t>Развитие чувства музыкального размера, музыкального темпа, музыкального ритм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orbel"/>
              </a:rPr>
              <a:t>Пальчиковые игры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Ученые-физиологи доказали, что развитие подвижности пальцев способствует более активному речевому развитию ребенка.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Объясняется это просто: представительства речевой и пальчиковой зон в коре головного мозга человека находятся в непосредственной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близости и оказывают друг на друга влияние. Поэтому, развивая мелкую моторику пальцев рук ребенка, мы способствуем и его скорейшему речевому развитию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Для совершенствования тонких движений пальцев рук с детьми проводятся различные пальчиковые игры с пением или игры с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мелкими предметами под музыку.</a:t>
            </a: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285920" y="428760"/>
            <a:ext cx="740088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Развитие речи и коррекция речевых нарушени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Развитие дыхания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ин из первых и очень важных этапов коррекционного воздействия на детей – логопатов независимо от вида их речевого дефект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Цель дыхательных упражнений – способствовать выработке правильного диафрагмального дыхания, продолжительности выдоха, его силы и постепенности. Перед педагогом встает задача формирования у детей сначала физиологического (неречевого), а затем на его основе речевого  дыхания. В отличие от физиологического дыхания, происходящего автоматически, речевое – является произвольным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ри физиологическом дыхании вдох и выдох осуществляется через нос, причем вдох равен по продолжительности выдох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ри речевом дыхании после короткого глубокого вдоха следует пауза и лишь затем длительный выдох, в момент которого и осуществляется речевой акт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Белозёрова Татья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3T13:45:20Z</dcterms:created>
  <dc:creator>Белозёрова</dc:creator>
  <dc:description/>
  <dc:language>en-US</dc:language>
  <cp:lastModifiedBy>Светлана</cp:lastModifiedBy>
  <dcterms:modified xsi:type="dcterms:W3CDTF">2019-12-07T20:12:35Z</dcterms:modified>
  <cp:revision>13</cp:revision>
  <dc:subject/>
  <dc:title>Слайд 1</dc:title>
</cp:coreProperties>
</file>